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 flipV="1">
            <a:off x="6400800" y="35812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 flipV="1">
            <a:off x="6400800" y="35053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33520" y="1219320"/>
            <a:ext cx="8229600" cy="44956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203480" y="357120"/>
            <a:ext cx="322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lan du dispositif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3048120" y="3886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219320" y="1828800"/>
            <a:ext cx="6781680" cy="3429000"/>
            <a:chOff x="1219320" y="1828800"/>
            <a:chExt cx="6781680" cy="3429000"/>
          </a:xfrm>
        </p:grpSpPr>
        <p:sp>
          <p:nvSpPr>
            <p:cNvPr id="43" name=""/>
            <p:cNvSpPr/>
            <p:nvPr/>
          </p:nvSpPr>
          <p:spPr>
            <a:xfrm>
              <a:off x="2743200" y="312408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1219320" y="1828800"/>
              <a:ext cx="6781680" cy="3429000"/>
              <a:chOff x="1219320" y="1828800"/>
              <a:chExt cx="6781680" cy="3429000"/>
            </a:xfrm>
          </p:grpSpPr>
          <p:sp>
            <p:nvSpPr>
              <p:cNvPr id="45" name=""/>
              <p:cNvSpPr/>
              <p:nvPr/>
            </p:nvSpPr>
            <p:spPr>
              <a:xfrm>
                <a:off x="3505320" y="3581280"/>
                <a:ext cx="3048480" cy="152640"/>
              </a:xfrm>
              <a:custGeom>
                <a:avLst/>
                <a:gdLst/>
                <a:ahLst/>
                <a:rect l="0" t="0" r="r" b="b"/>
                <a:pathLst>
                  <a:path fill="none" w="8468" h="424">
                    <a:moveTo>
                      <a:pt x="0" y="424"/>
                    </a:moveTo>
                    <a:lnTo>
                      <a:pt x="0" y="424"/>
                    </a:lnTo>
                    <a:cubicBezTo>
                      <a:pt x="1486" y="424"/>
                      <a:pt x="2947" y="404"/>
                      <a:pt x="4234" y="367"/>
                    </a:cubicBezTo>
                    <a:cubicBezTo>
                      <a:pt x="5521" y="330"/>
                      <a:pt x="6590" y="276"/>
                      <a:pt x="7334" y="212"/>
                    </a:cubicBezTo>
                    <a:cubicBezTo>
                      <a:pt x="8077" y="148"/>
                      <a:pt x="8468" y="74"/>
                      <a:pt x="8468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" name=""/>
              <p:cNvGrpSpPr/>
              <p:nvPr/>
            </p:nvGrpSpPr>
            <p:grpSpPr>
              <a:xfrm>
                <a:off x="1219320" y="1828800"/>
                <a:ext cx="6781680" cy="3429000"/>
                <a:chOff x="1219320" y="1828800"/>
                <a:chExt cx="6781680" cy="342900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1523880" y="1828800"/>
                  <a:ext cx="2667240" cy="1219320"/>
                  <a:chOff x="1523880" y="1828800"/>
                  <a:chExt cx="2667240" cy="121932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2133720" y="1981080"/>
                    <a:ext cx="2057400" cy="10666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flipH="1" flipV="1">
                    <a:off x="1523880" y="2895480"/>
                    <a:ext cx="609840" cy="15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flipV="1">
                    <a:off x="1523880" y="1828800"/>
                    <a:ext cx="60984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flipH="1" flipV="1">
                    <a:off x="3505320" y="1828800"/>
                    <a:ext cx="609480" cy="15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" name=""/>
                <p:cNvSpPr/>
                <p:nvPr/>
              </p:nvSpPr>
              <p:spPr>
                <a:xfrm>
                  <a:off x="2514600" y="2438280"/>
                  <a:ext cx="533520" cy="609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2819520" y="312408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971800" y="3124080"/>
                  <a:ext cx="22860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819520" y="388620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200400" y="388620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200400" y="4419720"/>
                  <a:ext cx="304920" cy="76320"/>
                </a:xfrm>
                <a:prstGeom prst="round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2666880" y="3124080"/>
                  <a:ext cx="381240" cy="1371600"/>
                  <a:chOff x="2666880" y="3124080"/>
                  <a:chExt cx="381240" cy="13716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2666880" y="3124080"/>
                    <a:ext cx="0" cy="9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666880" y="4038480"/>
                    <a:ext cx="381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666880" y="4038480"/>
                    <a:ext cx="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048120" y="4038480"/>
                    <a:ext cx="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3133800" y="3548880"/>
                  <a:ext cx="486000" cy="350280"/>
                  <a:chOff x="3133800" y="3548880"/>
                  <a:chExt cx="486000" cy="3502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3133800" y="3694320"/>
                    <a:ext cx="210960" cy="156240"/>
                  </a:xfrm>
                  <a:custGeom>
                    <a:avLst/>
                    <a:gdLst/>
                    <a:ahLst/>
                    <a:rect l="0" t="0" r="r" b="b"/>
                    <a:pathLst>
                      <a:path w="586" h="434">
                        <a:moveTo>
                          <a:pt x="532" y="227"/>
                        </a:moveTo>
                        <a:lnTo>
                          <a:pt x="532" y="227"/>
                        </a:lnTo>
                        <a:cubicBezTo>
                          <a:pt x="532" y="227"/>
                          <a:pt x="533" y="227"/>
                          <a:pt x="533" y="228"/>
                        </a:cubicBezTo>
                        <a:cubicBezTo>
                          <a:pt x="549" y="237"/>
                          <a:pt x="562" y="250"/>
                          <a:pt x="571" y="266"/>
                        </a:cubicBezTo>
                        <a:cubicBezTo>
                          <a:pt x="581" y="282"/>
                          <a:pt x="586" y="301"/>
                          <a:pt x="586" y="319"/>
                        </a:cubicBezTo>
                        <a:cubicBezTo>
                          <a:pt x="586" y="338"/>
                          <a:pt x="581" y="356"/>
                          <a:pt x="571" y="372"/>
                        </a:cubicBezTo>
                        <a:lnTo>
                          <a:pt x="571" y="373"/>
                        </a:lnTo>
                        <a:lnTo>
                          <a:pt x="567" y="381"/>
                        </a:lnTo>
                        <a:lnTo>
                          <a:pt x="567" y="381"/>
                        </a:lnTo>
                        <a:lnTo>
                          <a:pt x="567" y="381"/>
                        </a:lnTo>
                        <a:cubicBezTo>
                          <a:pt x="557" y="397"/>
                          <a:pt x="544" y="410"/>
                          <a:pt x="528" y="420"/>
                        </a:cubicBezTo>
                        <a:cubicBezTo>
                          <a:pt x="512" y="429"/>
                          <a:pt x="494" y="434"/>
                          <a:pt x="475" y="434"/>
                        </a:cubicBezTo>
                        <a:cubicBezTo>
                          <a:pt x="457" y="434"/>
                          <a:pt x="439" y="429"/>
                          <a:pt x="423" y="420"/>
                        </a:cubicBezTo>
                        <a:cubicBezTo>
                          <a:pt x="422" y="419"/>
                          <a:pt x="422" y="419"/>
                          <a:pt x="421" y="419"/>
                        </a:cubicBezTo>
                        <a:lnTo>
                          <a:pt x="53" y="207"/>
                        </a:lnTo>
                        <a:lnTo>
                          <a:pt x="53" y="207"/>
                        </a:lnTo>
                        <a:lnTo>
                          <a:pt x="53" y="207"/>
                        </a:lnTo>
                        <a:cubicBezTo>
                          <a:pt x="37" y="197"/>
                          <a:pt x="23" y="184"/>
                          <a:pt x="14" y="168"/>
                        </a:cubicBezTo>
                        <a:cubicBezTo>
                          <a:pt x="5" y="152"/>
                          <a:pt x="0" y="134"/>
                          <a:pt x="0" y="115"/>
                        </a:cubicBezTo>
                        <a:cubicBezTo>
                          <a:pt x="0" y="97"/>
                          <a:pt x="5" y="79"/>
                          <a:pt x="14" y="63"/>
                        </a:cubicBezTo>
                        <a:cubicBezTo>
                          <a:pt x="15" y="62"/>
                          <a:pt x="15" y="62"/>
                          <a:pt x="15" y="61"/>
                        </a:cubicBezTo>
                        <a:lnTo>
                          <a:pt x="19" y="53"/>
                        </a:lnTo>
                        <a:lnTo>
                          <a:pt x="19" y="53"/>
                        </a:lnTo>
                        <a:lnTo>
                          <a:pt x="19" y="53"/>
                        </a:lnTo>
                        <a:cubicBezTo>
                          <a:pt x="29" y="37"/>
                          <a:pt x="42" y="24"/>
                          <a:pt x="58" y="14"/>
                        </a:cubicBezTo>
                        <a:cubicBezTo>
                          <a:pt x="74" y="5"/>
                          <a:pt x="92" y="0"/>
                          <a:pt x="111" y="0"/>
                        </a:cubicBezTo>
                        <a:cubicBezTo>
                          <a:pt x="129" y="0"/>
                          <a:pt x="147" y="5"/>
                          <a:pt x="163" y="14"/>
                        </a:cubicBezTo>
                        <a:cubicBezTo>
                          <a:pt x="164" y="15"/>
                          <a:pt x="164" y="15"/>
                          <a:pt x="165" y="15"/>
                        </a:cubicBezTo>
                        <a:lnTo>
                          <a:pt x="532" y="22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282480" y="3548880"/>
                    <a:ext cx="217440" cy="141840"/>
                  </a:xfrm>
                  <a:custGeom>
                    <a:avLst/>
                    <a:gdLst/>
                    <a:ahLst/>
                    <a:rect l="0" t="0" r="r" b="b"/>
                    <a:pathLst>
                      <a:path w="604" h="394">
                        <a:moveTo>
                          <a:pt x="542" y="183"/>
                        </a:moveTo>
                        <a:lnTo>
                          <a:pt x="542" y="183"/>
                        </a:lnTo>
                        <a:lnTo>
                          <a:pt x="542" y="183"/>
                        </a:lnTo>
                        <a:cubicBezTo>
                          <a:pt x="559" y="191"/>
                          <a:pt x="574" y="202"/>
                          <a:pt x="585" y="217"/>
                        </a:cubicBezTo>
                        <a:cubicBezTo>
                          <a:pt x="595" y="232"/>
                          <a:pt x="602" y="250"/>
                          <a:pt x="604" y="268"/>
                        </a:cubicBezTo>
                        <a:cubicBezTo>
                          <a:pt x="606" y="287"/>
                          <a:pt x="603" y="305"/>
                          <a:pt x="596" y="322"/>
                        </a:cubicBezTo>
                        <a:cubicBezTo>
                          <a:pt x="595" y="323"/>
                          <a:pt x="595" y="323"/>
                          <a:pt x="595" y="324"/>
                        </a:cubicBezTo>
                        <a:lnTo>
                          <a:pt x="592" y="332"/>
                        </a:lnTo>
                        <a:lnTo>
                          <a:pt x="592" y="332"/>
                        </a:lnTo>
                        <a:lnTo>
                          <a:pt x="592" y="332"/>
                        </a:lnTo>
                        <a:cubicBezTo>
                          <a:pt x="584" y="349"/>
                          <a:pt x="572" y="364"/>
                          <a:pt x="557" y="374"/>
                        </a:cubicBezTo>
                        <a:cubicBezTo>
                          <a:pt x="543" y="385"/>
                          <a:pt x="525" y="392"/>
                          <a:pt x="507" y="394"/>
                        </a:cubicBezTo>
                        <a:cubicBezTo>
                          <a:pt x="488" y="396"/>
                          <a:pt x="470" y="393"/>
                          <a:pt x="453" y="386"/>
                        </a:cubicBezTo>
                        <a:cubicBezTo>
                          <a:pt x="452" y="385"/>
                          <a:pt x="452" y="385"/>
                          <a:pt x="451" y="385"/>
                        </a:cubicBezTo>
                        <a:lnTo>
                          <a:pt x="63" y="212"/>
                        </a:lnTo>
                        <a:lnTo>
                          <a:pt x="63" y="212"/>
                        </a:lnTo>
                        <a:lnTo>
                          <a:pt x="63" y="212"/>
                        </a:lnTo>
                        <a:cubicBezTo>
                          <a:pt x="46" y="204"/>
                          <a:pt x="31" y="193"/>
                          <a:pt x="20" y="178"/>
                        </a:cubicBezTo>
                        <a:cubicBezTo>
                          <a:pt x="10" y="163"/>
                          <a:pt x="3" y="145"/>
                          <a:pt x="1" y="127"/>
                        </a:cubicBezTo>
                        <a:cubicBezTo>
                          <a:pt x="-1" y="108"/>
                          <a:pt x="2" y="90"/>
                          <a:pt x="9" y="73"/>
                        </a:cubicBezTo>
                        <a:cubicBezTo>
                          <a:pt x="10" y="72"/>
                          <a:pt x="10" y="72"/>
                          <a:pt x="10" y="71"/>
                        </a:cubicBezTo>
                        <a:lnTo>
                          <a:pt x="13" y="63"/>
                        </a:lnTo>
                        <a:lnTo>
                          <a:pt x="13" y="63"/>
                        </a:lnTo>
                        <a:lnTo>
                          <a:pt x="13" y="63"/>
                        </a:lnTo>
                        <a:cubicBezTo>
                          <a:pt x="21" y="46"/>
                          <a:pt x="33" y="31"/>
                          <a:pt x="48" y="21"/>
                        </a:cubicBezTo>
                        <a:cubicBezTo>
                          <a:pt x="62" y="10"/>
                          <a:pt x="80" y="3"/>
                          <a:pt x="98" y="1"/>
                        </a:cubicBezTo>
                        <a:cubicBezTo>
                          <a:pt x="117" y="-1"/>
                          <a:pt x="135" y="2"/>
                          <a:pt x="152" y="9"/>
                        </a:cubicBezTo>
                        <a:cubicBezTo>
                          <a:pt x="153" y="10"/>
                          <a:pt x="153" y="10"/>
                          <a:pt x="154" y="10"/>
                        </a:cubicBezTo>
                        <a:lnTo>
                          <a:pt x="542" y="1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238560" y="3568680"/>
                    <a:ext cx="381240" cy="330480"/>
                  </a:xfrm>
                  <a:custGeom>
                    <a:avLst/>
                    <a:gdLst/>
                    <a:ahLst/>
                    <a:rect l="0" t="0" r="r" b="b"/>
                    <a:pathLst>
                      <a:path w="1059" h="918">
                        <a:moveTo>
                          <a:pt x="0" y="753"/>
                        </a:moveTo>
                        <a:lnTo>
                          <a:pt x="576" y="918"/>
                        </a:lnTo>
                        <a:lnTo>
                          <a:pt x="1059" y="165"/>
                        </a:lnTo>
                        <a:lnTo>
                          <a:pt x="482" y="0"/>
                        </a:lnTo>
                        <a:lnTo>
                          <a:pt x="0" y="75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"/>
                <p:cNvSpPr/>
                <p:nvPr/>
              </p:nvSpPr>
              <p:spPr>
                <a:xfrm flipV="1">
                  <a:off x="7315200" y="4267080"/>
                  <a:ext cx="38088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6400800" y="2209680"/>
                  <a:ext cx="914760" cy="838440"/>
                  <a:chOff x="6400800" y="2209680"/>
                  <a:chExt cx="914760" cy="83844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6400800" y="2209680"/>
                    <a:ext cx="304920" cy="838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705720" y="2209680"/>
                    <a:ext cx="609840" cy="838440"/>
                  </a:xfrm>
                  <a:custGeom>
                    <a:avLst/>
                    <a:gdLst/>
                    <a:ahLst/>
                    <a:rect l="0" t="0" r="r" b="b"/>
                    <a:pathLst>
                      <a:path w="1694" h="2329">
                        <a:moveTo>
                          <a:pt x="0" y="2329"/>
                        </a:moveTo>
                        <a:lnTo>
                          <a:pt x="508" y="0"/>
                        </a:lnTo>
                        <a:lnTo>
                          <a:pt x="1186" y="0"/>
                        </a:lnTo>
                        <a:lnTo>
                          <a:pt x="1694" y="2329"/>
                        </a:lnTo>
                        <a:lnTo>
                          <a:pt x="0" y="232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6324480" y="3048120"/>
                  <a:ext cx="990720" cy="14479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00800" y="3581280"/>
                  <a:ext cx="533880" cy="152640"/>
                </a:xfrm>
                <a:custGeom>
                  <a:avLst/>
                  <a:gdLst/>
                  <a:ahLst/>
                  <a:rect l="0" t="0" r="r" b="b"/>
                  <a:pathLst>
                    <a:path w="1483" h="424">
                      <a:moveTo>
                        <a:pt x="0" y="424"/>
                      </a:moveTo>
                      <a:lnTo>
                        <a:pt x="1187" y="424"/>
                      </a:lnTo>
                      <a:lnTo>
                        <a:pt x="1483" y="339"/>
                      </a:lnTo>
                      <a:lnTo>
                        <a:pt x="1483" y="0"/>
                      </a:lnTo>
                      <a:lnTo>
                        <a:pt x="1187" y="84"/>
                      </a:lnTo>
                      <a:lnTo>
                        <a:pt x="1187" y="424"/>
                      </a:lnTo>
                      <a:lnTo>
                        <a:pt x="1187" y="84"/>
                      </a:lnTo>
                      <a:lnTo>
                        <a:pt x="0" y="84"/>
                      </a:lnTo>
                      <a:lnTo>
                        <a:pt x="296" y="0"/>
                      </a:lnTo>
                      <a:lnTo>
                        <a:pt x="1483" y="0"/>
                      </a:lnTo>
                      <a:lnTo>
                        <a:pt x="296" y="0"/>
                      </a:lnTo>
                      <a:lnTo>
                        <a:pt x="0" y="84"/>
                      </a:lnTo>
                      <a:lnTo>
                        <a:pt x="0" y="4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400800" y="44956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010280" y="44956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6400800" y="2133720"/>
                  <a:ext cx="76212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7315200" y="2286000"/>
                  <a:ext cx="45720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62920" y="2133720"/>
                  <a:ext cx="6094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772400" y="2286000"/>
                  <a:ext cx="0" cy="533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696080" y="2895480"/>
                  <a:ext cx="0" cy="1371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7315200" y="3581280"/>
                  <a:ext cx="3808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276720" y="3962520"/>
                  <a:ext cx="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124080" y="4572000"/>
                  <a:ext cx="304920" cy="76320"/>
                </a:xfrm>
                <a:prstGeom prst="round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1240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743200" y="396252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H="1">
                  <a:off x="7391520" y="289548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33720" y="3048120"/>
                  <a:ext cx="0" cy="10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191120" y="3048120"/>
                  <a:ext cx="0" cy="10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33720" y="3048120"/>
                  <a:ext cx="2057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52480" y="2971800"/>
                  <a:ext cx="0" cy="9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33920" y="3048120"/>
                  <a:ext cx="0" cy="9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6858000" y="3124080"/>
                  <a:ext cx="1143000" cy="1524240"/>
                  <a:chOff x="6858000" y="3124080"/>
                  <a:chExt cx="1143000" cy="152424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6934320" y="3276720"/>
                    <a:ext cx="763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62920" y="3124080"/>
                    <a:ext cx="609480" cy="30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010280" y="327672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010280" y="3429000"/>
                    <a:ext cx="152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H="1">
                    <a:off x="6858000" y="3429000"/>
                    <a:ext cx="533520" cy="121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391520" y="3429000"/>
                    <a:ext cx="0" cy="121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391520" y="3429000"/>
                    <a:ext cx="609480" cy="121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" name=""/>
                <p:cNvSpPr/>
                <p:nvPr/>
              </p:nvSpPr>
              <p:spPr>
                <a:xfrm>
                  <a:off x="1219320" y="3048120"/>
                  <a:ext cx="533520" cy="6094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3880" y="3733920"/>
                  <a:ext cx="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447920" y="3733920"/>
                  <a:ext cx="0" cy="761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600200" y="3733920"/>
                  <a:ext cx="7632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23880" y="4495680"/>
                  <a:ext cx="381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905120" y="44956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05120" y="5029200"/>
                  <a:ext cx="304920" cy="76320"/>
                </a:xfrm>
                <a:prstGeom prst="round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" name=""/>
                <p:cNvGrpSpPr/>
                <p:nvPr/>
              </p:nvGrpSpPr>
              <p:grpSpPr>
                <a:xfrm>
                  <a:off x="1371600" y="3733920"/>
                  <a:ext cx="380880" cy="1371600"/>
                  <a:chOff x="1371600" y="3733920"/>
                  <a:chExt cx="380880" cy="13716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1371600" y="3733920"/>
                    <a:ext cx="0" cy="914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371600" y="4648320"/>
                    <a:ext cx="380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371600" y="4648320"/>
                    <a:ext cx="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752480" y="4648320"/>
                    <a:ext cx="0" cy="457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1752480" y="4495680"/>
                  <a:ext cx="22860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28800" y="5181480"/>
                  <a:ext cx="304920" cy="76320"/>
                </a:xfrm>
                <a:prstGeom prst="round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28800" y="464832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447920" y="457200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200400" y="2514600"/>
                  <a:ext cx="914400" cy="533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"/>
            <p:cNvSpPr/>
            <p:nvPr/>
          </p:nvSpPr>
          <p:spPr>
            <a:xfrm>
              <a:off x="6324480" y="3733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V="1">
            <a:off x="7315200" y="2895480"/>
            <a:ext cx="380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15200" y="2819520"/>
            <a:ext cx="45720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56160" y="2057400"/>
            <a:ext cx="62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56160" y="3322800"/>
            <a:ext cx="595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37240" y="1569960"/>
            <a:ext cx="776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65840" y="5075280"/>
            <a:ext cx="100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éra vidé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641760" y="4389480"/>
            <a:ext cx="666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93840" y="2027160"/>
            <a:ext cx="471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j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3640" y="2560680"/>
            <a:ext cx="1174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ériment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546880" y="3246480"/>
            <a:ext cx="64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56160" y="2637000"/>
            <a:ext cx="56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r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9625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74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429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93432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143000" y="2819520"/>
            <a:ext cx="15408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438280" y="22860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6019920" y="3505320"/>
            <a:ext cx="228600" cy="75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ubber</dc:creator>
  <dc:description/>
  <dc:language>en-US</dc:language>
  <cp:lastModifiedBy>Shubber</cp:lastModifiedBy>
  <cp:revision>0</cp:revision>
  <dc:subject/>
  <dc:title>Aucun titre de diapositive</dc:title>
</cp:coreProperties>
</file>