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 txBox="1"/>
          <p:nvPr/>
        </p:nvSpPr>
        <p:spPr>
          <a:xfrm>
            <a:off x="3641760" y="2583000"/>
            <a:ext cx="184140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atégorie de mouvement de Tê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 flipH="1">
            <a:off x="4876920" y="3505320"/>
            <a:ext cx="7596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" name=""/>
          <p:cNvGrpSpPr/>
          <p:nvPr/>
        </p:nvGrpSpPr>
        <p:grpSpPr>
          <a:xfrm>
            <a:off x="822240" y="2251440"/>
            <a:ext cx="4217760" cy="2176200"/>
            <a:chOff x="822240" y="2251440"/>
            <a:chExt cx="4217760" cy="2176200"/>
          </a:xfrm>
        </p:grpSpPr>
        <p:sp>
          <p:nvSpPr>
            <p:cNvPr id="42" name=""/>
            <p:cNvSpPr/>
            <p:nvPr/>
          </p:nvSpPr>
          <p:spPr>
            <a:xfrm>
              <a:off x="3809880" y="3581280"/>
              <a:ext cx="228600" cy="457200"/>
            </a:xfrm>
            <a:prstGeom prst="round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733920" y="3581280"/>
              <a:ext cx="75960" cy="457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362320" y="3048120"/>
              <a:ext cx="380880" cy="4572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438280" y="3581280"/>
              <a:ext cx="228600" cy="457200"/>
            </a:xfrm>
            <a:prstGeom prst="round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362320" y="3581280"/>
              <a:ext cx="75960" cy="457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 flipH="1">
              <a:off x="2666880" y="3581280"/>
              <a:ext cx="76320" cy="457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438280" y="4038480"/>
              <a:ext cx="76320" cy="76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590920" y="4038480"/>
              <a:ext cx="76320" cy="76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38280" y="4114800"/>
              <a:ext cx="228600" cy="76320"/>
            </a:xfrm>
            <a:prstGeom prst="round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219320" y="3276720"/>
              <a:ext cx="0" cy="6094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9320" y="3886200"/>
              <a:ext cx="533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990720" y="3886200"/>
              <a:ext cx="228600" cy="30492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 txBox="1"/>
            <p:nvPr/>
          </p:nvSpPr>
          <p:spPr>
            <a:xfrm>
              <a:off x="1050840" y="3040200"/>
              <a:ext cx="27612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 txBox="1"/>
            <p:nvPr/>
          </p:nvSpPr>
          <p:spPr>
            <a:xfrm>
              <a:off x="1736640" y="3801960"/>
              <a:ext cx="27612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X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 txBox="1"/>
            <p:nvPr/>
          </p:nvSpPr>
          <p:spPr>
            <a:xfrm>
              <a:off x="822240" y="4183200"/>
              <a:ext cx="26820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Z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112120" y="2251440"/>
              <a:ext cx="595440" cy="415800"/>
            </a:xfrm>
            <a:custGeom>
              <a:avLst/>
              <a:gdLst/>
              <a:ahLst/>
              <a:rect l="0" t="0" r="r" b="b"/>
              <a:pathLst>
                <a:path fill="none" w="1654" h="1155">
                  <a:moveTo>
                    <a:pt x="695" y="1155"/>
                  </a:moveTo>
                  <a:lnTo>
                    <a:pt x="1654" y="321"/>
                  </a:lnTo>
                  <a:lnTo>
                    <a:pt x="1654" y="321"/>
                  </a:lnTo>
                  <a:lnTo>
                    <a:pt x="1654" y="321"/>
                  </a:lnTo>
                  <a:cubicBezTo>
                    <a:pt x="1532" y="181"/>
                    <a:pt x="1368" y="82"/>
                    <a:pt x="1178" y="33"/>
                  </a:cubicBezTo>
                  <a:cubicBezTo>
                    <a:pt x="988" y="-15"/>
                    <a:pt x="779" y="-11"/>
                    <a:pt x="572" y="46"/>
                  </a:cubicBezTo>
                  <a:cubicBezTo>
                    <a:pt x="366" y="103"/>
                    <a:pt x="168" y="209"/>
                    <a:pt x="0" y="355"/>
                  </a:cubicBezTo>
                </a:path>
              </a:pathLst>
            </a:custGeom>
            <a:ln w="1260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655440" y="3049560"/>
              <a:ext cx="385560" cy="454680"/>
            </a:xfrm>
            <a:custGeom>
              <a:avLst/>
              <a:gdLst/>
              <a:ahLst/>
              <a:rect l="0" t="0" r="r" b="b"/>
              <a:pathLst>
                <a:path w="1071" h="1263">
                  <a:moveTo>
                    <a:pt x="19" y="750"/>
                  </a:moveTo>
                  <a:lnTo>
                    <a:pt x="19" y="750"/>
                  </a:lnTo>
                  <a:lnTo>
                    <a:pt x="19" y="750"/>
                  </a:lnTo>
                  <a:cubicBezTo>
                    <a:pt x="44" y="859"/>
                    <a:pt x="93" y="960"/>
                    <a:pt x="160" y="1044"/>
                  </a:cubicBezTo>
                  <a:cubicBezTo>
                    <a:pt x="227" y="1128"/>
                    <a:pt x="310" y="1191"/>
                    <a:pt x="401" y="1227"/>
                  </a:cubicBezTo>
                  <a:cubicBezTo>
                    <a:pt x="492" y="1264"/>
                    <a:pt x="587" y="1272"/>
                    <a:pt x="678" y="1251"/>
                  </a:cubicBezTo>
                  <a:cubicBezTo>
                    <a:pt x="769" y="1230"/>
                    <a:pt x="851" y="1181"/>
                    <a:pt x="917" y="1108"/>
                  </a:cubicBezTo>
                  <a:cubicBezTo>
                    <a:pt x="983" y="1036"/>
                    <a:pt x="1030" y="942"/>
                    <a:pt x="1053" y="838"/>
                  </a:cubicBezTo>
                  <a:cubicBezTo>
                    <a:pt x="1077" y="733"/>
                    <a:pt x="1076" y="621"/>
                    <a:pt x="1051" y="512"/>
                  </a:cubicBezTo>
                  <a:lnTo>
                    <a:pt x="1051" y="512"/>
                  </a:lnTo>
                  <a:lnTo>
                    <a:pt x="1051" y="512"/>
                  </a:lnTo>
                  <a:cubicBezTo>
                    <a:pt x="1026" y="403"/>
                    <a:pt x="977" y="302"/>
                    <a:pt x="910" y="218"/>
                  </a:cubicBezTo>
                  <a:cubicBezTo>
                    <a:pt x="843" y="134"/>
                    <a:pt x="760" y="71"/>
                    <a:pt x="669" y="35"/>
                  </a:cubicBezTo>
                  <a:cubicBezTo>
                    <a:pt x="578" y="-2"/>
                    <a:pt x="483" y="-10"/>
                    <a:pt x="392" y="11"/>
                  </a:cubicBezTo>
                  <a:cubicBezTo>
                    <a:pt x="301" y="32"/>
                    <a:pt x="219" y="81"/>
                    <a:pt x="153" y="154"/>
                  </a:cubicBezTo>
                  <a:cubicBezTo>
                    <a:pt x="87" y="226"/>
                    <a:pt x="40" y="320"/>
                    <a:pt x="17" y="424"/>
                  </a:cubicBezTo>
                  <a:cubicBezTo>
                    <a:pt x="-7" y="529"/>
                    <a:pt x="-6" y="641"/>
                    <a:pt x="19" y="750"/>
                  </a:cubicBez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>
              <a:off x="4038480" y="3581280"/>
              <a:ext cx="76320" cy="457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809880" y="4038480"/>
              <a:ext cx="76320" cy="76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962520" y="4038480"/>
              <a:ext cx="76320" cy="76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809880" y="4114800"/>
              <a:ext cx="228600" cy="76320"/>
            </a:xfrm>
            <a:prstGeom prst="round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637880" y="3056760"/>
              <a:ext cx="402120" cy="439920"/>
            </a:xfrm>
            <a:custGeom>
              <a:avLst/>
              <a:gdLst/>
              <a:ahLst/>
              <a:rect l="0" t="0" r="r" b="b"/>
              <a:pathLst>
                <a:path w="1117" h="1222">
                  <a:moveTo>
                    <a:pt x="99" y="347"/>
                  </a:moveTo>
                  <a:lnTo>
                    <a:pt x="99" y="347"/>
                  </a:lnTo>
                  <a:cubicBezTo>
                    <a:pt x="43" y="443"/>
                    <a:pt x="10" y="551"/>
                    <a:pt x="2" y="658"/>
                  </a:cubicBezTo>
                  <a:cubicBezTo>
                    <a:pt x="-6" y="765"/>
                    <a:pt x="11" y="868"/>
                    <a:pt x="53" y="956"/>
                  </a:cubicBezTo>
                  <a:cubicBezTo>
                    <a:pt x="95" y="1045"/>
                    <a:pt x="160" y="1116"/>
                    <a:pt x="240" y="1163"/>
                  </a:cubicBezTo>
                  <a:cubicBezTo>
                    <a:pt x="321" y="1209"/>
                    <a:pt x="415" y="1229"/>
                    <a:pt x="512" y="1221"/>
                  </a:cubicBezTo>
                  <a:cubicBezTo>
                    <a:pt x="610" y="1213"/>
                    <a:pt x="708" y="1177"/>
                    <a:pt x="797" y="1117"/>
                  </a:cubicBezTo>
                  <a:cubicBezTo>
                    <a:pt x="886" y="1056"/>
                    <a:pt x="962" y="973"/>
                    <a:pt x="1018" y="877"/>
                  </a:cubicBezTo>
                  <a:lnTo>
                    <a:pt x="1018" y="876"/>
                  </a:lnTo>
                  <a:lnTo>
                    <a:pt x="1018" y="876"/>
                  </a:lnTo>
                  <a:cubicBezTo>
                    <a:pt x="1074" y="780"/>
                    <a:pt x="1107" y="672"/>
                    <a:pt x="1115" y="565"/>
                  </a:cubicBezTo>
                  <a:cubicBezTo>
                    <a:pt x="1123" y="458"/>
                    <a:pt x="1106" y="355"/>
                    <a:pt x="1064" y="267"/>
                  </a:cubicBezTo>
                  <a:cubicBezTo>
                    <a:pt x="1022" y="178"/>
                    <a:pt x="957" y="107"/>
                    <a:pt x="877" y="60"/>
                  </a:cubicBezTo>
                  <a:cubicBezTo>
                    <a:pt x="796" y="14"/>
                    <a:pt x="702" y="-6"/>
                    <a:pt x="605" y="2"/>
                  </a:cubicBezTo>
                  <a:cubicBezTo>
                    <a:pt x="507" y="10"/>
                    <a:pt x="409" y="46"/>
                    <a:pt x="320" y="106"/>
                  </a:cubicBezTo>
                  <a:cubicBezTo>
                    <a:pt x="231" y="167"/>
                    <a:pt x="155" y="250"/>
                    <a:pt x="99" y="346"/>
                  </a:cubicBezTo>
                  <a:lnTo>
                    <a:pt x="99" y="347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648320" y="3581280"/>
              <a:ext cx="228600" cy="457200"/>
            </a:xfrm>
            <a:prstGeom prst="round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572000" y="3581280"/>
              <a:ext cx="76320" cy="457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648320" y="4038480"/>
              <a:ext cx="76320" cy="76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800600" y="4038480"/>
              <a:ext cx="76320" cy="76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648320" y="4114800"/>
              <a:ext cx="228600" cy="76320"/>
            </a:xfrm>
            <a:prstGeom prst="round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"/>
          <p:cNvSpPr txBox="1"/>
          <p:nvPr/>
        </p:nvSpPr>
        <p:spPr>
          <a:xfrm>
            <a:off x="3722760" y="5897520"/>
            <a:ext cx="191304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atégorie de mouvement du Bus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1152360" y="5604120"/>
            <a:ext cx="4240440" cy="1795320"/>
            <a:chOff x="1152360" y="5604120"/>
            <a:chExt cx="4240440" cy="1795320"/>
          </a:xfrm>
        </p:grpSpPr>
        <p:sp>
          <p:nvSpPr>
            <p:cNvPr id="71" name=""/>
            <p:cNvSpPr/>
            <p:nvPr/>
          </p:nvSpPr>
          <p:spPr>
            <a:xfrm>
              <a:off x="1549440" y="6248520"/>
              <a:ext cx="0" cy="6094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549440" y="6858000"/>
              <a:ext cx="60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1320840" y="6858000"/>
              <a:ext cx="228600" cy="30492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 txBox="1"/>
            <p:nvPr/>
          </p:nvSpPr>
          <p:spPr>
            <a:xfrm>
              <a:off x="1368360" y="5999040"/>
              <a:ext cx="27612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 txBox="1"/>
            <p:nvPr/>
          </p:nvSpPr>
          <p:spPr>
            <a:xfrm>
              <a:off x="2054160" y="6761160"/>
              <a:ext cx="27612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X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 txBox="1"/>
            <p:nvPr/>
          </p:nvSpPr>
          <p:spPr>
            <a:xfrm>
              <a:off x="1152360" y="7155000"/>
              <a:ext cx="26820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Z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616120" y="6248520"/>
              <a:ext cx="380880" cy="4572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692440" y="6781680"/>
              <a:ext cx="228600" cy="457200"/>
            </a:xfrm>
            <a:prstGeom prst="round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616120" y="6781680"/>
              <a:ext cx="76320" cy="457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 flipH="1">
              <a:off x="2921040" y="6781680"/>
              <a:ext cx="76320" cy="457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692440" y="7238880"/>
              <a:ext cx="76320" cy="76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844720" y="7238880"/>
              <a:ext cx="76320" cy="76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692440" y="7315200"/>
              <a:ext cx="228600" cy="76320"/>
            </a:xfrm>
            <a:prstGeom prst="round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366280" y="5604120"/>
              <a:ext cx="595440" cy="415800"/>
            </a:xfrm>
            <a:custGeom>
              <a:avLst/>
              <a:gdLst/>
              <a:ahLst/>
              <a:rect l="0" t="0" r="r" b="b"/>
              <a:pathLst>
                <a:path fill="none" w="1654" h="1155">
                  <a:moveTo>
                    <a:pt x="695" y="1155"/>
                  </a:moveTo>
                  <a:lnTo>
                    <a:pt x="1654" y="321"/>
                  </a:lnTo>
                  <a:lnTo>
                    <a:pt x="1654" y="321"/>
                  </a:lnTo>
                  <a:lnTo>
                    <a:pt x="1654" y="321"/>
                  </a:lnTo>
                  <a:cubicBezTo>
                    <a:pt x="1532" y="181"/>
                    <a:pt x="1368" y="82"/>
                    <a:pt x="1178" y="33"/>
                  </a:cubicBezTo>
                  <a:cubicBezTo>
                    <a:pt x="988" y="-15"/>
                    <a:pt x="779" y="-11"/>
                    <a:pt x="572" y="46"/>
                  </a:cubicBezTo>
                  <a:cubicBezTo>
                    <a:pt x="366" y="103"/>
                    <a:pt x="168" y="209"/>
                    <a:pt x="0" y="355"/>
                  </a:cubicBezTo>
                </a:path>
              </a:pathLst>
            </a:custGeom>
            <a:ln w="1260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640680" y="6252480"/>
              <a:ext cx="383760" cy="457200"/>
            </a:xfrm>
            <a:custGeom>
              <a:avLst/>
              <a:gdLst/>
              <a:ahLst/>
              <a:rect l="0" t="0" r="r" b="b"/>
              <a:pathLst>
                <a:path w="1066" h="1270">
                  <a:moveTo>
                    <a:pt x="10" y="719"/>
                  </a:moveTo>
                  <a:lnTo>
                    <a:pt x="10" y="719"/>
                  </a:lnTo>
                  <a:cubicBezTo>
                    <a:pt x="28" y="829"/>
                    <a:pt x="69" y="934"/>
                    <a:pt x="130" y="1022"/>
                  </a:cubicBezTo>
                  <a:cubicBezTo>
                    <a:pt x="191" y="1111"/>
                    <a:pt x="270" y="1180"/>
                    <a:pt x="358" y="1222"/>
                  </a:cubicBezTo>
                  <a:cubicBezTo>
                    <a:pt x="446" y="1265"/>
                    <a:pt x="541" y="1280"/>
                    <a:pt x="633" y="1265"/>
                  </a:cubicBezTo>
                  <a:cubicBezTo>
                    <a:pt x="725" y="1251"/>
                    <a:pt x="810" y="1207"/>
                    <a:pt x="881" y="1139"/>
                  </a:cubicBezTo>
                  <a:cubicBezTo>
                    <a:pt x="952" y="1072"/>
                    <a:pt x="1005" y="982"/>
                    <a:pt x="1036" y="879"/>
                  </a:cubicBezTo>
                  <a:cubicBezTo>
                    <a:pt x="1067" y="776"/>
                    <a:pt x="1074" y="663"/>
                    <a:pt x="1056" y="553"/>
                  </a:cubicBezTo>
                  <a:lnTo>
                    <a:pt x="1056" y="552"/>
                  </a:lnTo>
                  <a:lnTo>
                    <a:pt x="1056" y="552"/>
                  </a:lnTo>
                  <a:cubicBezTo>
                    <a:pt x="1038" y="442"/>
                    <a:pt x="997" y="337"/>
                    <a:pt x="936" y="249"/>
                  </a:cubicBezTo>
                  <a:cubicBezTo>
                    <a:pt x="875" y="160"/>
                    <a:pt x="796" y="91"/>
                    <a:pt x="708" y="49"/>
                  </a:cubicBezTo>
                  <a:cubicBezTo>
                    <a:pt x="620" y="6"/>
                    <a:pt x="525" y="-9"/>
                    <a:pt x="433" y="6"/>
                  </a:cubicBezTo>
                  <a:cubicBezTo>
                    <a:pt x="341" y="20"/>
                    <a:pt x="256" y="64"/>
                    <a:pt x="185" y="132"/>
                  </a:cubicBezTo>
                  <a:cubicBezTo>
                    <a:pt x="114" y="199"/>
                    <a:pt x="61" y="289"/>
                    <a:pt x="30" y="392"/>
                  </a:cubicBezTo>
                  <a:cubicBezTo>
                    <a:pt x="-1" y="495"/>
                    <a:pt x="-8" y="608"/>
                    <a:pt x="10" y="718"/>
                  </a:cubicBezTo>
                  <a:lnTo>
                    <a:pt x="10" y="719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771720" y="6769080"/>
              <a:ext cx="286920" cy="476640"/>
            </a:xfrm>
            <a:custGeom>
              <a:avLst/>
              <a:gdLst/>
              <a:ahLst/>
              <a:rect l="0" t="0" r="r" b="b"/>
              <a:pathLst>
                <a:path w="797" h="1324">
                  <a:moveTo>
                    <a:pt x="508" y="1"/>
                  </a:moveTo>
                  <a:lnTo>
                    <a:pt x="508" y="1"/>
                  </a:lnTo>
                  <a:lnTo>
                    <a:pt x="508" y="1"/>
                  </a:lnTo>
                  <a:cubicBezTo>
                    <a:pt x="527" y="-2"/>
                    <a:pt x="545" y="0"/>
                    <a:pt x="562" y="7"/>
                  </a:cubicBezTo>
                  <a:cubicBezTo>
                    <a:pt x="580" y="13"/>
                    <a:pt x="595" y="24"/>
                    <a:pt x="607" y="39"/>
                  </a:cubicBezTo>
                  <a:cubicBezTo>
                    <a:pt x="618" y="53"/>
                    <a:pt x="626" y="70"/>
                    <a:pt x="629" y="88"/>
                  </a:cubicBezTo>
                  <a:cubicBezTo>
                    <a:pt x="629" y="89"/>
                    <a:pt x="629" y="89"/>
                    <a:pt x="629" y="89"/>
                  </a:cubicBezTo>
                  <a:lnTo>
                    <a:pt x="795" y="1135"/>
                  </a:lnTo>
                  <a:lnTo>
                    <a:pt x="795" y="1135"/>
                  </a:lnTo>
                  <a:lnTo>
                    <a:pt x="795" y="1136"/>
                  </a:lnTo>
                  <a:cubicBezTo>
                    <a:pt x="798" y="1154"/>
                    <a:pt x="796" y="1172"/>
                    <a:pt x="789" y="1190"/>
                  </a:cubicBezTo>
                  <a:cubicBezTo>
                    <a:pt x="783" y="1207"/>
                    <a:pt x="772" y="1222"/>
                    <a:pt x="757" y="1234"/>
                  </a:cubicBezTo>
                  <a:cubicBezTo>
                    <a:pt x="743" y="1245"/>
                    <a:pt x="726" y="1253"/>
                    <a:pt x="708" y="1256"/>
                  </a:cubicBezTo>
                  <a:cubicBezTo>
                    <a:pt x="707" y="1256"/>
                    <a:pt x="707" y="1256"/>
                    <a:pt x="707" y="1256"/>
                  </a:cubicBezTo>
                  <a:lnTo>
                    <a:pt x="287" y="1322"/>
                  </a:lnTo>
                  <a:lnTo>
                    <a:pt x="287" y="1322"/>
                  </a:lnTo>
                  <a:lnTo>
                    <a:pt x="287" y="1322"/>
                  </a:lnTo>
                  <a:cubicBezTo>
                    <a:pt x="268" y="1325"/>
                    <a:pt x="250" y="1323"/>
                    <a:pt x="232" y="1316"/>
                  </a:cubicBezTo>
                  <a:cubicBezTo>
                    <a:pt x="215" y="1310"/>
                    <a:pt x="200" y="1299"/>
                    <a:pt x="188" y="1284"/>
                  </a:cubicBezTo>
                  <a:cubicBezTo>
                    <a:pt x="177" y="1270"/>
                    <a:pt x="169" y="1253"/>
                    <a:pt x="166" y="1235"/>
                  </a:cubicBezTo>
                  <a:cubicBezTo>
                    <a:pt x="166" y="1234"/>
                    <a:pt x="166" y="1234"/>
                    <a:pt x="166" y="1234"/>
                  </a:cubicBezTo>
                  <a:lnTo>
                    <a:pt x="1" y="188"/>
                  </a:lnTo>
                  <a:lnTo>
                    <a:pt x="1" y="188"/>
                  </a:lnTo>
                  <a:lnTo>
                    <a:pt x="1" y="187"/>
                  </a:lnTo>
                  <a:cubicBezTo>
                    <a:pt x="-2" y="169"/>
                    <a:pt x="0" y="151"/>
                    <a:pt x="7" y="133"/>
                  </a:cubicBezTo>
                  <a:cubicBezTo>
                    <a:pt x="13" y="116"/>
                    <a:pt x="24" y="101"/>
                    <a:pt x="39" y="89"/>
                  </a:cubicBezTo>
                  <a:cubicBezTo>
                    <a:pt x="53" y="78"/>
                    <a:pt x="70" y="70"/>
                    <a:pt x="88" y="67"/>
                  </a:cubicBezTo>
                  <a:cubicBezTo>
                    <a:pt x="89" y="67"/>
                    <a:pt x="89" y="67"/>
                    <a:pt x="89" y="67"/>
                  </a:cubicBezTo>
                  <a:lnTo>
                    <a:pt x="508" y="1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759120" y="6781680"/>
              <a:ext cx="76320" cy="457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>
              <a:off x="4064040" y="6781680"/>
              <a:ext cx="76320" cy="457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35440" y="7238880"/>
              <a:ext cx="76320" cy="76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987720" y="7238880"/>
              <a:ext cx="76320" cy="76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835440" y="7315200"/>
              <a:ext cx="228600" cy="76320"/>
            </a:xfrm>
            <a:prstGeom prst="round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011200" y="6250320"/>
              <a:ext cx="381600" cy="458640"/>
            </a:xfrm>
            <a:custGeom>
              <a:avLst/>
              <a:gdLst/>
              <a:ahLst/>
              <a:rect l="0" t="0" r="r" b="b"/>
              <a:pathLst>
                <a:path w="1060" h="1274">
                  <a:moveTo>
                    <a:pt x="6" y="572"/>
                  </a:moveTo>
                  <a:lnTo>
                    <a:pt x="6" y="572"/>
                  </a:lnTo>
                  <a:cubicBezTo>
                    <a:pt x="6" y="573"/>
                    <a:pt x="6" y="573"/>
                    <a:pt x="6" y="573"/>
                  </a:cubicBezTo>
                  <a:cubicBezTo>
                    <a:pt x="-8" y="684"/>
                    <a:pt x="3" y="796"/>
                    <a:pt x="37" y="898"/>
                  </a:cubicBezTo>
                  <a:cubicBezTo>
                    <a:pt x="71" y="1000"/>
                    <a:pt x="128" y="1088"/>
                    <a:pt x="201" y="1154"/>
                  </a:cubicBezTo>
                  <a:cubicBezTo>
                    <a:pt x="273" y="1219"/>
                    <a:pt x="360" y="1260"/>
                    <a:pt x="452" y="1271"/>
                  </a:cubicBezTo>
                  <a:cubicBezTo>
                    <a:pt x="544" y="1282"/>
                    <a:pt x="638" y="1264"/>
                    <a:pt x="725" y="1218"/>
                  </a:cubicBezTo>
                  <a:cubicBezTo>
                    <a:pt x="811" y="1172"/>
                    <a:pt x="887" y="1100"/>
                    <a:pt x="945" y="1010"/>
                  </a:cubicBezTo>
                  <a:cubicBezTo>
                    <a:pt x="1003" y="919"/>
                    <a:pt x="1040" y="813"/>
                    <a:pt x="1054" y="702"/>
                  </a:cubicBezTo>
                  <a:lnTo>
                    <a:pt x="1054" y="702"/>
                  </a:lnTo>
                  <a:cubicBezTo>
                    <a:pt x="1054" y="701"/>
                    <a:pt x="1054" y="701"/>
                    <a:pt x="1054" y="701"/>
                  </a:cubicBezTo>
                  <a:cubicBezTo>
                    <a:pt x="1068" y="590"/>
                    <a:pt x="1057" y="478"/>
                    <a:pt x="1023" y="376"/>
                  </a:cubicBezTo>
                  <a:cubicBezTo>
                    <a:pt x="989" y="274"/>
                    <a:pt x="932" y="186"/>
                    <a:pt x="859" y="120"/>
                  </a:cubicBezTo>
                  <a:cubicBezTo>
                    <a:pt x="787" y="55"/>
                    <a:pt x="700" y="14"/>
                    <a:pt x="608" y="3"/>
                  </a:cubicBezTo>
                  <a:cubicBezTo>
                    <a:pt x="516" y="-8"/>
                    <a:pt x="422" y="10"/>
                    <a:pt x="335" y="56"/>
                  </a:cubicBezTo>
                  <a:cubicBezTo>
                    <a:pt x="249" y="102"/>
                    <a:pt x="173" y="174"/>
                    <a:pt x="115" y="264"/>
                  </a:cubicBezTo>
                  <a:cubicBezTo>
                    <a:pt x="57" y="355"/>
                    <a:pt x="20" y="461"/>
                    <a:pt x="6" y="572"/>
                  </a:cubicBez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000040" y="6772320"/>
              <a:ext cx="274680" cy="473400"/>
            </a:xfrm>
            <a:custGeom>
              <a:avLst/>
              <a:gdLst/>
              <a:ahLst/>
              <a:rect l="0" t="0" r="r" b="b"/>
              <a:pathLst>
                <a:path w="763" h="1315">
                  <a:moveTo>
                    <a:pt x="670" y="53"/>
                  </a:moveTo>
                  <a:lnTo>
                    <a:pt x="670" y="53"/>
                  </a:lnTo>
                  <a:lnTo>
                    <a:pt x="671" y="53"/>
                  </a:lnTo>
                  <a:cubicBezTo>
                    <a:pt x="690" y="56"/>
                    <a:pt x="707" y="63"/>
                    <a:pt x="722" y="74"/>
                  </a:cubicBezTo>
                  <a:cubicBezTo>
                    <a:pt x="737" y="85"/>
                    <a:pt x="748" y="100"/>
                    <a:pt x="756" y="117"/>
                  </a:cubicBezTo>
                  <a:cubicBezTo>
                    <a:pt x="763" y="134"/>
                    <a:pt x="765" y="152"/>
                    <a:pt x="763" y="170"/>
                  </a:cubicBezTo>
                  <a:cubicBezTo>
                    <a:pt x="763" y="171"/>
                    <a:pt x="763" y="171"/>
                    <a:pt x="763" y="171"/>
                  </a:cubicBezTo>
                  <a:lnTo>
                    <a:pt x="634" y="1223"/>
                  </a:lnTo>
                  <a:lnTo>
                    <a:pt x="634" y="1223"/>
                  </a:lnTo>
                  <a:lnTo>
                    <a:pt x="634" y="1224"/>
                  </a:lnTo>
                  <a:cubicBezTo>
                    <a:pt x="631" y="1242"/>
                    <a:pt x="624" y="1259"/>
                    <a:pt x="613" y="1274"/>
                  </a:cubicBezTo>
                  <a:cubicBezTo>
                    <a:pt x="602" y="1289"/>
                    <a:pt x="587" y="1300"/>
                    <a:pt x="570" y="1308"/>
                  </a:cubicBezTo>
                  <a:cubicBezTo>
                    <a:pt x="553" y="1315"/>
                    <a:pt x="535" y="1317"/>
                    <a:pt x="516" y="1315"/>
                  </a:cubicBezTo>
                  <a:lnTo>
                    <a:pt x="515" y="1315"/>
                  </a:lnTo>
                  <a:lnTo>
                    <a:pt x="93" y="1264"/>
                  </a:lnTo>
                  <a:lnTo>
                    <a:pt x="93" y="1264"/>
                  </a:lnTo>
                  <a:lnTo>
                    <a:pt x="93" y="1264"/>
                  </a:lnTo>
                  <a:cubicBezTo>
                    <a:pt x="74" y="1262"/>
                    <a:pt x="57" y="1255"/>
                    <a:pt x="42" y="1243"/>
                  </a:cubicBezTo>
                  <a:cubicBezTo>
                    <a:pt x="27" y="1232"/>
                    <a:pt x="16" y="1218"/>
                    <a:pt x="8" y="1201"/>
                  </a:cubicBezTo>
                  <a:cubicBezTo>
                    <a:pt x="1" y="1184"/>
                    <a:pt x="-1" y="1165"/>
                    <a:pt x="1" y="1147"/>
                  </a:cubicBezTo>
                  <a:cubicBezTo>
                    <a:pt x="1" y="1146"/>
                    <a:pt x="1" y="1146"/>
                    <a:pt x="1" y="1146"/>
                  </a:cubicBezTo>
                  <a:lnTo>
                    <a:pt x="130" y="93"/>
                  </a:lnTo>
                  <a:lnTo>
                    <a:pt x="130" y="93"/>
                  </a:lnTo>
                  <a:lnTo>
                    <a:pt x="130" y="92"/>
                  </a:lnTo>
                  <a:cubicBezTo>
                    <a:pt x="133" y="74"/>
                    <a:pt x="140" y="57"/>
                    <a:pt x="151" y="42"/>
                  </a:cubicBezTo>
                  <a:cubicBezTo>
                    <a:pt x="162" y="27"/>
                    <a:pt x="177" y="16"/>
                    <a:pt x="194" y="8"/>
                  </a:cubicBezTo>
                  <a:cubicBezTo>
                    <a:pt x="211" y="1"/>
                    <a:pt x="229" y="-1"/>
                    <a:pt x="248" y="1"/>
                  </a:cubicBezTo>
                  <a:lnTo>
                    <a:pt x="249" y="1"/>
                  </a:lnTo>
                  <a:lnTo>
                    <a:pt x="670" y="53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902120" y="6781680"/>
              <a:ext cx="76320" cy="457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>
              <a:off x="5207040" y="6781680"/>
              <a:ext cx="76320" cy="457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978440" y="7238880"/>
              <a:ext cx="76320" cy="76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30720" y="7238880"/>
              <a:ext cx="76320" cy="76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978440" y="7315200"/>
              <a:ext cx="228600" cy="76320"/>
            </a:xfrm>
            <a:prstGeom prst="round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"/>
          <p:cNvSpPr txBox="1"/>
          <p:nvPr/>
        </p:nvSpPr>
        <p:spPr>
          <a:xfrm>
            <a:off x="3551400" y="7548480"/>
            <a:ext cx="203508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atégorie de mouvement Tête-mai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974880" y="7102800"/>
            <a:ext cx="4145760" cy="1969200"/>
            <a:chOff x="974880" y="7102800"/>
            <a:chExt cx="4145760" cy="1969200"/>
          </a:xfrm>
        </p:grpSpPr>
        <p:sp>
          <p:nvSpPr>
            <p:cNvPr id="101" name=""/>
            <p:cNvSpPr/>
            <p:nvPr/>
          </p:nvSpPr>
          <p:spPr>
            <a:xfrm>
              <a:off x="2438280" y="7746840"/>
              <a:ext cx="380880" cy="4572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514600" y="8280360"/>
              <a:ext cx="228600" cy="457200"/>
            </a:xfrm>
            <a:prstGeom prst="round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438280" y="8280360"/>
              <a:ext cx="76320" cy="457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flipH="1">
              <a:off x="2743200" y="8280360"/>
              <a:ext cx="76320" cy="457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514600" y="8737560"/>
              <a:ext cx="76320" cy="763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666880" y="8737560"/>
              <a:ext cx="76320" cy="763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514600" y="8813880"/>
              <a:ext cx="228600" cy="76320"/>
            </a:xfrm>
            <a:prstGeom prst="round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371600" y="7899480"/>
              <a:ext cx="0" cy="60948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371600" y="850896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 flipH="1">
              <a:off x="1143000" y="8508960"/>
              <a:ext cx="228600" cy="30492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 txBox="1"/>
            <p:nvPr/>
          </p:nvSpPr>
          <p:spPr>
            <a:xfrm>
              <a:off x="1190520" y="7650000"/>
              <a:ext cx="27612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 txBox="1"/>
            <p:nvPr/>
          </p:nvSpPr>
          <p:spPr>
            <a:xfrm>
              <a:off x="1876320" y="8412120"/>
              <a:ext cx="27612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X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 txBox="1"/>
            <p:nvPr/>
          </p:nvSpPr>
          <p:spPr>
            <a:xfrm>
              <a:off x="974880" y="8805960"/>
              <a:ext cx="26820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Z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188440" y="7102800"/>
              <a:ext cx="595440" cy="415800"/>
            </a:xfrm>
            <a:custGeom>
              <a:avLst/>
              <a:gdLst/>
              <a:ahLst/>
              <a:rect l="0" t="0" r="r" b="b"/>
              <a:pathLst>
                <a:path fill="none" w="1654" h="1155">
                  <a:moveTo>
                    <a:pt x="695" y="1155"/>
                  </a:moveTo>
                  <a:lnTo>
                    <a:pt x="1654" y="321"/>
                  </a:lnTo>
                  <a:lnTo>
                    <a:pt x="1654" y="321"/>
                  </a:lnTo>
                  <a:lnTo>
                    <a:pt x="1654" y="321"/>
                  </a:lnTo>
                  <a:cubicBezTo>
                    <a:pt x="1532" y="181"/>
                    <a:pt x="1368" y="82"/>
                    <a:pt x="1178" y="33"/>
                  </a:cubicBezTo>
                  <a:cubicBezTo>
                    <a:pt x="988" y="-15"/>
                    <a:pt x="779" y="-11"/>
                    <a:pt x="572" y="46"/>
                  </a:cubicBezTo>
                  <a:cubicBezTo>
                    <a:pt x="366" y="103"/>
                    <a:pt x="168" y="209"/>
                    <a:pt x="0" y="355"/>
                  </a:cubicBezTo>
                </a:path>
              </a:pathLst>
            </a:custGeom>
            <a:ln w="1260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361600" y="8852040"/>
              <a:ext cx="371880" cy="219960"/>
            </a:xfrm>
            <a:custGeom>
              <a:avLst/>
              <a:gdLst/>
              <a:ahLst/>
              <a:rect l="0" t="0" r="r" b="b"/>
              <a:pathLst>
                <a:path fill="none" w="1033" h="611">
                  <a:moveTo>
                    <a:pt x="558" y="0"/>
                  </a:moveTo>
                  <a:lnTo>
                    <a:pt x="0" y="303"/>
                  </a:lnTo>
                  <a:lnTo>
                    <a:pt x="0" y="303"/>
                  </a:lnTo>
                  <a:cubicBezTo>
                    <a:pt x="28" y="368"/>
                    <a:pt x="69" y="425"/>
                    <a:pt x="119" y="472"/>
                  </a:cubicBezTo>
                  <a:cubicBezTo>
                    <a:pt x="192" y="540"/>
                    <a:pt x="284" y="585"/>
                    <a:pt x="386" y="603"/>
                  </a:cubicBezTo>
                  <a:cubicBezTo>
                    <a:pt x="487" y="620"/>
                    <a:pt x="595" y="610"/>
                    <a:pt x="699" y="572"/>
                  </a:cubicBezTo>
                  <a:cubicBezTo>
                    <a:pt x="802" y="535"/>
                    <a:pt x="897" y="472"/>
                    <a:pt x="974" y="389"/>
                  </a:cubicBezTo>
                  <a:cubicBezTo>
                    <a:pt x="995" y="366"/>
                    <a:pt x="1015" y="342"/>
                    <a:pt x="1033" y="317"/>
                  </a:cubicBezTo>
                </a:path>
              </a:pathLst>
            </a:custGeom>
            <a:ln w="1260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31760" y="7824600"/>
              <a:ext cx="385560" cy="454680"/>
            </a:xfrm>
            <a:custGeom>
              <a:avLst/>
              <a:gdLst/>
              <a:ahLst/>
              <a:rect l="0" t="0" r="r" b="b"/>
              <a:pathLst>
                <a:path w="1071" h="1263">
                  <a:moveTo>
                    <a:pt x="19" y="750"/>
                  </a:moveTo>
                  <a:lnTo>
                    <a:pt x="19" y="750"/>
                  </a:lnTo>
                  <a:lnTo>
                    <a:pt x="19" y="750"/>
                  </a:lnTo>
                  <a:cubicBezTo>
                    <a:pt x="44" y="859"/>
                    <a:pt x="93" y="960"/>
                    <a:pt x="160" y="1044"/>
                  </a:cubicBezTo>
                  <a:cubicBezTo>
                    <a:pt x="227" y="1128"/>
                    <a:pt x="310" y="1191"/>
                    <a:pt x="401" y="1227"/>
                  </a:cubicBezTo>
                  <a:cubicBezTo>
                    <a:pt x="492" y="1264"/>
                    <a:pt x="587" y="1272"/>
                    <a:pt x="678" y="1251"/>
                  </a:cubicBezTo>
                  <a:cubicBezTo>
                    <a:pt x="769" y="1230"/>
                    <a:pt x="851" y="1181"/>
                    <a:pt x="917" y="1108"/>
                  </a:cubicBezTo>
                  <a:cubicBezTo>
                    <a:pt x="983" y="1036"/>
                    <a:pt x="1030" y="942"/>
                    <a:pt x="1053" y="838"/>
                  </a:cubicBezTo>
                  <a:cubicBezTo>
                    <a:pt x="1077" y="733"/>
                    <a:pt x="1076" y="621"/>
                    <a:pt x="1051" y="512"/>
                  </a:cubicBezTo>
                  <a:lnTo>
                    <a:pt x="1051" y="512"/>
                  </a:lnTo>
                  <a:lnTo>
                    <a:pt x="1051" y="512"/>
                  </a:lnTo>
                  <a:cubicBezTo>
                    <a:pt x="1026" y="403"/>
                    <a:pt x="977" y="302"/>
                    <a:pt x="910" y="218"/>
                  </a:cubicBezTo>
                  <a:cubicBezTo>
                    <a:pt x="843" y="134"/>
                    <a:pt x="760" y="71"/>
                    <a:pt x="669" y="35"/>
                  </a:cubicBezTo>
                  <a:cubicBezTo>
                    <a:pt x="578" y="-2"/>
                    <a:pt x="483" y="-10"/>
                    <a:pt x="392" y="11"/>
                  </a:cubicBezTo>
                  <a:cubicBezTo>
                    <a:pt x="301" y="32"/>
                    <a:pt x="219" y="81"/>
                    <a:pt x="153" y="154"/>
                  </a:cubicBezTo>
                  <a:cubicBezTo>
                    <a:pt x="87" y="226"/>
                    <a:pt x="40" y="320"/>
                    <a:pt x="17" y="424"/>
                  </a:cubicBezTo>
                  <a:cubicBezTo>
                    <a:pt x="-7" y="529"/>
                    <a:pt x="-6" y="641"/>
                    <a:pt x="19" y="750"/>
                  </a:cubicBez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714200" y="7832160"/>
              <a:ext cx="406440" cy="447480"/>
            </a:xfrm>
            <a:custGeom>
              <a:avLst/>
              <a:gdLst/>
              <a:ahLst/>
              <a:rect l="0" t="0" r="r" b="b"/>
              <a:pathLst>
                <a:path w="1129" h="1243">
                  <a:moveTo>
                    <a:pt x="106" y="357"/>
                  </a:moveTo>
                  <a:lnTo>
                    <a:pt x="106" y="357"/>
                  </a:lnTo>
                  <a:cubicBezTo>
                    <a:pt x="104" y="361"/>
                    <a:pt x="102" y="365"/>
                    <a:pt x="99" y="369"/>
                  </a:cubicBezTo>
                  <a:cubicBezTo>
                    <a:pt x="44" y="465"/>
                    <a:pt x="10" y="572"/>
                    <a:pt x="2" y="679"/>
                  </a:cubicBezTo>
                  <a:cubicBezTo>
                    <a:pt x="-6" y="786"/>
                    <a:pt x="12" y="889"/>
                    <a:pt x="54" y="978"/>
                  </a:cubicBezTo>
                  <a:cubicBezTo>
                    <a:pt x="95" y="1066"/>
                    <a:pt x="160" y="1137"/>
                    <a:pt x="240" y="1184"/>
                  </a:cubicBezTo>
                  <a:cubicBezTo>
                    <a:pt x="321" y="1230"/>
                    <a:pt x="414" y="1250"/>
                    <a:pt x="512" y="1242"/>
                  </a:cubicBezTo>
                  <a:cubicBezTo>
                    <a:pt x="610" y="1234"/>
                    <a:pt x="708" y="1198"/>
                    <a:pt x="796" y="1138"/>
                  </a:cubicBezTo>
                  <a:cubicBezTo>
                    <a:pt x="885" y="1077"/>
                    <a:pt x="961" y="995"/>
                    <a:pt x="1017" y="898"/>
                  </a:cubicBezTo>
                  <a:cubicBezTo>
                    <a:pt x="1019" y="894"/>
                    <a:pt x="1021" y="890"/>
                    <a:pt x="1023" y="887"/>
                  </a:cubicBezTo>
                  <a:lnTo>
                    <a:pt x="1023" y="887"/>
                  </a:lnTo>
                  <a:cubicBezTo>
                    <a:pt x="1025" y="883"/>
                    <a:pt x="1027" y="879"/>
                    <a:pt x="1030" y="875"/>
                  </a:cubicBezTo>
                  <a:cubicBezTo>
                    <a:pt x="1085" y="779"/>
                    <a:pt x="1119" y="672"/>
                    <a:pt x="1127" y="565"/>
                  </a:cubicBezTo>
                  <a:cubicBezTo>
                    <a:pt x="1135" y="458"/>
                    <a:pt x="1117" y="355"/>
                    <a:pt x="1075" y="266"/>
                  </a:cubicBezTo>
                  <a:cubicBezTo>
                    <a:pt x="1034" y="178"/>
                    <a:pt x="969" y="107"/>
                    <a:pt x="889" y="60"/>
                  </a:cubicBezTo>
                  <a:cubicBezTo>
                    <a:pt x="808" y="14"/>
                    <a:pt x="715" y="-6"/>
                    <a:pt x="617" y="2"/>
                  </a:cubicBezTo>
                  <a:cubicBezTo>
                    <a:pt x="519" y="10"/>
                    <a:pt x="421" y="46"/>
                    <a:pt x="333" y="106"/>
                  </a:cubicBezTo>
                  <a:cubicBezTo>
                    <a:pt x="244" y="167"/>
                    <a:pt x="168" y="249"/>
                    <a:pt x="112" y="346"/>
                  </a:cubicBezTo>
                  <a:cubicBezTo>
                    <a:pt x="110" y="350"/>
                    <a:pt x="108" y="354"/>
                    <a:pt x="106" y="357"/>
                  </a:cubicBez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809880" y="8356680"/>
              <a:ext cx="228600" cy="457200"/>
            </a:xfrm>
            <a:prstGeom prst="round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733920" y="8356680"/>
              <a:ext cx="75960" cy="457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H="1">
              <a:off x="4038480" y="8432640"/>
              <a:ext cx="76320" cy="457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809880" y="8813880"/>
              <a:ext cx="76320" cy="763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962520" y="8889840"/>
              <a:ext cx="76320" cy="763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816000" y="8860320"/>
              <a:ext cx="216720" cy="136080"/>
            </a:xfrm>
            <a:custGeom>
              <a:avLst/>
              <a:gdLst/>
              <a:ahLst/>
              <a:rect l="0" t="0" r="r" b="b"/>
              <a:pathLst>
                <a:path w="602" h="378">
                  <a:moveTo>
                    <a:pt x="538" y="174"/>
                  </a:moveTo>
                  <a:lnTo>
                    <a:pt x="538" y="174"/>
                  </a:lnTo>
                  <a:cubicBezTo>
                    <a:pt x="538" y="175"/>
                    <a:pt x="538" y="175"/>
                    <a:pt x="539" y="175"/>
                  </a:cubicBezTo>
                  <a:cubicBezTo>
                    <a:pt x="556" y="182"/>
                    <a:pt x="570" y="194"/>
                    <a:pt x="582" y="208"/>
                  </a:cubicBezTo>
                  <a:cubicBezTo>
                    <a:pt x="593" y="223"/>
                    <a:pt x="600" y="241"/>
                    <a:pt x="602" y="259"/>
                  </a:cubicBezTo>
                  <a:cubicBezTo>
                    <a:pt x="604" y="277"/>
                    <a:pt x="602" y="296"/>
                    <a:pt x="594" y="313"/>
                  </a:cubicBezTo>
                  <a:lnTo>
                    <a:pt x="594" y="314"/>
                  </a:lnTo>
                  <a:lnTo>
                    <a:pt x="594" y="314"/>
                  </a:lnTo>
                  <a:lnTo>
                    <a:pt x="594" y="314"/>
                  </a:lnTo>
                  <a:lnTo>
                    <a:pt x="594" y="314"/>
                  </a:lnTo>
                  <a:cubicBezTo>
                    <a:pt x="587" y="331"/>
                    <a:pt x="575" y="346"/>
                    <a:pt x="560" y="357"/>
                  </a:cubicBezTo>
                  <a:cubicBezTo>
                    <a:pt x="546" y="368"/>
                    <a:pt x="528" y="375"/>
                    <a:pt x="510" y="378"/>
                  </a:cubicBezTo>
                  <a:cubicBezTo>
                    <a:pt x="491" y="380"/>
                    <a:pt x="473" y="377"/>
                    <a:pt x="456" y="370"/>
                  </a:cubicBezTo>
                  <a:lnTo>
                    <a:pt x="456" y="370"/>
                  </a:lnTo>
                  <a:lnTo>
                    <a:pt x="65" y="205"/>
                  </a:lnTo>
                  <a:lnTo>
                    <a:pt x="65" y="205"/>
                  </a:lnTo>
                  <a:cubicBezTo>
                    <a:pt x="65" y="204"/>
                    <a:pt x="65" y="204"/>
                    <a:pt x="64" y="204"/>
                  </a:cubicBezTo>
                  <a:cubicBezTo>
                    <a:pt x="47" y="197"/>
                    <a:pt x="33" y="185"/>
                    <a:pt x="21" y="171"/>
                  </a:cubicBezTo>
                  <a:cubicBezTo>
                    <a:pt x="10" y="156"/>
                    <a:pt x="3" y="138"/>
                    <a:pt x="1" y="120"/>
                  </a:cubicBezTo>
                  <a:cubicBezTo>
                    <a:pt x="-1" y="102"/>
                    <a:pt x="1" y="83"/>
                    <a:pt x="9" y="66"/>
                  </a:cubicBezTo>
                  <a:lnTo>
                    <a:pt x="9" y="65"/>
                  </a:lnTo>
                  <a:lnTo>
                    <a:pt x="9" y="65"/>
                  </a:lnTo>
                  <a:lnTo>
                    <a:pt x="9" y="65"/>
                  </a:lnTo>
                  <a:lnTo>
                    <a:pt x="9" y="64"/>
                  </a:lnTo>
                  <a:cubicBezTo>
                    <a:pt x="17" y="47"/>
                    <a:pt x="28" y="33"/>
                    <a:pt x="43" y="21"/>
                  </a:cubicBezTo>
                  <a:cubicBezTo>
                    <a:pt x="58" y="10"/>
                    <a:pt x="75" y="3"/>
                    <a:pt x="93" y="1"/>
                  </a:cubicBezTo>
                  <a:cubicBezTo>
                    <a:pt x="112" y="-1"/>
                    <a:pt x="130" y="1"/>
                    <a:pt x="147" y="9"/>
                  </a:cubicBezTo>
                  <a:cubicBezTo>
                    <a:pt x="148" y="9"/>
                    <a:pt x="148" y="9"/>
                    <a:pt x="148" y="9"/>
                  </a:cubicBezTo>
                  <a:lnTo>
                    <a:pt x="538" y="17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800600" y="8356680"/>
              <a:ext cx="228600" cy="457200"/>
            </a:xfrm>
            <a:prstGeom prst="round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724280" y="8432640"/>
              <a:ext cx="76320" cy="457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 flipH="1">
              <a:off x="5029200" y="8356680"/>
              <a:ext cx="76320" cy="457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800600" y="8889840"/>
              <a:ext cx="76320" cy="763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952880" y="8813880"/>
              <a:ext cx="76320" cy="763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805640" y="8862840"/>
              <a:ext cx="219240" cy="131400"/>
            </a:xfrm>
            <a:custGeom>
              <a:avLst/>
              <a:gdLst/>
              <a:ahLst/>
              <a:rect l="0" t="0" r="r" b="b"/>
              <a:pathLst>
                <a:path w="609" h="365">
                  <a:moveTo>
                    <a:pt x="465" y="7"/>
                  </a:moveTo>
                  <a:lnTo>
                    <a:pt x="465" y="7"/>
                  </a:lnTo>
                  <a:lnTo>
                    <a:pt x="465" y="7"/>
                  </a:lnTo>
                  <a:cubicBezTo>
                    <a:pt x="482" y="0"/>
                    <a:pt x="501" y="-2"/>
                    <a:pt x="519" y="1"/>
                  </a:cubicBezTo>
                  <a:cubicBezTo>
                    <a:pt x="537" y="4"/>
                    <a:pt x="555" y="12"/>
                    <a:pt x="569" y="23"/>
                  </a:cubicBezTo>
                  <a:cubicBezTo>
                    <a:pt x="583" y="35"/>
                    <a:pt x="594" y="50"/>
                    <a:pt x="601" y="67"/>
                  </a:cubicBezTo>
                  <a:lnTo>
                    <a:pt x="601" y="67"/>
                  </a:lnTo>
                  <a:lnTo>
                    <a:pt x="601" y="67"/>
                  </a:lnTo>
                  <a:cubicBezTo>
                    <a:pt x="601" y="68"/>
                    <a:pt x="601" y="68"/>
                    <a:pt x="601" y="68"/>
                  </a:cubicBezTo>
                  <a:cubicBezTo>
                    <a:pt x="608" y="85"/>
                    <a:pt x="610" y="104"/>
                    <a:pt x="607" y="122"/>
                  </a:cubicBezTo>
                  <a:cubicBezTo>
                    <a:pt x="604" y="141"/>
                    <a:pt x="597" y="158"/>
                    <a:pt x="585" y="172"/>
                  </a:cubicBezTo>
                  <a:cubicBezTo>
                    <a:pt x="573" y="187"/>
                    <a:pt x="558" y="198"/>
                    <a:pt x="541" y="204"/>
                  </a:cubicBezTo>
                  <a:cubicBezTo>
                    <a:pt x="540" y="204"/>
                    <a:pt x="540" y="204"/>
                    <a:pt x="540" y="205"/>
                  </a:cubicBezTo>
                  <a:lnTo>
                    <a:pt x="143" y="357"/>
                  </a:lnTo>
                  <a:lnTo>
                    <a:pt x="143" y="357"/>
                  </a:lnTo>
                  <a:lnTo>
                    <a:pt x="143" y="357"/>
                  </a:lnTo>
                  <a:cubicBezTo>
                    <a:pt x="126" y="364"/>
                    <a:pt x="107" y="366"/>
                    <a:pt x="89" y="363"/>
                  </a:cubicBezTo>
                  <a:cubicBezTo>
                    <a:pt x="71" y="360"/>
                    <a:pt x="54" y="352"/>
                    <a:pt x="39" y="341"/>
                  </a:cubicBezTo>
                  <a:cubicBezTo>
                    <a:pt x="25" y="329"/>
                    <a:pt x="14" y="314"/>
                    <a:pt x="7" y="296"/>
                  </a:cubicBezTo>
                  <a:lnTo>
                    <a:pt x="7" y="296"/>
                  </a:lnTo>
                  <a:lnTo>
                    <a:pt x="7" y="296"/>
                  </a:lnTo>
                  <a:lnTo>
                    <a:pt x="7" y="296"/>
                  </a:lnTo>
                  <a:cubicBezTo>
                    <a:pt x="7" y="295"/>
                    <a:pt x="7" y="295"/>
                    <a:pt x="7" y="295"/>
                  </a:cubicBezTo>
                  <a:cubicBezTo>
                    <a:pt x="0" y="277"/>
                    <a:pt x="-2" y="259"/>
                    <a:pt x="1" y="240"/>
                  </a:cubicBezTo>
                  <a:cubicBezTo>
                    <a:pt x="4" y="222"/>
                    <a:pt x="11" y="205"/>
                    <a:pt x="23" y="191"/>
                  </a:cubicBezTo>
                  <a:cubicBezTo>
                    <a:pt x="35" y="176"/>
                    <a:pt x="50" y="165"/>
                    <a:pt x="67" y="158"/>
                  </a:cubicBezTo>
                  <a:lnTo>
                    <a:pt x="67" y="158"/>
                  </a:lnTo>
                  <a:lnTo>
                    <a:pt x="465" y="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" name=""/>
          <p:cNvSpPr txBox="1"/>
          <p:nvPr/>
        </p:nvSpPr>
        <p:spPr>
          <a:xfrm>
            <a:off x="3551400" y="4221000"/>
            <a:ext cx="193356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atégorie de mouvement de Mai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1057320" y="4475160"/>
            <a:ext cx="4130640" cy="1421640"/>
            <a:chOff x="1057320" y="4475160"/>
            <a:chExt cx="4130640" cy="1421640"/>
          </a:xfrm>
        </p:grpSpPr>
        <p:sp>
          <p:nvSpPr>
            <p:cNvPr id="132" name=""/>
            <p:cNvSpPr/>
            <p:nvPr/>
          </p:nvSpPr>
          <p:spPr>
            <a:xfrm>
              <a:off x="2521080" y="4495680"/>
              <a:ext cx="380880" cy="4572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521080" y="5029200"/>
              <a:ext cx="75960" cy="457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2825640" y="5029200"/>
              <a:ext cx="76320" cy="457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597040" y="5486400"/>
              <a:ext cx="76320" cy="763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749680" y="5486400"/>
              <a:ext cx="76320" cy="763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597040" y="5562720"/>
              <a:ext cx="228600" cy="76320"/>
            </a:xfrm>
            <a:prstGeom prst="round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454040" y="4724280"/>
              <a:ext cx="0" cy="60984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454040" y="533412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1225440" y="5334120"/>
              <a:ext cx="228600" cy="3045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 txBox="1"/>
            <p:nvPr/>
          </p:nvSpPr>
          <p:spPr>
            <a:xfrm>
              <a:off x="1273320" y="4475160"/>
              <a:ext cx="27612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 txBox="1"/>
            <p:nvPr/>
          </p:nvSpPr>
          <p:spPr>
            <a:xfrm>
              <a:off x="1959120" y="5237280"/>
              <a:ext cx="27612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X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 txBox="1"/>
            <p:nvPr/>
          </p:nvSpPr>
          <p:spPr>
            <a:xfrm>
              <a:off x="1057320" y="5630760"/>
              <a:ext cx="26208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Z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444040" y="5676840"/>
              <a:ext cx="371880" cy="219960"/>
            </a:xfrm>
            <a:custGeom>
              <a:avLst/>
              <a:gdLst/>
              <a:ahLst/>
              <a:rect l="0" t="0" r="r" b="b"/>
              <a:pathLst>
                <a:path fill="none" w="1033" h="611">
                  <a:moveTo>
                    <a:pt x="558" y="0"/>
                  </a:moveTo>
                  <a:lnTo>
                    <a:pt x="0" y="303"/>
                  </a:lnTo>
                  <a:lnTo>
                    <a:pt x="0" y="303"/>
                  </a:lnTo>
                  <a:cubicBezTo>
                    <a:pt x="28" y="368"/>
                    <a:pt x="69" y="425"/>
                    <a:pt x="119" y="472"/>
                  </a:cubicBezTo>
                  <a:cubicBezTo>
                    <a:pt x="192" y="540"/>
                    <a:pt x="284" y="585"/>
                    <a:pt x="386" y="603"/>
                  </a:cubicBezTo>
                  <a:cubicBezTo>
                    <a:pt x="487" y="620"/>
                    <a:pt x="595" y="610"/>
                    <a:pt x="699" y="572"/>
                  </a:cubicBezTo>
                  <a:cubicBezTo>
                    <a:pt x="802" y="535"/>
                    <a:pt x="897" y="472"/>
                    <a:pt x="974" y="389"/>
                  </a:cubicBezTo>
                  <a:cubicBezTo>
                    <a:pt x="995" y="366"/>
                    <a:pt x="1015" y="342"/>
                    <a:pt x="1033" y="317"/>
                  </a:cubicBezTo>
                </a:path>
              </a:pathLst>
            </a:custGeom>
            <a:ln w="1260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816360" y="4572000"/>
              <a:ext cx="380880" cy="4572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892680" y="5105520"/>
              <a:ext cx="228600" cy="457200"/>
            </a:xfrm>
            <a:prstGeom prst="round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816360" y="5105520"/>
              <a:ext cx="76320" cy="457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 flipH="1">
              <a:off x="4121280" y="5181480"/>
              <a:ext cx="75960" cy="457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892680" y="5562720"/>
              <a:ext cx="76320" cy="763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044960" y="5638680"/>
              <a:ext cx="76320" cy="763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898800" y="5609160"/>
              <a:ext cx="216720" cy="136080"/>
            </a:xfrm>
            <a:custGeom>
              <a:avLst/>
              <a:gdLst/>
              <a:ahLst/>
              <a:rect l="0" t="0" r="r" b="b"/>
              <a:pathLst>
                <a:path w="602" h="378">
                  <a:moveTo>
                    <a:pt x="538" y="174"/>
                  </a:moveTo>
                  <a:lnTo>
                    <a:pt x="538" y="174"/>
                  </a:lnTo>
                  <a:cubicBezTo>
                    <a:pt x="538" y="175"/>
                    <a:pt x="538" y="175"/>
                    <a:pt x="539" y="175"/>
                  </a:cubicBezTo>
                  <a:cubicBezTo>
                    <a:pt x="556" y="182"/>
                    <a:pt x="570" y="194"/>
                    <a:pt x="582" y="208"/>
                  </a:cubicBezTo>
                  <a:cubicBezTo>
                    <a:pt x="593" y="223"/>
                    <a:pt x="600" y="241"/>
                    <a:pt x="602" y="259"/>
                  </a:cubicBezTo>
                  <a:cubicBezTo>
                    <a:pt x="604" y="277"/>
                    <a:pt x="602" y="296"/>
                    <a:pt x="594" y="313"/>
                  </a:cubicBezTo>
                  <a:lnTo>
                    <a:pt x="594" y="314"/>
                  </a:lnTo>
                  <a:lnTo>
                    <a:pt x="594" y="314"/>
                  </a:lnTo>
                  <a:lnTo>
                    <a:pt x="594" y="314"/>
                  </a:lnTo>
                  <a:lnTo>
                    <a:pt x="594" y="314"/>
                  </a:lnTo>
                  <a:cubicBezTo>
                    <a:pt x="587" y="331"/>
                    <a:pt x="575" y="346"/>
                    <a:pt x="560" y="357"/>
                  </a:cubicBezTo>
                  <a:cubicBezTo>
                    <a:pt x="546" y="368"/>
                    <a:pt x="528" y="375"/>
                    <a:pt x="510" y="378"/>
                  </a:cubicBezTo>
                  <a:cubicBezTo>
                    <a:pt x="491" y="380"/>
                    <a:pt x="473" y="377"/>
                    <a:pt x="456" y="370"/>
                  </a:cubicBezTo>
                  <a:lnTo>
                    <a:pt x="456" y="370"/>
                  </a:lnTo>
                  <a:lnTo>
                    <a:pt x="65" y="205"/>
                  </a:lnTo>
                  <a:lnTo>
                    <a:pt x="65" y="205"/>
                  </a:lnTo>
                  <a:cubicBezTo>
                    <a:pt x="65" y="204"/>
                    <a:pt x="65" y="204"/>
                    <a:pt x="64" y="204"/>
                  </a:cubicBezTo>
                  <a:cubicBezTo>
                    <a:pt x="47" y="197"/>
                    <a:pt x="33" y="185"/>
                    <a:pt x="21" y="171"/>
                  </a:cubicBezTo>
                  <a:cubicBezTo>
                    <a:pt x="10" y="156"/>
                    <a:pt x="3" y="138"/>
                    <a:pt x="1" y="120"/>
                  </a:cubicBezTo>
                  <a:cubicBezTo>
                    <a:pt x="-1" y="102"/>
                    <a:pt x="1" y="83"/>
                    <a:pt x="9" y="66"/>
                  </a:cubicBezTo>
                  <a:lnTo>
                    <a:pt x="9" y="65"/>
                  </a:lnTo>
                  <a:lnTo>
                    <a:pt x="9" y="65"/>
                  </a:lnTo>
                  <a:lnTo>
                    <a:pt x="9" y="65"/>
                  </a:lnTo>
                  <a:lnTo>
                    <a:pt x="9" y="64"/>
                  </a:lnTo>
                  <a:cubicBezTo>
                    <a:pt x="17" y="47"/>
                    <a:pt x="28" y="33"/>
                    <a:pt x="43" y="21"/>
                  </a:cubicBezTo>
                  <a:cubicBezTo>
                    <a:pt x="58" y="10"/>
                    <a:pt x="75" y="3"/>
                    <a:pt x="93" y="1"/>
                  </a:cubicBezTo>
                  <a:cubicBezTo>
                    <a:pt x="112" y="-1"/>
                    <a:pt x="130" y="1"/>
                    <a:pt x="147" y="9"/>
                  </a:cubicBezTo>
                  <a:cubicBezTo>
                    <a:pt x="148" y="9"/>
                    <a:pt x="148" y="9"/>
                    <a:pt x="148" y="9"/>
                  </a:cubicBezTo>
                  <a:lnTo>
                    <a:pt x="538" y="17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807080" y="4572000"/>
              <a:ext cx="380880" cy="4572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883040" y="5105520"/>
              <a:ext cx="228600" cy="457200"/>
            </a:xfrm>
            <a:prstGeom prst="round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807080" y="5181480"/>
              <a:ext cx="75960" cy="457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 flipH="1">
              <a:off x="5111640" y="5105520"/>
              <a:ext cx="76320" cy="457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883040" y="5638680"/>
              <a:ext cx="76320" cy="763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035680" y="5562720"/>
              <a:ext cx="76320" cy="763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888080" y="5611320"/>
              <a:ext cx="219240" cy="131400"/>
            </a:xfrm>
            <a:custGeom>
              <a:avLst/>
              <a:gdLst/>
              <a:ahLst/>
              <a:rect l="0" t="0" r="r" b="b"/>
              <a:pathLst>
                <a:path w="609" h="365">
                  <a:moveTo>
                    <a:pt x="465" y="7"/>
                  </a:moveTo>
                  <a:lnTo>
                    <a:pt x="465" y="7"/>
                  </a:lnTo>
                  <a:lnTo>
                    <a:pt x="465" y="7"/>
                  </a:lnTo>
                  <a:cubicBezTo>
                    <a:pt x="482" y="0"/>
                    <a:pt x="501" y="-2"/>
                    <a:pt x="519" y="1"/>
                  </a:cubicBezTo>
                  <a:cubicBezTo>
                    <a:pt x="537" y="4"/>
                    <a:pt x="555" y="12"/>
                    <a:pt x="569" y="23"/>
                  </a:cubicBezTo>
                  <a:cubicBezTo>
                    <a:pt x="583" y="35"/>
                    <a:pt x="594" y="50"/>
                    <a:pt x="601" y="67"/>
                  </a:cubicBezTo>
                  <a:lnTo>
                    <a:pt x="601" y="67"/>
                  </a:lnTo>
                  <a:lnTo>
                    <a:pt x="601" y="67"/>
                  </a:lnTo>
                  <a:cubicBezTo>
                    <a:pt x="601" y="68"/>
                    <a:pt x="601" y="68"/>
                    <a:pt x="601" y="68"/>
                  </a:cubicBezTo>
                  <a:cubicBezTo>
                    <a:pt x="608" y="85"/>
                    <a:pt x="610" y="104"/>
                    <a:pt x="607" y="122"/>
                  </a:cubicBezTo>
                  <a:cubicBezTo>
                    <a:pt x="604" y="141"/>
                    <a:pt x="597" y="158"/>
                    <a:pt x="585" y="172"/>
                  </a:cubicBezTo>
                  <a:cubicBezTo>
                    <a:pt x="573" y="187"/>
                    <a:pt x="558" y="198"/>
                    <a:pt x="541" y="204"/>
                  </a:cubicBezTo>
                  <a:cubicBezTo>
                    <a:pt x="540" y="204"/>
                    <a:pt x="540" y="204"/>
                    <a:pt x="540" y="205"/>
                  </a:cubicBezTo>
                  <a:lnTo>
                    <a:pt x="143" y="357"/>
                  </a:lnTo>
                  <a:lnTo>
                    <a:pt x="143" y="357"/>
                  </a:lnTo>
                  <a:lnTo>
                    <a:pt x="143" y="357"/>
                  </a:lnTo>
                  <a:cubicBezTo>
                    <a:pt x="126" y="364"/>
                    <a:pt x="107" y="366"/>
                    <a:pt x="89" y="363"/>
                  </a:cubicBezTo>
                  <a:cubicBezTo>
                    <a:pt x="71" y="360"/>
                    <a:pt x="54" y="352"/>
                    <a:pt x="39" y="341"/>
                  </a:cubicBezTo>
                  <a:cubicBezTo>
                    <a:pt x="25" y="329"/>
                    <a:pt x="14" y="314"/>
                    <a:pt x="7" y="296"/>
                  </a:cubicBezTo>
                  <a:lnTo>
                    <a:pt x="7" y="296"/>
                  </a:lnTo>
                  <a:lnTo>
                    <a:pt x="7" y="296"/>
                  </a:lnTo>
                  <a:lnTo>
                    <a:pt x="7" y="296"/>
                  </a:lnTo>
                  <a:cubicBezTo>
                    <a:pt x="7" y="295"/>
                    <a:pt x="7" y="295"/>
                    <a:pt x="7" y="295"/>
                  </a:cubicBezTo>
                  <a:cubicBezTo>
                    <a:pt x="0" y="277"/>
                    <a:pt x="-2" y="259"/>
                    <a:pt x="1" y="240"/>
                  </a:cubicBezTo>
                  <a:cubicBezTo>
                    <a:pt x="4" y="222"/>
                    <a:pt x="11" y="205"/>
                    <a:pt x="23" y="191"/>
                  </a:cubicBezTo>
                  <a:cubicBezTo>
                    <a:pt x="35" y="176"/>
                    <a:pt x="50" y="165"/>
                    <a:pt x="67" y="158"/>
                  </a:cubicBezTo>
                  <a:lnTo>
                    <a:pt x="67" y="158"/>
                  </a:lnTo>
                  <a:lnTo>
                    <a:pt x="465" y="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97040" y="5029200"/>
              <a:ext cx="228600" cy="457200"/>
            </a:xfrm>
            <a:prstGeom prst="round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 txBox="1"/>
          <p:nvPr/>
        </p:nvSpPr>
        <p:spPr>
          <a:xfrm>
            <a:off x="365040" y="326880"/>
            <a:ext cx="62643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chéma des différentes catégories de mouv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 parties impliquées sont en gras, l’axe en gras correspond à la direction du mouvement de rotation. On trouve les 7 catégories retenus, et à la fin deux catégories pour lesquelles nous n’avons pas obtenu de résultats, Epaules, et Tronc-tête. Les schémas correspondent à des vues de face du haut du corp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17680" y="1295280"/>
            <a:ext cx="4483080" cy="1532160"/>
            <a:chOff x="517680" y="1295280"/>
            <a:chExt cx="4483080" cy="1532160"/>
          </a:xfrm>
        </p:grpSpPr>
        <p:grpSp>
          <p:nvGrpSpPr>
            <p:cNvPr id="162" name=""/>
            <p:cNvGrpSpPr/>
            <p:nvPr/>
          </p:nvGrpSpPr>
          <p:grpSpPr>
            <a:xfrm>
              <a:off x="3429000" y="1295280"/>
              <a:ext cx="380880" cy="1143360"/>
              <a:chOff x="3429000" y="1295280"/>
              <a:chExt cx="380880" cy="1143360"/>
            </a:xfrm>
          </p:grpSpPr>
          <p:sp>
            <p:nvSpPr>
              <p:cNvPr id="163" name=""/>
              <p:cNvSpPr/>
              <p:nvPr/>
            </p:nvSpPr>
            <p:spPr>
              <a:xfrm>
                <a:off x="3429000" y="1295280"/>
                <a:ext cx="380880" cy="457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3429000" y="1828800"/>
                <a:ext cx="76320" cy="45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 flipH="1">
                <a:off x="3733920" y="1828800"/>
                <a:ext cx="75960" cy="45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3505320" y="2286000"/>
                <a:ext cx="76320" cy="763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25200" bIns="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3657600" y="2286000"/>
                <a:ext cx="76320" cy="763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25200" bIns="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3505320" y="2362320"/>
                <a:ext cx="228600" cy="76320"/>
              </a:xfrm>
              <a:prstGeom prst="round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25200" bIns="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3505320" y="1828800"/>
                <a:ext cx="228600" cy="457200"/>
              </a:xfrm>
              <a:prstGeom prst="round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0" name=""/>
            <p:cNvGrpSpPr/>
            <p:nvPr/>
          </p:nvGrpSpPr>
          <p:grpSpPr>
            <a:xfrm>
              <a:off x="974880" y="1427040"/>
              <a:ext cx="1177560" cy="1400400"/>
              <a:chOff x="974880" y="1427040"/>
              <a:chExt cx="1177560" cy="1400400"/>
            </a:xfrm>
          </p:grpSpPr>
          <p:sp>
            <p:nvSpPr>
              <p:cNvPr id="171" name=""/>
              <p:cNvSpPr/>
              <p:nvPr/>
            </p:nvSpPr>
            <p:spPr>
              <a:xfrm>
                <a:off x="1371600" y="1676520"/>
                <a:ext cx="0" cy="609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1371600" y="2286000"/>
                <a:ext cx="5335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flipH="1">
                <a:off x="1143000" y="2286000"/>
                <a:ext cx="228600" cy="304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 txBox="1"/>
              <p:nvPr/>
            </p:nvSpPr>
            <p:spPr>
              <a:xfrm>
                <a:off x="1190520" y="1427040"/>
                <a:ext cx="276120" cy="244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Y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 txBox="1"/>
              <p:nvPr/>
            </p:nvSpPr>
            <p:spPr>
              <a:xfrm>
                <a:off x="1876320" y="2189160"/>
                <a:ext cx="276120" cy="244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X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 txBox="1"/>
              <p:nvPr/>
            </p:nvSpPr>
            <p:spPr>
              <a:xfrm>
                <a:off x="974880" y="2583000"/>
                <a:ext cx="262080" cy="244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Z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7" name=""/>
            <p:cNvSpPr txBox="1"/>
            <p:nvPr/>
          </p:nvSpPr>
          <p:spPr>
            <a:xfrm>
              <a:off x="4632480" y="1440000"/>
              <a:ext cx="36684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ê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 txBox="1"/>
            <p:nvPr/>
          </p:nvSpPr>
          <p:spPr>
            <a:xfrm>
              <a:off x="4556160" y="1820880"/>
              <a:ext cx="44460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ronc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 txBox="1"/>
            <p:nvPr/>
          </p:nvSpPr>
          <p:spPr>
            <a:xfrm>
              <a:off x="4479840" y="2201760"/>
              <a:ext cx="48744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ain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 txBox="1"/>
            <p:nvPr/>
          </p:nvSpPr>
          <p:spPr>
            <a:xfrm>
              <a:off x="2422440" y="2278080"/>
              <a:ext cx="58572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anet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 txBox="1"/>
            <p:nvPr/>
          </p:nvSpPr>
          <p:spPr>
            <a:xfrm>
              <a:off x="2422440" y="1897200"/>
              <a:ext cx="39528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ra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895480" y="198108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048120" y="2438280"/>
              <a:ext cx="3045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 flipH="1">
              <a:off x="4038480" y="1523880"/>
              <a:ext cx="4572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3657600" y="1905120"/>
              <a:ext cx="7621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 flipH="1">
              <a:off x="3886200" y="2286000"/>
              <a:ext cx="4572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 txBox="1"/>
            <p:nvPr/>
          </p:nvSpPr>
          <p:spPr>
            <a:xfrm>
              <a:off x="517680" y="1744560"/>
              <a:ext cx="59364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ystèm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’axe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3017880" y="3840120"/>
            <a:ext cx="252252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atégorie de mouvement Buste-épaules-mai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094200" y="1935000"/>
            <a:ext cx="217656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atégorie de mouvement Buste-épaul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094200" y="182520"/>
            <a:ext cx="209880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atégorie de mouvement Buste-mai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212760" y="-110880"/>
            <a:ext cx="4621320" cy="1969200"/>
            <a:chOff x="212760" y="-110880"/>
            <a:chExt cx="4621320" cy="1969200"/>
          </a:xfrm>
        </p:grpSpPr>
        <p:sp>
          <p:nvSpPr>
            <p:cNvPr id="192" name=""/>
            <p:cNvSpPr/>
            <p:nvPr/>
          </p:nvSpPr>
          <p:spPr>
            <a:xfrm>
              <a:off x="1676520" y="533520"/>
              <a:ext cx="380880" cy="4572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752480" y="1066680"/>
              <a:ext cx="228600" cy="457200"/>
            </a:xfrm>
            <a:prstGeom prst="round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676520" y="1066680"/>
              <a:ext cx="75960" cy="457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flipH="1">
              <a:off x="1981080" y="1066680"/>
              <a:ext cx="76320" cy="457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752480" y="1523880"/>
              <a:ext cx="76320" cy="763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905120" y="1523880"/>
              <a:ext cx="76320" cy="763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752480" y="1600200"/>
              <a:ext cx="228600" cy="76320"/>
            </a:xfrm>
            <a:prstGeom prst="round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09480" y="685800"/>
              <a:ext cx="0" cy="60948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09480" y="129528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>
              <a:off x="380880" y="1295280"/>
              <a:ext cx="228600" cy="30492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 txBox="1"/>
            <p:nvPr/>
          </p:nvSpPr>
          <p:spPr>
            <a:xfrm>
              <a:off x="428760" y="436680"/>
              <a:ext cx="27612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 txBox="1"/>
            <p:nvPr/>
          </p:nvSpPr>
          <p:spPr>
            <a:xfrm>
              <a:off x="1114560" y="1198440"/>
              <a:ext cx="27612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X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 txBox="1"/>
            <p:nvPr/>
          </p:nvSpPr>
          <p:spPr>
            <a:xfrm>
              <a:off x="212760" y="1592280"/>
              <a:ext cx="26820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Z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99480" y="1638360"/>
              <a:ext cx="371880" cy="219960"/>
            </a:xfrm>
            <a:custGeom>
              <a:avLst/>
              <a:gdLst/>
              <a:ahLst/>
              <a:rect l="0" t="0" r="r" b="b"/>
              <a:pathLst>
                <a:path fill="none" w="1033" h="611">
                  <a:moveTo>
                    <a:pt x="558" y="0"/>
                  </a:moveTo>
                  <a:lnTo>
                    <a:pt x="0" y="303"/>
                  </a:lnTo>
                  <a:lnTo>
                    <a:pt x="0" y="303"/>
                  </a:lnTo>
                  <a:cubicBezTo>
                    <a:pt x="28" y="368"/>
                    <a:pt x="69" y="425"/>
                    <a:pt x="119" y="472"/>
                  </a:cubicBezTo>
                  <a:cubicBezTo>
                    <a:pt x="192" y="540"/>
                    <a:pt x="284" y="585"/>
                    <a:pt x="386" y="603"/>
                  </a:cubicBezTo>
                  <a:cubicBezTo>
                    <a:pt x="487" y="620"/>
                    <a:pt x="595" y="610"/>
                    <a:pt x="699" y="572"/>
                  </a:cubicBezTo>
                  <a:cubicBezTo>
                    <a:pt x="802" y="535"/>
                    <a:pt x="897" y="472"/>
                    <a:pt x="974" y="389"/>
                  </a:cubicBezTo>
                  <a:cubicBezTo>
                    <a:pt x="995" y="366"/>
                    <a:pt x="1015" y="342"/>
                    <a:pt x="1033" y="317"/>
                  </a:cubicBezTo>
                </a:path>
              </a:pathLst>
            </a:custGeom>
            <a:ln w="1260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081960" y="537480"/>
              <a:ext cx="384120" cy="461880"/>
            </a:xfrm>
            <a:custGeom>
              <a:avLst/>
              <a:gdLst/>
              <a:ahLst/>
              <a:rect l="0" t="0" r="r" b="b"/>
              <a:pathLst>
                <a:path w="1067" h="1283">
                  <a:moveTo>
                    <a:pt x="10" y="725"/>
                  </a:moveTo>
                  <a:lnTo>
                    <a:pt x="10" y="725"/>
                  </a:lnTo>
                  <a:cubicBezTo>
                    <a:pt x="10" y="727"/>
                    <a:pt x="11" y="729"/>
                    <a:pt x="11" y="731"/>
                  </a:cubicBezTo>
                  <a:cubicBezTo>
                    <a:pt x="29" y="842"/>
                    <a:pt x="70" y="946"/>
                    <a:pt x="131" y="1035"/>
                  </a:cubicBezTo>
                  <a:cubicBezTo>
                    <a:pt x="192" y="1123"/>
                    <a:pt x="271" y="1192"/>
                    <a:pt x="359" y="1235"/>
                  </a:cubicBezTo>
                  <a:cubicBezTo>
                    <a:pt x="447" y="1278"/>
                    <a:pt x="542" y="1293"/>
                    <a:pt x="634" y="1278"/>
                  </a:cubicBezTo>
                  <a:cubicBezTo>
                    <a:pt x="726" y="1263"/>
                    <a:pt x="811" y="1220"/>
                    <a:pt x="882" y="1152"/>
                  </a:cubicBezTo>
                  <a:cubicBezTo>
                    <a:pt x="953" y="1084"/>
                    <a:pt x="1006" y="994"/>
                    <a:pt x="1037" y="891"/>
                  </a:cubicBezTo>
                  <a:cubicBezTo>
                    <a:pt x="1068" y="788"/>
                    <a:pt x="1074" y="676"/>
                    <a:pt x="1057" y="566"/>
                  </a:cubicBezTo>
                  <a:cubicBezTo>
                    <a:pt x="1057" y="564"/>
                    <a:pt x="1056" y="561"/>
                    <a:pt x="1056" y="559"/>
                  </a:cubicBezTo>
                  <a:lnTo>
                    <a:pt x="1056" y="559"/>
                  </a:lnTo>
                  <a:cubicBezTo>
                    <a:pt x="1056" y="557"/>
                    <a:pt x="1055" y="555"/>
                    <a:pt x="1055" y="553"/>
                  </a:cubicBezTo>
                  <a:cubicBezTo>
                    <a:pt x="1037" y="442"/>
                    <a:pt x="996" y="338"/>
                    <a:pt x="935" y="249"/>
                  </a:cubicBezTo>
                  <a:cubicBezTo>
                    <a:pt x="874" y="161"/>
                    <a:pt x="795" y="92"/>
                    <a:pt x="707" y="49"/>
                  </a:cubicBezTo>
                  <a:cubicBezTo>
                    <a:pt x="619" y="6"/>
                    <a:pt x="524" y="-9"/>
                    <a:pt x="432" y="6"/>
                  </a:cubicBezTo>
                  <a:cubicBezTo>
                    <a:pt x="340" y="21"/>
                    <a:pt x="255" y="64"/>
                    <a:pt x="184" y="132"/>
                  </a:cubicBezTo>
                  <a:cubicBezTo>
                    <a:pt x="113" y="200"/>
                    <a:pt x="60" y="290"/>
                    <a:pt x="29" y="393"/>
                  </a:cubicBezTo>
                  <a:cubicBezTo>
                    <a:pt x="-2" y="496"/>
                    <a:pt x="-8" y="608"/>
                    <a:pt x="9" y="718"/>
                  </a:cubicBezTo>
                  <a:cubicBezTo>
                    <a:pt x="9" y="720"/>
                    <a:pt x="10" y="723"/>
                    <a:pt x="10" y="725"/>
                  </a:cubicBez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213000" y="1054080"/>
              <a:ext cx="286920" cy="476640"/>
            </a:xfrm>
            <a:custGeom>
              <a:avLst/>
              <a:gdLst/>
              <a:ahLst/>
              <a:rect l="0" t="0" r="r" b="b"/>
              <a:pathLst>
                <a:path w="797" h="1324">
                  <a:moveTo>
                    <a:pt x="508" y="1"/>
                  </a:moveTo>
                  <a:lnTo>
                    <a:pt x="508" y="1"/>
                  </a:lnTo>
                  <a:lnTo>
                    <a:pt x="508" y="1"/>
                  </a:lnTo>
                  <a:cubicBezTo>
                    <a:pt x="527" y="-2"/>
                    <a:pt x="545" y="0"/>
                    <a:pt x="562" y="7"/>
                  </a:cubicBezTo>
                  <a:cubicBezTo>
                    <a:pt x="580" y="13"/>
                    <a:pt x="595" y="24"/>
                    <a:pt x="607" y="39"/>
                  </a:cubicBezTo>
                  <a:cubicBezTo>
                    <a:pt x="618" y="53"/>
                    <a:pt x="626" y="70"/>
                    <a:pt x="629" y="88"/>
                  </a:cubicBezTo>
                  <a:cubicBezTo>
                    <a:pt x="629" y="89"/>
                    <a:pt x="629" y="89"/>
                    <a:pt x="629" y="89"/>
                  </a:cubicBezTo>
                  <a:lnTo>
                    <a:pt x="795" y="1135"/>
                  </a:lnTo>
                  <a:lnTo>
                    <a:pt x="795" y="1135"/>
                  </a:lnTo>
                  <a:lnTo>
                    <a:pt x="795" y="1136"/>
                  </a:lnTo>
                  <a:cubicBezTo>
                    <a:pt x="798" y="1154"/>
                    <a:pt x="796" y="1172"/>
                    <a:pt x="789" y="1190"/>
                  </a:cubicBezTo>
                  <a:cubicBezTo>
                    <a:pt x="783" y="1207"/>
                    <a:pt x="772" y="1222"/>
                    <a:pt x="757" y="1234"/>
                  </a:cubicBezTo>
                  <a:cubicBezTo>
                    <a:pt x="743" y="1245"/>
                    <a:pt x="726" y="1253"/>
                    <a:pt x="708" y="1256"/>
                  </a:cubicBezTo>
                  <a:cubicBezTo>
                    <a:pt x="707" y="1256"/>
                    <a:pt x="707" y="1256"/>
                    <a:pt x="707" y="1256"/>
                  </a:cubicBezTo>
                  <a:lnTo>
                    <a:pt x="287" y="1322"/>
                  </a:lnTo>
                  <a:lnTo>
                    <a:pt x="287" y="1322"/>
                  </a:lnTo>
                  <a:lnTo>
                    <a:pt x="287" y="1322"/>
                  </a:lnTo>
                  <a:cubicBezTo>
                    <a:pt x="268" y="1325"/>
                    <a:pt x="250" y="1323"/>
                    <a:pt x="232" y="1316"/>
                  </a:cubicBezTo>
                  <a:cubicBezTo>
                    <a:pt x="215" y="1310"/>
                    <a:pt x="200" y="1299"/>
                    <a:pt x="188" y="1284"/>
                  </a:cubicBezTo>
                  <a:cubicBezTo>
                    <a:pt x="177" y="1270"/>
                    <a:pt x="169" y="1253"/>
                    <a:pt x="166" y="1235"/>
                  </a:cubicBezTo>
                  <a:cubicBezTo>
                    <a:pt x="166" y="1234"/>
                    <a:pt x="166" y="1234"/>
                    <a:pt x="166" y="1234"/>
                  </a:cubicBezTo>
                  <a:lnTo>
                    <a:pt x="1" y="188"/>
                  </a:lnTo>
                  <a:lnTo>
                    <a:pt x="1" y="188"/>
                  </a:lnTo>
                  <a:lnTo>
                    <a:pt x="1" y="187"/>
                  </a:lnTo>
                  <a:cubicBezTo>
                    <a:pt x="-2" y="169"/>
                    <a:pt x="0" y="151"/>
                    <a:pt x="7" y="133"/>
                  </a:cubicBezTo>
                  <a:cubicBezTo>
                    <a:pt x="13" y="116"/>
                    <a:pt x="24" y="101"/>
                    <a:pt x="39" y="89"/>
                  </a:cubicBezTo>
                  <a:cubicBezTo>
                    <a:pt x="53" y="78"/>
                    <a:pt x="70" y="70"/>
                    <a:pt x="88" y="67"/>
                  </a:cubicBezTo>
                  <a:cubicBezTo>
                    <a:pt x="89" y="67"/>
                    <a:pt x="89" y="67"/>
                    <a:pt x="89" y="67"/>
                  </a:cubicBezTo>
                  <a:lnTo>
                    <a:pt x="508" y="1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452480" y="535320"/>
              <a:ext cx="381600" cy="459000"/>
            </a:xfrm>
            <a:custGeom>
              <a:avLst/>
              <a:gdLst/>
              <a:ahLst/>
              <a:rect l="0" t="0" r="r" b="b"/>
              <a:pathLst>
                <a:path w="1060" h="1275">
                  <a:moveTo>
                    <a:pt x="6" y="573"/>
                  </a:moveTo>
                  <a:lnTo>
                    <a:pt x="6" y="573"/>
                  </a:lnTo>
                  <a:lnTo>
                    <a:pt x="6" y="573"/>
                  </a:lnTo>
                  <a:cubicBezTo>
                    <a:pt x="-8" y="685"/>
                    <a:pt x="3" y="797"/>
                    <a:pt x="37" y="899"/>
                  </a:cubicBezTo>
                  <a:cubicBezTo>
                    <a:pt x="71" y="1001"/>
                    <a:pt x="128" y="1089"/>
                    <a:pt x="201" y="1155"/>
                  </a:cubicBezTo>
                  <a:cubicBezTo>
                    <a:pt x="273" y="1220"/>
                    <a:pt x="360" y="1261"/>
                    <a:pt x="452" y="1272"/>
                  </a:cubicBezTo>
                  <a:cubicBezTo>
                    <a:pt x="544" y="1283"/>
                    <a:pt x="638" y="1265"/>
                    <a:pt x="725" y="1219"/>
                  </a:cubicBezTo>
                  <a:cubicBezTo>
                    <a:pt x="811" y="1173"/>
                    <a:pt x="887" y="1101"/>
                    <a:pt x="945" y="1010"/>
                  </a:cubicBezTo>
                  <a:cubicBezTo>
                    <a:pt x="1003" y="920"/>
                    <a:pt x="1040" y="813"/>
                    <a:pt x="1054" y="702"/>
                  </a:cubicBezTo>
                  <a:lnTo>
                    <a:pt x="1054" y="702"/>
                  </a:lnTo>
                  <a:lnTo>
                    <a:pt x="1054" y="702"/>
                  </a:lnTo>
                  <a:cubicBezTo>
                    <a:pt x="1068" y="590"/>
                    <a:pt x="1057" y="478"/>
                    <a:pt x="1023" y="376"/>
                  </a:cubicBezTo>
                  <a:cubicBezTo>
                    <a:pt x="989" y="274"/>
                    <a:pt x="932" y="186"/>
                    <a:pt x="859" y="120"/>
                  </a:cubicBezTo>
                  <a:cubicBezTo>
                    <a:pt x="787" y="55"/>
                    <a:pt x="700" y="14"/>
                    <a:pt x="608" y="3"/>
                  </a:cubicBezTo>
                  <a:cubicBezTo>
                    <a:pt x="516" y="-8"/>
                    <a:pt x="422" y="10"/>
                    <a:pt x="335" y="56"/>
                  </a:cubicBezTo>
                  <a:cubicBezTo>
                    <a:pt x="249" y="102"/>
                    <a:pt x="173" y="174"/>
                    <a:pt x="115" y="265"/>
                  </a:cubicBezTo>
                  <a:cubicBezTo>
                    <a:pt x="57" y="355"/>
                    <a:pt x="20" y="462"/>
                    <a:pt x="6" y="573"/>
                  </a:cubicBez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441320" y="1057320"/>
              <a:ext cx="274680" cy="473400"/>
            </a:xfrm>
            <a:custGeom>
              <a:avLst/>
              <a:gdLst/>
              <a:ahLst/>
              <a:rect l="0" t="0" r="r" b="b"/>
              <a:pathLst>
                <a:path w="763" h="1315">
                  <a:moveTo>
                    <a:pt x="670" y="53"/>
                  </a:moveTo>
                  <a:lnTo>
                    <a:pt x="670" y="53"/>
                  </a:lnTo>
                  <a:lnTo>
                    <a:pt x="671" y="53"/>
                  </a:lnTo>
                  <a:cubicBezTo>
                    <a:pt x="690" y="56"/>
                    <a:pt x="707" y="63"/>
                    <a:pt x="722" y="74"/>
                  </a:cubicBezTo>
                  <a:cubicBezTo>
                    <a:pt x="737" y="85"/>
                    <a:pt x="748" y="100"/>
                    <a:pt x="756" y="117"/>
                  </a:cubicBezTo>
                  <a:cubicBezTo>
                    <a:pt x="763" y="134"/>
                    <a:pt x="765" y="152"/>
                    <a:pt x="763" y="170"/>
                  </a:cubicBezTo>
                  <a:cubicBezTo>
                    <a:pt x="763" y="171"/>
                    <a:pt x="763" y="171"/>
                    <a:pt x="763" y="171"/>
                  </a:cubicBezTo>
                  <a:lnTo>
                    <a:pt x="634" y="1223"/>
                  </a:lnTo>
                  <a:lnTo>
                    <a:pt x="634" y="1223"/>
                  </a:lnTo>
                  <a:lnTo>
                    <a:pt x="634" y="1224"/>
                  </a:lnTo>
                  <a:cubicBezTo>
                    <a:pt x="631" y="1242"/>
                    <a:pt x="624" y="1259"/>
                    <a:pt x="613" y="1274"/>
                  </a:cubicBezTo>
                  <a:cubicBezTo>
                    <a:pt x="602" y="1289"/>
                    <a:pt x="587" y="1300"/>
                    <a:pt x="570" y="1308"/>
                  </a:cubicBezTo>
                  <a:cubicBezTo>
                    <a:pt x="553" y="1315"/>
                    <a:pt x="535" y="1317"/>
                    <a:pt x="516" y="1315"/>
                  </a:cubicBezTo>
                  <a:lnTo>
                    <a:pt x="515" y="1315"/>
                  </a:lnTo>
                  <a:lnTo>
                    <a:pt x="93" y="1264"/>
                  </a:lnTo>
                  <a:lnTo>
                    <a:pt x="93" y="1264"/>
                  </a:lnTo>
                  <a:lnTo>
                    <a:pt x="93" y="1264"/>
                  </a:lnTo>
                  <a:cubicBezTo>
                    <a:pt x="74" y="1262"/>
                    <a:pt x="57" y="1255"/>
                    <a:pt x="42" y="1243"/>
                  </a:cubicBezTo>
                  <a:cubicBezTo>
                    <a:pt x="27" y="1232"/>
                    <a:pt x="16" y="1218"/>
                    <a:pt x="8" y="1201"/>
                  </a:cubicBezTo>
                  <a:cubicBezTo>
                    <a:pt x="1" y="1184"/>
                    <a:pt x="-1" y="1165"/>
                    <a:pt x="1" y="1147"/>
                  </a:cubicBezTo>
                  <a:cubicBezTo>
                    <a:pt x="1" y="1146"/>
                    <a:pt x="1" y="1146"/>
                    <a:pt x="1" y="1146"/>
                  </a:cubicBezTo>
                  <a:lnTo>
                    <a:pt x="130" y="93"/>
                  </a:lnTo>
                  <a:lnTo>
                    <a:pt x="130" y="93"/>
                  </a:lnTo>
                  <a:lnTo>
                    <a:pt x="130" y="92"/>
                  </a:lnTo>
                  <a:cubicBezTo>
                    <a:pt x="133" y="74"/>
                    <a:pt x="140" y="57"/>
                    <a:pt x="151" y="42"/>
                  </a:cubicBezTo>
                  <a:cubicBezTo>
                    <a:pt x="162" y="27"/>
                    <a:pt x="177" y="16"/>
                    <a:pt x="194" y="8"/>
                  </a:cubicBezTo>
                  <a:cubicBezTo>
                    <a:pt x="211" y="1"/>
                    <a:pt x="229" y="-1"/>
                    <a:pt x="248" y="1"/>
                  </a:cubicBezTo>
                  <a:lnTo>
                    <a:pt x="249" y="1"/>
                  </a:lnTo>
                  <a:lnTo>
                    <a:pt x="670" y="53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426320" y="-110880"/>
              <a:ext cx="595440" cy="415800"/>
            </a:xfrm>
            <a:custGeom>
              <a:avLst/>
              <a:gdLst/>
              <a:ahLst/>
              <a:rect l="0" t="0" r="r" b="b"/>
              <a:pathLst>
                <a:path fill="none" w="1654" h="1155">
                  <a:moveTo>
                    <a:pt x="695" y="1155"/>
                  </a:moveTo>
                  <a:lnTo>
                    <a:pt x="1654" y="321"/>
                  </a:lnTo>
                  <a:lnTo>
                    <a:pt x="1654" y="321"/>
                  </a:lnTo>
                  <a:lnTo>
                    <a:pt x="1654" y="321"/>
                  </a:lnTo>
                  <a:cubicBezTo>
                    <a:pt x="1532" y="181"/>
                    <a:pt x="1368" y="82"/>
                    <a:pt x="1178" y="33"/>
                  </a:cubicBezTo>
                  <a:cubicBezTo>
                    <a:pt x="988" y="-15"/>
                    <a:pt x="779" y="-11"/>
                    <a:pt x="572" y="46"/>
                  </a:cubicBezTo>
                  <a:cubicBezTo>
                    <a:pt x="366" y="103"/>
                    <a:pt x="168" y="209"/>
                    <a:pt x="0" y="355"/>
                  </a:cubicBezTo>
                </a:path>
              </a:pathLst>
            </a:custGeom>
            <a:ln w="1260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1" name=""/>
            <p:cNvGrpSpPr/>
            <p:nvPr/>
          </p:nvGrpSpPr>
          <p:grpSpPr>
            <a:xfrm>
              <a:off x="3200400" y="1066680"/>
              <a:ext cx="380880" cy="639720"/>
              <a:chOff x="3200400" y="1066680"/>
              <a:chExt cx="380880" cy="639720"/>
            </a:xfrm>
          </p:grpSpPr>
          <p:sp>
            <p:nvSpPr>
              <p:cNvPr id="212" name=""/>
              <p:cNvSpPr/>
              <p:nvPr/>
            </p:nvSpPr>
            <p:spPr>
              <a:xfrm>
                <a:off x="3200400" y="1066680"/>
                <a:ext cx="76320" cy="45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flipH="1">
                <a:off x="3505320" y="1143000"/>
                <a:ext cx="75960" cy="45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3276720" y="1523880"/>
                <a:ext cx="76320" cy="7632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3429000" y="1600200"/>
                <a:ext cx="76320" cy="7632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3282840" y="1570320"/>
                <a:ext cx="216720" cy="136080"/>
              </a:xfrm>
              <a:custGeom>
                <a:avLst/>
                <a:gdLst/>
                <a:ahLst/>
                <a:rect l="0" t="0" r="r" b="b"/>
                <a:pathLst>
                  <a:path w="602" h="378">
                    <a:moveTo>
                      <a:pt x="538" y="174"/>
                    </a:moveTo>
                    <a:lnTo>
                      <a:pt x="538" y="174"/>
                    </a:lnTo>
                    <a:cubicBezTo>
                      <a:pt x="538" y="175"/>
                      <a:pt x="538" y="175"/>
                      <a:pt x="539" y="175"/>
                    </a:cubicBezTo>
                    <a:cubicBezTo>
                      <a:pt x="556" y="182"/>
                      <a:pt x="570" y="194"/>
                      <a:pt x="582" y="208"/>
                    </a:cubicBezTo>
                    <a:cubicBezTo>
                      <a:pt x="593" y="223"/>
                      <a:pt x="600" y="241"/>
                      <a:pt x="602" y="259"/>
                    </a:cubicBezTo>
                    <a:cubicBezTo>
                      <a:pt x="604" y="277"/>
                      <a:pt x="602" y="296"/>
                      <a:pt x="594" y="313"/>
                    </a:cubicBezTo>
                    <a:lnTo>
                      <a:pt x="594" y="314"/>
                    </a:lnTo>
                    <a:lnTo>
                      <a:pt x="594" y="314"/>
                    </a:lnTo>
                    <a:lnTo>
                      <a:pt x="594" y="314"/>
                    </a:lnTo>
                    <a:lnTo>
                      <a:pt x="594" y="314"/>
                    </a:lnTo>
                    <a:cubicBezTo>
                      <a:pt x="587" y="331"/>
                      <a:pt x="575" y="346"/>
                      <a:pt x="560" y="357"/>
                    </a:cubicBezTo>
                    <a:cubicBezTo>
                      <a:pt x="546" y="368"/>
                      <a:pt x="528" y="375"/>
                      <a:pt x="510" y="378"/>
                    </a:cubicBezTo>
                    <a:cubicBezTo>
                      <a:pt x="491" y="380"/>
                      <a:pt x="473" y="377"/>
                      <a:pt x="456" y="370"/>
                    </a:cubicBezTo>
                    <a:lnTo>
                      <a:pt x="456" y="370"/>
                    </a:lnTo>
                    <a:lnTo>
                      <a:pt x="65" y="205"/>
                    </a:lnTo>
                    <a:lnTo>
                      <a:pt x="65" y="205"/>
                    </a:lnTo>
                    <a:cubicBezTo>
                      <a:pt x="65" y="204"/>
                      <a:pt x="65" y="204"/>
                      <a:pt x="64" y="204"/>
                    </a:cubicBezTo>
                    <a:cubicBezTo>
                      <a:pt x="47" y="197"/>
                      <a:pt x="33" y="185"/>
                      <a:pt x="21" y="171"/>
                    </a:cubicBezTo>
                    <a:cubicBezTo>
                      <a:pt x="10" y="156"/>
                      <a:pt x="3" y="138"/>
                      <a:pt x="1" y="120"/>
                    </a:cubicBezTo>
                    <a:cubicBezTo>
                      <a:pt x="-1" y="102"/>
                      <a:pt x="1" y="83"/>
                      <a:pt x="9" y="66"/>
                    </a:cubicBezTo>
                    <a:lnTo>
                      <a:pt x="9" y="65"/>
                    </a:lnTo>
                    <a:lnTo>
                      <a:pt x="9" y="65"/>
                    </a:lnTo>
                    <a:lnTo>
                      <a:pt x="9" y="65"/>
                    </a:lnTo>
                    <a:lnTo>
                      <a:pt x="9" y="64"/>
                    </a:lnTo>
                    <a:cubicBezTo>
                      <a:pt x="17" y="47"/>
                      <a:pt x="28" y="33"/>
                      <a:pt x="43" y="21"/>
                    </a:cubicBezTo>
                    <a:cubicBezTo>
                      <a:pt x="58" y="10"/>
                      <a:pt x="75" y="3"/>
                      <a:pt x="93" y="1"/>
                    </a:cubicBezTo>
                    <a:cubicBezTo>
                      <a:pt x="112" y="-1"/>
                      <a:pt x="130" y="1"/>
                      <a:pt x="147" y="9"/>
                    </a:cubicBezTo>
                    <a:cubicBezTo>
                      <a:pt x="148" y="9"/>
                      <a:pt x="148" y="9"/>
                      <a:pt x="148" y="9"/>
                    </a:cubicBezTo>
                    <a:lnTo>
                      <a:pt x="538" y="174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7" name=""/>
            <p:cNvGrpSpPr/>
            <p:nvPr/>
          </p:nvGrpSpPr>
          <p:grpSpPr>
            <a:xfrm>
              <a:off x="4343400" y="1066680"/>
              <a:ext cx="380880" cy="637560"/>
              <a:chOff x="4343400" y="1066680"/>
              <a:chExt cx="380880" cy="637560"/>
            </a:xfrm>
          </p:grpSpPr>
          <p:sp>
            <p:nvSpPr>
              <p:cNvPr id="218" name=""/>
              <p:cNvSpPr/>
              <p:nvPr/>
            </p:nvSpPr>
            <p:spPr>
              <a:xfrm>
                <a:off x="4343400" y="1143000"/>
                <a:ext cx="76320" cy="45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flipH="1">
                <a:off x="4648320" y="1066680"/>
                <a:ext cx="75960" cy="45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4419720" y="1600200"/>
                <a:ext cx="76320" cy="7632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572000" y="1523880"/>
                <a:ext cx="76320" cy="7632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4424760" y="1572840"/>
                <a:ext cx="219240" cy="131400"/>
              </a:xfrm>
              <a:custGeom>
                <a:avLst/>
                <a:gdLst/>
                <a:ahLst/>
                <a:rect l="0" t="0" r="r" b="b"/>
                <a:pathLst>
                  <a:path w="609" h="365">
                    <a:moveTo>
                      <a:pt x="465" y="7"/>
                    </a:moveTo>
                    <a:lnTo>
                      <a:pt x="465" y="7"/>
                    </a:lnTo>
                    <a:lnTo>
                      <a:pt x="465" y="7"/>
                    </a:lnTo>
                    <a:cubicBezTo>
                      <a:pt x="482" y="0"/>
                      <a:pt x="501" y="-2"/>
                      <a:pt x="519" y="1"/>
                    </a:cubicBezTo>
                    <a:cubicBezTo>
                      <a:pt x="537" y="4"/>
                      <a:pt x="555" y="12"/>
                      <a:pt x="569" y="23"/>
                    </a:cubicBezTo>
                    <a:cubicBezTo>
                      <a:pt x="583" y="35"/>
                      <a:pt x="594" y="50"/>
                      <a:pt x="601" y="67"/>
                    </a:cubicBezTo>
                    <a:lnTo>
                      <a:pt x="601" y="67"/>
                    </a:lnTo>
                    <a:lnTo>
                      <a:pt x="601" y="67"/>
                    </a:lnTo>
                    <a:cubicBezTo>
                      <a:pt x="601" y="68"/>
                      <a:pt x="601" y="68"/>
                      <a:pt x="601" y="68"/>
                    </a:cubicBezTo>
                    <a:cubicBezTo>
                      <a:pt x="608" y="85"/>
                      <a:pt x="610" y="104"/>
                      <a:pt x="607" y="122"/>
                    </a:cubicBezTo>
                    <a:cubicBezTo>
                      <a:pt x="604" y="141"/>
                      <a:pt x="597" y="158"/>
                      <a:pt x="585" y="172"/>
                    </a:cubicBezTo>
                    <a:cubicBezTo>
                      <a:pt x="573" y="187"/>
                      <a:pt x="558" y="198"/>
                      <a:pt x="541" y="204"/>
                    </a:cubicBezTo>
                    <a:cubicBezTo>
                      <a:pt x="540" y="204"/>
                      <a:pt x="540" y="204"/>
                      <a:pt x="540" y="205"/>
                    </a:cubicBezTo>
                    <a:lnTo>
                      <a:pt x="143" y="357"/>
                    </a:lnTo>
                    <a:lnTo>
                      <a:pt x="143" y="357"/>
                    </a:lnTo>
                    <a:lnTo>
                      <a:pt x="143" y="357"/>
                    </a:lnTo>
                    <a:cubicBezTo>
                      <a:pt x="126" y="364"/>
                      <a:pt x="107" y="366"/>
                      <a:pt x="89" y="363"/>
                    </a:cubicBezTo>
                    <a:cubicBezTo>
                      <a:pt x="71" y="360"/>
                      <a:pt x="54" y="352"/>
                      <a:pt x="39" y="341"/>
                    </a:cubicBezTo>
                    <a:cubicBezTo>
                      <a:pt x="25" y="329"/>
                      <a:pt x="14" y="314"/>
                      <a:pt x="7" y="296"/>
                    </a:cubicBezTo>
                    <a:lnTo>
                      <a:pt x="7" y="296"/>
                    </a:lnTo>
                    <a:lnTo>
                      <a:pt x="7" y="296"/>
                    </a:lnTo>
                    <a:lnTo>
                      <a:pt x="7" y="296"/>
                    </a:lnTo>
                    <a:cubicBezTo>
                      <a:pt x="7" y="295"/>
                      <a:pt x="7" y="295"/>
                      <a:pt x="7" y="295"/>
                    </a:cubicBezTo>
                    <a:cubicBezTo>
                      <a:pt x="0" y="277"/>
                      <a:pt x="-2" y="259"/>
                      <a:pt x="1" y="240"/>
                    </a:cubicBezTo>
                    <a:cubicBezTo>
                      <a:pt x="4" y="222"/>
                      <a:pt x="11" y="205"/>
                      <a:pt x="23" y="191"/>
                    </a:cubicBezTo>
                    <a:cubicBezTo>
                      <a:pt x="35" y="176"/>
                      <a:pt x="50" y="165"/>
                      <a:pt x="67" y="158"/>
                    </a:cubicBezTo>
                    <a:lnTo>
                      <a:pt x="67" y="158"/>
                    </a:lnTo>
                    <a:lnTo>
                      <a:pt x="465" y="7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23" name=""/>
          <p:cNvGrpSpPr/>
          <p:nvPr/>
        </p:nvGrpSpPr>
        <p:grpSpPr>
          <a:xfrm>
            <a:off x="212760" y="1717920"/>
            <a:ext cx="4773600" cy="1947600"/>
            <a:chOff x="212760" y="1717920"/>
            <a:chExt cx="4773600" cy="1947600"/>
          </a:xfrm>
        </p:grpSpPr>
        <p:sp>
          <p:nvSpPr>
            <p:cNvPr id="224" name=""/>
            <p:cNvSpPr/>
            <p:nvPr/>
          </p:nvSpPr>
          <p:spPr>
            <a:xfrm>
              <a:off x="1676520" y="2362320"/>
              <a:ext cx="380880" cy="4572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752480" y="2895480"/>
              <a:ext cx="228600" cy="457200"/>
            </a:xfrm>
            <a:prstGeom prst="round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676520" y="2895480"/>
              <a:ext cx="75960" cy="45720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 flipH="1">
              <a:off x="1981080" y="2895480"/>
              <a:ext cx="76320" cy="45720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752480" y="3352680"/>
              <a:ext cx="76320" cy="76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905120" y="3352680"/>
              <a:ext cx="76320" cy="76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752480" y="3429000"/>
              <a:ext cx="228600" cy="76320"/>
            </a:xfrm>
            <a:prstGeom prst="round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09480" y="2514600"/>
              <a:ext cx="0" cy="6094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09480" y="3124080"/>
              <a:ext cx="53352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380880" y="3124080"/>
              <a:ext cx="228600" cy="30492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 txBox="1"/>
            <p:nvPr/>
          </p:nvSpPr>
          <p:spPr>
            <a:xfrm>
              <a:off x="428760" y="2265480"/>
              <a:ext cx="27612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 txBox="1"/>
            <p:nvPr/>
          </p:nvSpPr>
          <p:spPr>
            <a:xfrm>
              <a:off x="1114560" y="3027240"/>
              <a:ext cx="27612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X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 txBox="1"/>
            <p:nvPr/>
          </p:nvSpPr>
          <p:spPr>
            <a:xfrm>
              <a:off x="212760" y="3421080"/>
              <a:ext cx="26820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Z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426320" y="1717920"/>
              <a:ext cx="595440" cy="415800"/>
            </a:xfrm>
            <a:custGeom>
              <a:avLst/>
              <a:gdLst/>
              <a:ahLst/>
              <a:rect l="0" t="0" r="r" b="b"/>
              <a:pathLst>
                <a:path fill="none" w="1654" h="1155">
                  <a:moveTo>
                    <a:pt x="695" y="1155"/>
                  </a:moveTo>
                  <a:lnTo>
                    <a:pt x="1654" y="321"/>
                  </a:lnTo>
                  <a:lnTo>
                    <a:pt x="1654" y="321"/>
                  </a:lnTo>
                  <a:lnTo>
                    <a:pt x="1654" y="321"/>
                  </a:lnTo>
                  <a:cubicBezTo>
                    <a:pt x="1532" y="181"/>
                    <a:pt x="1368" y="82"/>
                    <a:pt x="1178" y="33"/>
                  </a:cubicBezTo>
                  <a:cubicBezTo>
                    <a:pt x="988" y="-15"/>
                    <a:pt x="779" y="-11"/>
                    <a:pt x="572" y="46"/>
                  </a:cubicBezTo>
                  <a:cubicBezTo>
                    <a:pt x="366" y="103"/>
                    <a:pt x="168" y="209"/>
                    <a:pt x="0" y="355"/>
                  </a:cubicBezTo>
                </a:path>
              </a:pathLst>
            </a:custGeom>
            <a:ln w="1260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234240" y="2289960"/>
              <a:ext cx="384120" cy="461880"/>
            </a:xfrm>
            <a:custGeom>
              <a:avLst/>
              <a:gdLst/>
              <a:ahLst/>
              <a:rect l="0" t="0" r="r" b="b"/>
              <a:pathLst>
                <a:path w="1067" h="1283">
                  <a:moveTo>
                    <a:pt x="10" y="725"/>
                  </a:moveTo>
                  <a:lnTo>
                    <a:pt x="10" y="725"/>
                  </a:lnTo>
                  <a:cubicBezTo>
                    <a:pt x="10" y="727"/>
                    <a:pt x="11" y="729"/>
                    <a:pt x="11" y="731"/>
                  </a:cubicBezTo>
                  <a:cubicBezTo>
                    <a:pt x="29" y="842"/>
                    <a:pt x="70" y="946"/>
                    <a:pt x="131" y="1035"/>
                  </a:cubicBezTo>
                  <a:cubicBezTo>
                    <a:pt x="192" y="1123"/>
                    <a:pt x="271" y="1192"/>
                    <a:pt x="359" y="1235"/>
                  </a:cubicBezTo>
                  <a:cubicBezTo>
                    <a:pt x="447" y="1278"/>
                    <a:pt x="542" y="1293"/>
                    <a:pt x="634" y="1278"/>
                  </a:cubicBezTo>
                  <a:cubicBezTo>
                    <a:pt x="726" y="1263"/>
                    <a:pt x="811" y="1220"/>
                    <a:pt x="882" y="1152"/>
                  </a:cubicBezTo>
                  <a:cubicBezTo>
                    <a:pt x="953" y="1084"/>
                    <a:pt x="1006" y="994"/>
                    <a:pt x="1037" y="891"/>
                  </a:cubicBezTo>
                  <a:cubicBezTo>
                    <a:pt x="1068" y="788"/>
                    <a:pt x="1074" y="676"/>
                    <a:pt x="1057" y="566"/>
                  </a:cubicBezTo>
                  <a:cubicBezTo>
                    <a:pt x="1057" y="564"/>
                    <a:pt x="1056" y="561"/>
                    <a:pt x="1056" y="559"/>
                  </a:cubicBezTo>
                  <a:lnTo>
                    <a:pt x="1056" y="559"/>
                  </a:lnTo>
                  <a:cubicBezTo>
                    <a:pt x="1056" y="557"/>
                    <a:pt x="1055" y="555"/>
                    <a:pt x="1055" y="553"/>
                  </a:cubicBezTo>
                  <a:cubicBezTo>
                    <a:pt x="1037" y="442"/>
                    <a:pt x="996" y="338"/>
                    <a:pt x="935" y="249"/>
                  </a:cubicBezTo>
                  <a:cubicBezTo>
                    <a:pt x="874" y="161"/>
                    <a:pt x="795" y="92"/>
                    <a:pt x="707" y="49"/>
                  </a:cubicBezTo>
                  <a:cubicBezTo>
                    <a:pt x="619" y="6"/>
                    <a:pt x="524" y="-9"/>
                    <a:pt x="432" y="6"/>
                  </a:cubicBezTo>
                  <a:cubicBezTo>
                    <a:pt x="340" y="21"/>
                    <a:pt x="255" y="64"/>
                    <a:pt x="184" y="132"/>
                  </a:cubicBezTo>
                  <a:cubicBezTo>
                    <a:pt x="113" y="200"/>
                    <a:pt x="60" y="290"/>
                    <a:pt x="29" y="393"/>
                  </a:cubicBezTo>
                  <a:cubicBezTo>
                    <a:pt x="-2" y="496"/>
                    <a:pt x="-8" y="608"/>
                    <a:pt x="9" y="718"/>
                  </a:cubicBezTo>
                  <a:cubicBezTo>
                    <a:pt x="9" y="720"/>
                    <a:pt x="10" y="723"/>
                    <a:pt x="10" y="725"/>
                  </a:cubicBez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365280" y="2806560"/>
              <a:ext cx="286920" cy="476640"/>
            </a:xfrm>
            <a:custGeom>
              <a:avLst/>
              <a:gdLst/>
              <a:ahLst/>
              <a:rect l="0" t="0" r="r" b="b"/>
              <a:pathLst>
                <a:path w="797" h="1324">
                  <a:moveTo>
                    <a:pt x="508" y="1"/>
                  </a:moveTo>
                  <a:lnTo>
                    <a:pt x="508" y="1"/>
                  </a:lnTo>
                  <a:lnTo>
                    <a:pt x="508" y="1"/>
                  </a:lnTo>
                  <a:cubicBezTo>
                    <a:pt x="527" y="-2"/>
                    <a:pt x="545" y="0"/>
                    <a:pt x="562" y="7"/>
                  </a:cubicBezTo>
                  <a:cubicBezTo>
                    <a:pt x="580" y="13"/>
                    <a:pt x="595" y="24"/>
                    <a:pt x="607" y="39"/>
                  </a:cubicBezTo>
                  <a:cubicBezTo>
                    <a:pt x="618" y="53"/>
                    <a:pt x="626" y="70"/>
                    <a:pt x="629" y="88"/>
                  </a:cubicBezTo>
                  <a:cubicBezTo>
                    <a:pt x="629" y="89"/>
                    <a:pt x="629" y="89"/>
                    <a:pt x="629" y="89"/>
                  </a:cubicBezTo>
                  <a:lnTo>
                    <a:pt x="795" y="1135"/>
                  </a:lnTo>
                  <a:lnTo>
                    <a:pt x="795" y="1135"/>
                  </a:lnTo>
                  <a:lnTo>
                    <a:pt x="795" y="1136"/>
                  </a:lnTo>
                  <a:cubicBezTo>
                    <a:pt x="798" y="1154"/>
                    <a:pt x="796" y="1172"/>
                    <a:pt x="789" y="1190"/>
                  </a:cubicBezTo>
                  <a:cubicBezTo>
                    <a:pt x="783" y="1207"/>
                    <a:pt x="772" y="1222"/>
                    <a:pt x="757" y="1234"/>
                  </a:cubicBezTo>
                  <a:cubicBezTo>
                    <a:pt x="743" y="1245"/>
                    <a:pt x="726" y="1253"/>
                    <a:pt x="708" y="1256"/>
                  </a:cubicBezTo>
                  <a:cubicBezTo>
                    <a:pt x="707" y="1256"/>
                    <a:pt x="707" y="1256"/>
                    <a:pt x="707" y="1256"/>
                  </a:cubicBezTo>
                  <a:lnTo>
                    <a:pt x="287" y="1322"/>
                  </a:lnTo>
                  <a:lnTo>
                    <a:pt x="287" y="1322"/>
                  </a:lnTo>
                  <a:lnTo>
                    <a:pt x="287" y="1322"/>
                  </a:lnTo>
                  <a:cubicBezTo>
                    <a:pt x="268" y="1325"/>
                    <a:pt x="250" y="1323"/>
                    <a:pt x="232" y="1316"/>
                  </a:cubicBezTo>
                  <a:cubicBezTo>
                    <a:pt x="215" y="1310"/>
                    <a:pt x="200" y="1299"/>
                    <a:pt x="188" y="1284"/>
                  </a:cubicBezTo>
                  <a:cubicBezTo>
                    <a:pt x="177" y="1270"/>
                    <a:pt x="169" y="1253"/>
                    <a:pt x="166" y="1235"/>
                  </a:cubicBezTo>
                  <a:cubicBezTo>
                    <a:pt x="166" y="1234"/>
                    <a:pt x="166" y="1234"/>
                    <a:pt x="166" y="1234"/>
                  </a:cubicBezTo>
                  <a:lnTo>
                    <a:pt x="1" y="188"/>
                  </a:lnTo>
                  <a:lnTo>
                    <a:pt x="1" y="188"/>
                  </a:lnTo>
                  <a:lnTo>
                    <a:pt x="1" y="187"/>
                  </a:lnTo>
                  <a:cubicBezTo>
                    <a:pt x="-2" y="169"/>
                    <a:pt x="0" y="151"/>
                    <a:pt x="7" y="133"/>
                  </a:cubicBezTo>
                  <a:cubicBezTo>
                    <a:pt x="13" y="116"/>
                    <a:pt x="24" y="101"/>
                    <a:pt x="39" y="89"/>
                  </a:cubicBezTo>
                  <a:cubicBezTo>
                    <a:pt x="53" y="78"/>
                    <a:pt x="70" y="70"/>
                    <a:pt x="88" y="67"/>
                  </a:cubicBezTo>
                  <a:cubicBezTo>
                    <a:pt x="89" y="67"/>
                    <a:pt x="89" y="67"/>
                    <a:pt x="89" y="67"/>
                  </a:cubicBezTo>
                  <a:lnTo>
                    <a:pt x="508" y="1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604760" y="2288160"/>
              <a:ext cx="381600" cy="458640"/>
            </a:xfrm>
            <a:custGeom>
              <a:avLst/>
              <a:gdLst/>
              <a:ahLst/>
              <a:rect l="0" t="0" r="r" b="b"/>
              <a:pathLst>
                <a:path w="1060" h="1274">
                  <a:moveTo>
                    <a:pt x="6" y="572"/>
                  </a:moveTo>
                  <a:lnTo>
                    <a:pt x="6" y="572"/>
                  </a:lnTo>
                  <a:cubicBezTo>
                    <a:pt x="6" y="573"/>
                    <a:pt x="6" y="573"/>
                    <a:pt x="6" y="573"/>
                  </a:cubicBezTo>
                  <a:cubicBezTo>
                    <a:pt x="-8" y="684"/>
                    <a:pt x="3" y="796"/>
                    <a:pt x="37" y="898"/>
                  </a:cubicBezTo>
                  <a:cubicBezTo>
                    <a:pt x="71" y="1000"/>
                    <a:pt x="128" y="1088"/>
                    <a:pt x="201" y="1154"/>
                  </a:cubicBezTo>
                  <a:cubicBezTo>
                    <a:pt x="273" y="1219"/>
                    <a:pt x="360" y="1260"/>
                    <a:pt x="452" y="1271"/>
                  </a:cubicBezTo>
                  <a:cubicBezTo>
                    <a:pt x="544" y="1282"/>
                    <a:pt x="638" y="1264"/>
                    <a:pt x="725" y="1218"/>
                  </a:cubicBezTo>
                  <a:cubicBezTo>
                    <a:pt x="811" y="1172"/>
                    <a:pt x="887" y="1100"/>
                    <a:pt x="945" y="1010"/>
                  </a:cubicBezTo>
                  <a:cubicBezTo>
                    <a:pt x="1003" y="919"/>
                    <a:pt x="1040" y="813"/>
                    <a:pt x="1054" y="702"/>
                  </a:cubicBezTo>
                  <a:lnTo>
                    <a:pt x="1054" y="702"/>
                  </a:lnTo>
                  <a:cubicBezTo>
                    <a:pt x="1054" y="701"/>
                    <a:pt x="1054" y="701"/>
                    <a:pt x="1054" y="701"/>
                  </a:cubicBezTo>
                  <a:cubicBezTo>
                    <a:pt x="1068" y="590"/>
                    <a:pt x="1057" y="478"/>
                    <a:pt x="1023" y="376"/>
                  </a:cubicBezTo>
                  <a:cubicBezTo>
                    <a:pt x="989" y="274"/>
                    <a:pt x="932" y="186"/>
                    <a:pt x="859" y="120"/>
                  </a:cubicBezTo>
                  <a:cubicBezTo>
                    <a:pt x="787" y="55"/>
                    <a:pt x="700" y="14"/>
                    <a:pt x="608" y="3"/>
                  </a:cubicBezTo>
                  <a:cubicBezTo>
                    <a:pt x="516" y="-8"/>
                    <a:pt x="422" y="10"/>
                    <a:pt x="335" y="56"/>
                  </a:cubicBezTo>
                  <a:cubicBezTo>
                    <a:pt x="249" y="102"/>
                    <a:pt x="173" y="174"/>
                    <a:pt x="115" y="264"/>
                  </a:cubicBezTo>
                  <a:cubicBezTo>
                    <a:pt x="57" y="355"/>
                    <a:pt x="20" y="461"/>
                    <a:pt x="6" y="572"/>
                  </a:cubicBez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593600" y="2809800"/>
              <a:ext cx="274680" cy="473400"/>
            </a:xfrm>
            <a:custGeom>
              <a:avLst/>
              <a:gdLst/>
              <a:ahLst/>
              <a:rect l="0" t="0" r="r" b="b"/>
              <a:pathLst>
                <a:path w="763" h="1315">
                  <a:moveTo>
                    <a:pt x="670" y="53"/>
                  </a:moveTo>
                  <a:lnTo>
                    <a:pt x="670" y="53"/>
                  </a:lnTo>
                  <a:lnTo>
                    <a:pt x="671" y="53"/>
                  </a:lnTo>
                  <a:cubicBezTo>
                    <a:pt x="690" y="56"/>
                    <a:pt x="707" y="63"/>
                    <a:pt x="722" y="74"/>
                  </a:cubicBezTo>
                  <a:cubicBezTo>
                    <a:pt x="737" y="85"/>
                    <a:pt x="748" y="100"/>
                    <a:pt x="756" y="117"/>
                  </a:cubicBezTo>
                  <a:cubicBezTo>
                    <a:pt x="763" y="134"/>
                    <a:pt x="765" y="152"/>
                    <a:pt x="763" y="170"/>
                  </a:cubicBezTo>
                  <a:cubicBezTo>
                    <a:pt x="763" y="171"/>
                    <a:pt x="763" y="171"/>
                    <a:pt x="763" y="171"/>
                  </a:cubicBezTo>
                  <a:lnTo>
                    <a:pt x="634" y="1223"/>
                  </a:lnTo>
                  <a:lnTo>
                    <a:pt x="634" y="1223"/>
                  </a:lnTo>
                  <a:lnTo>
                    <a:pt x="634" y="1224"/>
                  </a:lnTo>
                  <a:cubicBezTo>
                    <a:pt x="631" y="1242"/>
                    <a:pt x="624" y="1259"/>
                    <a:pt x="613" y="1274"/>
                  </a:cubicBezTo>
                  <a:cubicBezTo>
                    <a:pt x="602" y="1289"/>
                    <a:pt x="587" y="1300"/>
                    <a:pt x="570" y="1308"/>
                  </a:cubicBezTo>
                  <a:cubicBezTo>
                    <a:pt x="553" y="1315"/>
                    <a:pt x="535" y="1317"/>
                    <a:pt x="516" y="1315"/>
                  </a:cubicBezTo>
                  <a:lnTo>
                    <a:pt x="515" y="1315"/>
                  </a:lnTo>
                  <a:lnTo>
                    <a:pt x="93" y="1264"/>
                  </a:lnTo>
                  <a:lnTo>
                    <a:pt x="93" y="1264"/>
                  </a:lnTo>
                  <a:lnTo>
                    <a:pt x="93" y="1264"/>
                  </a:lnTo>
                  <a:cubicBezTo>
                    <a:pt x="74" y="1262"/>
                    <a:pt x="57" y="1255"/>
                    <a:pt x="42" y="1243"/>
                  </a:cubicBezTo>
                  <a:cubicBezTo>
                    <a:pt x="27" y="1232"/>
                    <a:pt x="16" y="1218"/>
                    <a:pt x="8" y="1201"/>
                  </a:cubicBezTo>
                  <a:cubicBezTo>
                    <a:pt x="1" y="1184"/>
                    <a:pt x="-1" y="1165"/>
                    <a:pt x="1" y="1147"/>
                  </a:cubicBezTo>
                  <a:cubicBezTo>
                    <a:pt x="1" y="1146"/>
                    <a:pt x="1" y="1146"/>
                    <a:pt x="1" y="1146"/>
                  </a:cubicBezTo>
                  <a:lnTo>
                    <a:pt x="130" y="93"/>
                  </a:lnTo>
                  <a:lnTo>
                    <a:pt x="130" y="93"/>
                  </a:lnTo>
                  <a:lnTo>
                    <a:pt x="130" y="92"/>
                  </a:lnTo>
                  <a:cubicBezTo>
                    <a:pt x="133" y="74"/>
                    <a:pt x="140" y="57"/>
                    <a:pt x="151" y="42"/>
                  </a:cubicBezTo>
                  <a:cubicBezTo>
                    <a:pt x="162" y="27"/>
                    <a:pt x="177" y="16"/>
                    <a:pt x="194" y="8"/>
                  </a:cubicBezTo>
                  <a:cubicBezTo>
                    <a:pt x="211" y="1"/>
                    <a:pt x="229" y="-1"/>
                    <a:pt x="248" y="1"/>
                  </a:cubicBezTo>
                  <a:lnTo>
                    <a:pt x="249" y="1"/>
                  </a:lnTo>
                  <a:lnTo>
                    <a:pt x="670" y="53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676520" y="2133720"/>
              <a:ext cx="3808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352680" y="2895480"/>
              <a:ext cx="0" cy="45720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 flipH="1">
              <a:off x="3505320" y="2895480"/>
              <a:ext cx="228600" cy="45720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5" name=""/>
            <p:cNvGrpSpPr/>
            <p:nvPr/>
          </p:nvGrpSpPr>
          <p:grpSpPr>
            <a:xfrm>
              <a:off x="3276720" y="3352680"/>
              <a:ext cx="228600" cy="152640"/>
              <a:chOff x="3276720" y="3352680"/>
              <a:chExt cx="228600" cy="152640"/>
            </a:xfrm>
          </p:grpSpPr>
          <p:sp>
            <p:nvSpPr>
              <p:cNvPr id="246" name=""/>
              <p:cNvSpPr/>
              <p:nvPr/>
            </p:nvSpPr>
            <p:spPr>
              <a:xfrm>
                <a:off x="3276720" y="3352680"/>
                <a:ext cx="76320" cy="763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25200" bIns="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3429000" y="3352680"/>
                <a:ext cx="76320" cy="763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25200" bIns="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3276720" y="3429000"/>
                <a:ext cx="228600" cy="76320"/>
              </a:xfrm>
              <a:prstGeom prst="round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25200" bIns="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9" name=""/>
            <p:cNvSpPr/>
            <p:nvPr/>
          </p:nvSpPr>
          <p:spPr>
            <a:xfrm>
              <a:off x="4495680" y="2895480"/>
              <a:ext cx="228600" cy="45720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876920" y="2895480"/>
              <a:ext cx="75960" cy="45720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1" name=""/>
            <p:cNvGrpSpPr/>
            <p:nvPr/>
          </p:nvGrpSpPr>
          <p:grpSpPr>
            <a:xfrm>
              <a:off x="4724280" y="3352680"/>
              <a:ext cx="228960" cy="152640"/>
              <a:chOff x="4724280" y="3352680"/>
              <a:chExt cx="228960" cy="152640"/>
            </a:xfrm>
          </p:grpSpPr>
          <p:sp>
            <p:nvSpPr>
              <p:cNvPr id="252" name=""/>
              <p:cNvSpPr/>
              <p:nvPr/>
            </p:nvSpPr>
            <p:spPr>
              <a:xfrm>
                <a:off x="4724280" y="3352680"/>
                <a:ext cx="76320" cy="763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25200" bIns="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4876920" y="3352680"/>
                <a:ext cx="76320" cy="763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25200" bIns="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4724280" y="3429000"/>
                <a:ext cx="228600" cy="76320"/>
              </a:xfrm>
              <a:prstGeom prst="round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25200" bIns="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55" name=""/>
          <p:cNvGrpSpPr/>
          <p:nvPr/>
        </p:nvGrpSpPr>
        <p:grpSpPr>
          <a:xfrm>
            <a:off x="212760" y="3546720"/>
            <a:ext cx="4849920" cy="1969200"/>
            <a:chOff x="212760" y="3546720"/>
            <a:chExt cx="4849920" cy="1969200"/>
          </a:xfrm>
        </p:grpSpPr>
        <p:sp>
          <p:nvSpPr>
            <p:cNvPr id="256" name=""/>
            <p:cNvSpPr/>
            <p:nvPr/>
          </p:nvSpPr>
          <p:spPr>
            <a:xfrm>
              <a:off x="1676520" y="4191120"/>
              <a:ext cx="380880" cy="4572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752480" y="4724280"/>
              <a:ext cx="228600" cy="457200"/>
            </a:xfrm>
            <a:prstGeom prst="round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676520" y="4724280"/>
              <a:ext cx="75960" cy="45720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H="1">
              <a:off x="1981080" y="4724280"/>
              <a:ext cx="76320" cy="45720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752480" y="5181480"/>
              <a:ext cx="76320" cy="763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905120" y="5181480"/>
              <a:ext cx="76320" cy="763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752480" y="5257800"/>
              <a:ext cx="228600" cy="76320"/>
            </a:xfrm>
            <a:prstGeom prst="round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09480" y="4343400"/>
              <a:ext cx="0" cy="60948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09480" y="4952880"/>
              <a:ext cx="53352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380880" y="4952880"/>
              <a:ext cx="228600" cy="30492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 txBox="1"/>
            <p:nvPr/>
          </p:nvSpPr>
          <p:spPr>
            <a:xfrm>
              <a:off x="428760" y="4094280"/>
              <a:ext cx="27612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 txBox="1"/>
            <p:nvPr/>
          </p:nvSpPr>
          <p:spPr>
            <a:xfrm>
              <a:off x="1114560" y="4856040"/>
              <a:ext cx="27612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X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 txBox="1"/>
            <p:nvPr/>
          </p:nvSpPr>
          <p:spPr>
            <a:xfrm>
              <a:off x="212760" y="5249880"/>
              <a:ext cx="26208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Z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426320" y="3546720"/>
              <a:ext cx="595440" cy="415800"/>
            </a:xfrm>
            <a:custGeom>
              <a:avLst/>
              <a:gdLst/>
              <a:ahLst/>
              <a:rect l="0" t="0" r="r" b="b"/>
              <a:pathLst>
                <a:path fill="none" w="1654" h="1155">
                  <a:moveTo>
                    <a:pt x="695" y="1155"/>
                  </a:moveTo>
                  <a:lnTo>
                    <a:pt x="1654" y="321"/>
                  </a:lnTo>
                  <a:lnTo>
                    <a:pt x="1654" y="321"/>
                  </a:lnTo>
                  <a:lnTo>
                    <a:pt x="1654" y="321"/>
                  </a:lnTo>
                  <a:cubicBezTo>
                    <a:pt x="1532" y="181"/>
                    <a:pt x="1368" y="82"/>
                    <a:pt x="1178" y="33"/>
                  </a:cubicBezTo>
                  <a:cubicBezTo>
                    <a:pt x="988" y="-15"/>
                    <a:pt x="779" y="-11"/>
                    <a:pt x="572" y="46"/>
                  </a:cubicBezTo>
                  <a:cubicBezTo>
                    <a:pt x="366" y="103"/>
                    <a:pt x="168" y="209"/>
                    <a:pt x="0" y="355"/>
                  </a:cubicBezTo>
                </a:path>
              </a:pathLst>
            </a:custGeom>
            <a:ln w="1260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676520" y="3962520"/>
              <a:ext cx="3808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599480" y="5295960"/>
              <a:ext cx="371880" cy="219960"/>
            </a:xfrm>
            <a:custGeom>
              <a:avLst/>
              <a:gdLst/>
              <a:ahLst/>
              <a:rect l="0" t="0" r="r" b="b"/>
              <a:pathLst>
                <a:path fill="none" w="1033" h="611">
                  <a:moveTo>
                    <a:pt x="558" y="0"/>
                  </a:moveTo>
                  <a:lnTo>
                    <a:pt x="0" y="303"/>
                  </a:lnTo>
                  <a:lnTo>
                    <a:pt x="0" y="303"/>
                  </a:lnTo>
                  <a:cubicBezTo>
                    <a:pt x="28" y="368"/>
                    <a:pt x="69" y="425"/>
                    <a:pt x="119" y="472"/>
                  </a:cubicBezTo>
                  <a:cubicBezTo>
                    <a:pt x="192" y="540"/>
                    <a:pt x="284" y="585"/>
                    <a:pt x="386" y="603"/>
                  </a:cubicBezTo>
                  <a:cubicBezTo>
                    <a:pt x="487" y="620"/>
                    <a:pt x="595" y="610"/>
                    <a:pt x="699" y="572"/>
                  </a:cubicBezTo>
                  <a:cubicBezTo>
                    <a:pt x="802" y="535"/>
                    <a:pt x="897" y="472"/>
                    <a:pt x="974" y="389"/>
                  </a:cubicBezTo>
                  <a:cubicBezTo>
                    <a:pt x="995" y="366"/>
                    <a:pt x="1015" y="342"/>
                    <a:pt x="1033" y="317"/>
                  </a:cubicBezTo>
                </a:path>
              </a:pathLst>
            </a:custGeom>
            <a:ln w="1260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310560" y="4194720"/>
              <a:ext cx="384120" cy="457560"/>
            </a:xfrm>
            <a:custGeom>
              <a:avLst/>
              <a:gdLst/>
              <a:ahLst/>
              <a:rect l="0" t="0" r="r" b="b"/>
              <a:pathLst>
                <a:path w="1067" h="1271">
                  <a:moveTo>
                    <a:pt x="10" y="719"/>
                  </a:moveTo>
                  <a:lnTo>
                    <a:pt x="10" y="719"/>
                  </a:lnTo>
                  <a:cubicBezTo>
                    <a:pt x="28" y="830"/>
                    <a:pt x="69" y="934"/>
                    <a:pt x="130" y="1023"/>
                  </a:cubicBezTo>
                  <a:cubicBezTo>
                    <a:pt x="191" y="1111"/>
                    <a:pt x="270" y="1181"/>
                    <a:pt x="358" y="1223"/>
                  </a:cubicBezTo>
                  <a:cubicBezTo>
                    <a:pt x="447" y="1266"/>
                    <a:pt x="541" y="1281"/>
                    <a:pt x="633" y="1266"/>
                  </a:cubicBezTo>
                  <a:cubicBezTo>
                    <a:pt x="725" y="1252"/>
                    <a:pt x="811" y="1208"/>
                    <a:pt x="882" y="1140"/>
                  </a:cubicBezTo>
                  <a:cubicBezTo>
                    <a:pt x="953" y="1072"/>
                    <a:pt x="1006" y="982"/>
                    <a:pt x="1037" y="879"/>
                  </a:cubicBezTo>
                  <a:cubicBezTo>
                    <a:pt x="1068" y="776"/>
                    <a:pt x="1075" y="664"/>
                    <a:pt x="1057" y="553"/>
                  </a:cubicBezTo>
                  <a:lnTo>
                    <a:pt x="1057" y="553"/>
                  </a:lnTo>
                  <a:lnTo>
                    <a:pt x="1057" y="553"/>
                  </a:lnTo>
                  <a:cubicBezTo>
                    <a:pt x="1039" y="442"/>
                    <a:pt x="998" y="338"/>
                    <a:pt x="937" y="249"/>
                  </a:cubicBezTo>
                  <a:cubicBezTo>
                    <a:pt x="876" y="161"/>
                    <a:pt x="797" y="91"/>
                    <a:pt x="709" y="49"/>
                  </a:cubicBezTo>
                  <a:cubicBezTo>
                    <a:pt x="620" y="6"/>
                    <a:pt x="526" y="-9"/>
                    <a:pt x="434" y="6"/>
                  </a:cubicBezTo>
                  <a:cubicBezTo>
                    <a:pt x="342" y="20"/>
                    <a:pt x="256" y="64"/>
                    <a:pt x="185" y="132"/>
                  </a:cubicBezTo>
                  <a:cubicBezTo>
                    <a:pt x="114" y="200"/>
                    <a:pt x="61" y="290"/>
                    <a:pt x="30" y="393"/>
                  </a:cubicBezTo>
                  <a:cubicBezTo>
                    <a:pt x="-1" y="496"/>
                    <a:pt x="-8" y="608"/>
                    <a:pt x="10" y="719"/>
                  </a:cubicBez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441600" y="4711680"/>
              <a:ext cx="286920" cy="476640"/>
            </a:xfrm>
            <a:custGeom>
              <a:avLst/>
              <a:gdLst/>
              <a:ahLst/>
              <a:rect l="0" t="0" r="r" b="b"/>
              <a:pathLst>
                <a:path w="797" h="1324">
                  <a:moveTo>
                    <a:pt x="508" y="1"/>
                  </a:moveTo>
                  <a:lnTo>
                    <a:pt x="508" y="1"/>
                  </a:lnTo>
                  <a:lnTo>
                    <a:pt x="508" y="1"/>
                  </a:lnTo>
                  <a:cubicBezTo>
                    <a:pt x="527" y="-2"/>
                    <a:pt x="545" y="0"/>
                    <a:pt x="562" y="7"/>
                  </a:cubicBezTo>
                  <a:cubicBezTo>
                    <a:pt x="580" y="13"/>
                    <a:pt x="595" y="24"/>
                    <a:pt x="607" y="39"/>
                  </a:cubicBezTo>
                  <a:cubicBezTo>
                    <a:pt x="618" y="53"/>
                    <a:pt x="626" y="70"/>
                    <a:pt x="629" y="88"/>
                  </a:cubicBezTo>
                  <a:cubicBezTo>
                    <a:pt x="629" y="89"/>
                    <a:pt x="629" y="89"/>
                    <a:pt x="629" y="89"/>
                  </a:cubicBezTo>
                  <a:lnTo>
                    <a:pt x="795" y="1135"/>
                  </a:lnTo>
                  <a:lnTo>
                    <a:pt x="795" y="1135"/>
                  </a:lnTo>
                  <a:lnTo>
                    <a:pt x="795" y="1136"/>
                  </a:lnTo>
                  <a:cubicBezTo>
                    <a:pt x="798" y="1154"/>
                    <a:pt x="796" y="1172"/>
                    <a:pt x="789" y="1190"/>
                  </a:cubicBezTo>
                  <a:cubicBezTo>
                    <a:pt x="783" y="1207"/>
                    <a:pt x="772" y="1222"/>
                    <a:pt x="757" y="1234"/>
                  </a:cubicBezTo>
                  <a:cubicBezTo>
                    <a:pt x="743" y="1245"/>
                    <a:pt x="726" y="1253"/>
                    <a:pt x="708" y="1256"/>
                  </a:cubicBezTo>
                  <a:cubicBezTo>
                    <a:pt x="707" y="1256"/>
                    <a:pt x="707" y="1256"/>
                    <a:pt x="707" y="1256"/>
                  </a:cubicBezTo>
                  <a:lnTo>
                    <a:pt x="287" y="1322"/>
                  </a:lnTo>
                  <a:lnTo>
                    <a:pt x="287" y="1322"/>
                  </a:lnTo>
                  <a:lnTo>
                    <a:pt x="287" y="1322"/>
                  </a:lnTo>
                  <a:cubicBezTo>
                    <a:pt x="268" y="1325"/>
                    <a:pt x="250" y="1323"/>
                    <a:pt x="232" y="1316"/>
                  </a:cubicBezTo>
                  <a:cubicBezTo>
                    <a:pt x="215" y="1310"/>
                    <a:pt x="200" y="1299"/>
                    <a:pt x="188" y="1284"/>
                  </a:cubicBezTo>
                  <a:cubicBezTo>
                    <a:pt x="177" y="1270"/>
                    <a:pt x="169" y="1253"/>
                    <a:pt x="166" y="1235"/>
                  </a:cubicBezTo>
                  <a:cubicBezTo>
                    <a:pt x="166" y="1234"/>
                    <a:pt x="166" y="1234"/>
                    <a:pt x="166" y="1234"/>
                  </a:cubicBezTo>
                  <a:lnTo>
                    <a:pt x="1" y="188"/>
                  </a:lnTo>
                  <a:lnTo>
                    <a:pt x="1" y="188"/>
                  </a:lnTo>
                  <a:lnTo>
                    <a:pt x="1" y="187"/>
                  </a:lnTo>
                  <a:cubicBezTo>
                    <a:pt x="-2" y="169"/>
                    <a:pt x="0" y="151"/>
                    <a:pt x="7" y="133"/>
                  </a:cubicBezTo>
                  <a:cubicBezTo>
                    <a:pt x="13" y="116"/>
                    <a:pt x="24" y="101"/>
                    <a:pt x="39" y="89"/>
                  </a:cubicBezTo>
                  <a:cubicBezTo>
                    <a:pt x="53" y="78"/>
                    <a:pt x="70" y="70"/>
                    <a:pt x="88" y="67"/>
                  </a:cubicBezTo>
                  <a:cubicBezTo>
                    <a:pt x="89" y="67"/>
                    <a:pt x="89" y="67"/>
                    <a:pt x="89" y="67"/>
                  </a:cubicBezTo>
                  <a:lnTo>
                    <a:pt x="508" y="1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681080" y="4192920"/>
              <a:ext cx="381600" cy="459000"/>
            </a:xfrm>
            <a:custGeom>
              <a:avLst/>
              <a:gdLst/>
              <a:ahLst/>
              <a:rect l="0" t="0" r="r" b="b"/>
              <a:pathLst>
                <a:path w="1060" h="1275">
                  <a:moveTo>
                    <a:pt x="6" y="573"/>
                  </a:moveTo>
                  <a:lnTo>
                    <a:pt x="6" y="573"/>
                  </a:lnTo>
                  <a:lnTo>
                    <a:pt x="6" y="573"/>
                  </a:lnTo>
                  <a:cubicBezTo>
                    <a:pt x="-8" y="685"/>
                    <a:pt x="3" y="797"/>
                    <a:pt x="37" y="899"/>
                  </a:cubicBezTo>
                  <a:cubicBezTo>
                    <a:pt x="71" y="1001"/>
                    <a:pt x="128" y="1089"/>
                    <a:pt x="201" y="1155"/>
                  </a:cubicBezTo>
                  <a:cubicBezTo>
                    <a:pt x="273" y="1220"/>
                    <a:pt x="360" y="1261"/>
                    <a:pt x="452" y="1272"/>
                  </a:cubicBezTo>
                  <a:cubicBezTo>
                    <a:pt x="544" y="1283"/>
                    <a:pt x="638" y="1265"/>
                    <a:pt x="725" y="1219"/>
                  </a:cubicBezTo>
                  <a:cubicBezTo>
                    <a:pt x="811" y="1173"/>
                    <a:pt x="887" y="1101"/>
                    <a:pt x="945" y="1010"/>
                  </a:cubicBezTo>
                  <a:cubicBezTo>
                    <a:pt x="1003" y="920"/>
                    <a:pt x="1040" y="813"/>
                    <a:pt x="1054" y="702"/>
                  </a:cubicBezTo>
                  <a:lnTo>
                    <a:pt x="1054" y="702"/>
                  </a:lnTo>
                  <a:lnTo>
                    <a:pt x="1054" y="702"/>
                  </a:lnTo>
                  <a:cubicBezTo>
                    <a:pt x="1068" y="590"/>
                    <a:pt x="1057" y="478"/>
                    <a:pt x="1023" y="376"/>
                  </a:cubicBezTo>
                  <a:cubicBezTo>
                    <a:pt x="989" y="274"/>
                    <a:pt x="932" y="186"/>
                    <a:pt x="859" y="120"/>
                  </a:cubicBezTo>
                  <a:cubicBezTo>
                    <a:pt x="787" y="55"/>
                    <a:pt x="700" y="14"/>
                    <a:pt x="608" y="3"/>
                  </a:cubicBezTo>
                  <a:cubicBezTo>
                    <a:pt x="516" y="-8"/>
                    <a:pt x="422" y="10"/>
                    <a:pt x="335" y="56"/>
                  </a:cubicBezTo>
                  <a:cubicBezTo>
                    <a:pt x="249" y="102"/>
                    <a:pt x="173" y="174"/>
                    <a:pt x="115" y="265"/>
                  </a:cubicBezTo>
                  <a:cubicBezTo>
                    <a:pt x="57" y="355"/>
                    <a:pt x="20" y="462"/>
                    <a:pt x="6" y="573"/>
                  </a:cubicBez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669920" y="4714920"/>
              <a:ext cx="274680" cy="473400"/>
            </a:xfrm>
            <a:custGeom>
              <a:avLst/>
              <a:gdLst/>
              <a:ahLst/>
              <a:rect l="0" t="0" r="r" b="b"/>
              <a:pathLst>
                <a:path w="763" h="1315">
                  <a:moveTo>
                    <a:pt x="670" y="53"/>
                  </a:moveTo>
                  <a:lnTo>
                    <a:pt x="670" y="53"/>
                  </a:lnTo>
                  <a:lnTo>
                    <a:pt x="671" y="53"/>
                  </a:lnTo>
                  <a:cubicBezTo>
                    <a:pt x="690" y="56"/>
                    <a:pt x="707" y="63"/>
                    <a:pt x="722" y="74"/>
                  </a:cubicBezTo>
                  <a:cubicBezTo>
                    <a:pt x="737" y="85"/>
                    <a:pt x="748" y="100"/>
                    <a:pt x="756" y="117"/>
                  </a:cubicBezTo>
                  <a:cubicBezTo>
                    <a:pt x="763" y="134"/>
                    <a:pt x="765" y="152"/>
                    <a:pt x="763" y="170"/>
                  </a:cubicBezTo>
                  <a:cubicBezTo>
                    <a:pt x="763" y="171"/>
                    <a:pt x="763" y="171"/>
                    <a:pt x="763" y="171"/>
                  </a:cubicBezTo>
                  <a:lnTo>
                    <a:pt x="634" y="1223"/>
                  </a:lnTo>
                  <a:lnTo>
                    <a:pt x="634" y="1223"/>
                  </a:lnTo>
                  <a:lnTo>
                    <a:pt x="634" y="1224"/>
                  </a:lnTo>
                  <a:cubicBezTo>
                    <a:pt x="631" y="1242"/>
                    <a:pt x="624" y="1259"/>
                    <a:pt x="613" y="1274"/>
                  </a:cubicBezTo>
                  <a:cubicBezTo>
                    <a:pt x="602" y="1289"/>
                    <a:pt x="587" y="1300"/>
                    <a:pt x="570" y="1308"/>
                  </a:cubicBezTo>
                  <a:cubicBezTo>
                    <a:pt x="553" y="1315"/>
                    <a:pt x="535" y="1317"/>
                    <a:pt x="516" y="1315"/>
                  </a:cubicBezTo>
                  <a:lnTo>
                    <a:pt x="515" y="1315"/>
                  </a:lnTo>
                  <a:lnTo>
                    <a:pt x="93" y="1264"/>
                  </a:lnTo>
                  <a:lnTo>
                    <a:pt x="93" y="1264"/>
                  </a:lnTo>
                  <a:lnTo>
                    <a:pt x="93" y="1264"/>
                  </a:lnTo>
                  <a:cubicBezTo>
                    <a:pt x="74" y="1262"/>
                    <a:pt x="57" y="1255"/>
                    <a:pt x="42" y="1243"/>
                  </a:cubicBezTo>
                  <a:cubicBezTo>
                    <a:pt x="27" y="1232"/>
                    <a:pt x="16" y="1218"/>
                    <a:pt x="8" y="1201"/>
                  </a:cubicBezTo>
                  <a:cubicBezTo>
                    <a:pt x="1" y="1184"/>
                    <a:pt x="-1" y="1165"/>
                    <a:pt x="1" y="1147"/>
                  </a:cubicBezTo>
                  <a:cubicBezTo>
                    <a:pt x="1" y="1146"/>
                    <a:pt x="1" y="1146"/>
                    <a:pt x="1" y="1146"/>
                  </a:cubicBezTo>
                  <a:lnTo>
                    <a:pt x="130" y="93"/>
                  </a:lnTo>
                  <a:lnTo>
                    <a:pt x="130" y="93"/>
                  </a:lnTo>
                  <a:lnTo>
                    <a:pt x="130" y="92"/>
                  </a:lnTo>
                  <a:cubicBezTo>
                    <a:pt x="133" y="74"/>
                    <a:pt x="140" y="57"/>
                    <a:pt x="151" y="42"/>
                  </a:cubicBezTo>
                  <a:cubicBezTo>
                    <a:pt x="162" y="27"/>
                    <a:pt x="177" y="16"/>
                    <a:pt x="194" y="8"/>
                  </a:cubicBezTo>
                  <a:cubicBezTo>
                    <a:pt x="211" y="1"/>
                    <a:pt x="229" y="-1"/>
                    <a:pt x="248" y="1"/>
                  </a:cubicBezTo>
                  <a:lnTo>
                    <a:pt x="249" y="1"/>
                  </a:lnTo>
                  <a:lnTo>
                    <a:pt x="670" y="53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429000" y="4800600"/>
              <a:ext cx="0" cy="45720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flipH="1">
              <a:off x="3581280" y="4800600"/>
              <a:ext cx="228600" cy="53352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572000" y="4800600"/>
              <a:ext cx="228600" cy="53352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952880" y="4800600"/>
              <a:ext cx="76320" cy="45720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0" name=""/>
            <p:cNvGrpSpPr/>
            <p:nvPr/>
          </p:nvGrpSpPr>
          <p:grpSpPr>
            <a:xfrm>
              <a:off x="3352680" y="5257800"/>
              <a:ext cx="228960" cy="182520"/>
              <a:chOff x="3352680" y="5257800"/>
              <a:chExt cx="228960" cy="182520"/>
            </a:xfrm>
          </p:grpSpPr>
          <p:sp>
            <p:nvSpPr>
              <p:cNvPr id="281" name=""/>
              <p:cNvSpPr/>
              <p:nvPr/>
            </p:nvSpPr>
            <p:spPr>
              <a:xfrm>
                <a:off x="3352680" y="5257800"/>
                <a:ext cx="76320" cy="7632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3505320" y="5334120"/>
                <a:ext cx="76320" cy="7632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3358800" y="5304240"/>
                <a:ext cx="216720" cy="136080"/>
              </a:xfrm>
              <a:custGeom>
                <a:avLst/>
                <a:gdLst/>
                <a:ahLst/>
                <a:rect l="0" t="0" r="r" b="b"/>
                <a:pathLst>
                  <a:path w="602" h="378">
                    <a:moveTo>
                      <a:pt x="538" y="174"/>
                    </a:moveTo>
                    <a:lnTo>
                      <a:pt x="538" y="174"/>
                    </a:lnTo>
                    <a:cubicBezTo>
                      <a:pt x="538" y="175"/>
                      <a:pt x="538" y="175"/>
                      <a:pt x="539" y="175"/>
                    </a:cubicBezTo>
                    <a:cubicBezTo>
                      <a:pt x="556" y="182"/>
                      <a:pt x="570" y="194"/>
                      <a:pt x="582" y="208"/>
                    </a:cubicBezTo>
                    <a:cubicBezTo>
                      <a:pt x="593" y="223"/>
                      <a:pt x="600" y="241"/>
                      <a:pt x="602" y="259"/>
                    </a:cubicBezTo>
                    <a:cubicBezTo>
                      <a:pt x="604" y="277"/>
                      <a:pt x="602" y="296"/>
                      <a:pt x="594" y="313"/>
                    </a:cubicBezTo>
                    <a:lnTo>
                      <a:pt x="594" y="314"/>
                    </a:lnTo>
                    <a:lnTo>
                      <a:pt x="594" y="314"/>
                    </a:lnTo>
                    <a:lnTo>
                      <a:pt x="594" y="314"/>
                    </a:lnTo>
                    <a:lnTo>
                      <a:pt x="594" y="314"/>
                    </a:lnTo>
                    <a:cubicBezTo>
                      <a:pt x="587" y="331"/>
                      <a:pt x="575" y="346"/>
                      <a:pt x="560" y="357"/>
                    </a:cubicBezTo>
                    <a:cubicBezTo>
                      <a:pt x="546" y="368"/>
                      <a:pt x="528" y="375"/>
                      <a:pt x="510" y="378"/>
                    </a:cubicBezTo>
                    <a:cubicBezTo>
                      <a:pt x="491" y="380"/>
                      <a:pt x="473" y="377"/>
                      <a:pt x="456" y="370"/>
                    </a:cubicBezTo>
                    <a:lnTo>
                      <a:pt x="456" y="370"/>
                    </a:lnTo>
                    <a:lnTo>
                      <a:pt x="65" y="205"/>
                    </a:lnTo>
                    <a:lnTo>
                      <a:pt x="65" y="205"/>
                    </a:lnTo>
                    <a:cubicBezTo>
                      <a:pt x="65" y="204"/>
                      <a:pt x="65" y="204"/>
                      <a:pt x="64" y="204"/>
                    </a:cubicBezTo>
                    <a:cubicBezTo>
                      <a:pt x="47" y="197"/>
                      <a:pt x="33" y="185"/>
                      <a:pt x="21" y="171"/>
                    </a:cubicBezTo>
                    <a:cubicBezTo>
                      <a:pt x="10" y="156"/>
                      <a:pt x="3" y="138"/>
                      <a:pt x="1" y="120"/>
                    </a:cubicBezTo>
                    <a:cubicBezTo>
                      <a:pt x="-1" y="102"/>
                      <a:pt x="1" y="83"/>
                      <a:pt x="9" y="66"/>
                    </a:cubicBezTo>
                    <a:lnTo>
                      <a:pt x="9" y="65"/>
                    </a:lnTo>
                    <a:lnTo>
                      <a:pt x="9" y="65"/>
                    </a:lnTo>
                    <a:lnTo>
                      <a:pt x="9" y="65"/>
                    </a:lnTo>
                    <a:lnTo>
                      <a:pt x="9" y="64"/>
                    </a:lnTo>
                    <a:cubicBezTo>
                      <a:pt x="17" y="47"/>
                      <a:pt x="28" y="33"/>
                      <a:pt x="43" y="21"/>
                    </a:cubicBezTo>
                    <a:cubicBezTo>
                      <a:pt x="58" y="10"/>
                      <a:pt x="75" y="3"/>
                      <a:pt x="93" y="1"/>
                    </a:cubicBezTo>
                    <a:cubicBezTo>
                      <a:pt x="112" y="-1"/>
                      <a:pt x="130" y="1"/>
                      <a:pt x="147" y="9"/>
                    </a:cubicBezTo>
                    <a:cubicBezTo>
                      <a:pt x="148" y="9"/>
                      <a:pt x="148" y="9"/>
                      <a:pt x="148" y="9"/>
                    </a:cubicBezTo>
                    <a:lnTo>
                      <a:pt x="538" y="174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4" name=""/>
            <p:cNvGrpSpPr/>
            <p:nvPr/>
          </p:nvGrpSpPr>
          <p:grpSpPr>
            <a:xfrm>
              <a:off x="4800600" y="5257800"/>
              <a:ext cx="228600" cy="180360"/>
              <a:chOff x="4800600" y="5257800"/>
              <a:chExt cx="228600" cy="180360"/>
            </a:xfrm>
          </p:grpSpPr>
          <p:sp>
            <p:nvSpPr>
              <p:cNvPr id="285" name=""/>
              <p:cNvSpPr/>
              <p:nvPr/>
            </p:nvSpPr>
            <p:spPr>
              <a:xfrm>
                <a:off x="4800600" y="5334120"/>
                <a:ext cx="76320" cy="7632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4952880" y="5257800"/>
                <a:ext cx="76320" cy="7632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4805640" y="5306760"/>
                <a:ext cx="219240" cy="131400"/>
              </a:xfrm>
              <a:custGeom>
                <a:avLst/>
                <a:gdLst/>
                <a:ahLst/>
                <a:rect l="0" t="0" r="r" b="b"/>
                <a:pathLst>
                  <a:path w="609" h="365">
                    <a:moveTo>
                      <a:pt x="465" y="7"/>
                    </a:moveTo>
                    <a:lnTo>
                      <a:pt x="465" y="7"/>
                    </a:lnTo>
                    <a:lnTo>
                      <a:pt x="465" y="7"/>
                    </a:lnTo>
                    <a:cubicBezTo>
                      <a:pt x="482" y="0"/>
                      <a:pt x="501" y="-2"/>
                      <a:pt x="519" y="1"/>
                    </a:cubicBezTo>
                    <a:cubicBezTo>
                      <a:pt x="537" y="4"/>
                      <a:pt x="555" y="12"/>
                      <a:pt x="569" y="23"/>
                    </a:cubicBezTo>
                    <a:cubicBezTo>
                      <a:pt x="583" y="35"/>
                      <a:pt x="594" y="50"/>
                      <a:pt x="601" y="67"/>
                    </a:cubicBezTo>
                    <a:lnTo>
                      <a:pt x="601" y="67"/>
                    </a:lnTo>
                    <a:lnTo>
                      <a:pt x="601" y="67"/>
                    </a:lnTo>
                    <a:cubicBezTo>
                      <a:pt x="601" y="68"/>
                      <a:pt x="601" y="68"/>
                      <a:pt x="601" y="68"/>
                    </a:cubicBezTo>
                    <a:cubicBezTo>
                      <a:pt x="608" y="85"/>
                      <a:pt x="610" y="104"/>
                      <a:pt x="607" y="122"/>
                    </a:cubicBezTo>
                    <a:cubicBezTo>
                      <a:pt x="604" y="141"/>
                      <a:pt x="597" y="158"/>
                      <a:pt x="585" y="172"/>
                    </a:cubicBezTo>
                    <a:cubicBezTo>
                      <a:pt x="573" y="187"/>
                      <a:pt x="558" y="198"/>
                      <a:pt x="541" y="204"/>
                    </a:cubicBezTo>
                    <a:cubicBezTo>
                      <a:pt x="540" y="204"/>
                      <a:pt x="540" y="204"/>
                      <a:pt x="540" y="205"/>
                    </a:cubicBezTo>
                    <a:lnTo>
                      <a:pt x="143" y="357"/>
                    </a:lnTo>
                    <a:lnTo>
                      <a:pt x="143" y="357"/>
                    </a:lnTo>
                    <a:lnTo>
                      <a:pt x="143" y="357"/>
                    </a:lnTo>
                    <a:cubicBezTo>
                      <a:pt x="126" y="364"/>
                      <a:pt x="107" y="366"/>
                      <a:pt x="89" y="363"/>
                    </a:cubicBezTo>
                    <a:cubicBezTo>
                      <a:pt x="71" y="360"/>
                      <a:pt x="54" y="352"/>
                      <a:pt x="39" y="341"/>
                    </a:cubicBezTo>
                    <a:cubicBezTo>
                      <a:pt x="25" y="329"/>
                      <a:pt x="14" y="314"/>
                      <a:pt x="7" y="296"/>
                    </a:cubicBezTo>
                    <a:lnTo>
                      <a:pt x="7" y="296"/>
                    </a:lnTo>
                    <a:lnTo>
                      <a:pt x="7" y="296"/>
                    </a:lnTo>
                    <a:lnTo>
                      <a:pt x="7" y="296"/>
                    </a:lnTo>
                    <a:cubicBezTo>
                      <a:pt x="7" y="295"/>
                      <a:pt x="7" y="295"/>
                      <a:pt x="7" y="295"/>
                    </a:cubicBezTo>
                    <a:cubicBezTo>
                      <a:pt x="0" y="277"/>
                      <a:pt x="-2" y="259"/>
                      <a:pt x="1" y="240"/>
                    </a:cubicBezTo>
                    <a:cubicBezTo>
                      <a:pt x="4" y="222"/>
                      <a:pt x="11" y="205"/>
                      <a:pt x="23" y="191"/>
                    </a:cubicBezTo>
                    <a:cubicBezTo>
                      <a:pt x="35" y="176"/>
                      <a:pt x="50" y="165"/>
                      <a:pt x="67" y="158"/>
                    </a:cubicBezTo>
                    <a:lnTo>
                      <a:pt x="67" y="158"/>
                    </a:lnTo>
                    <a:lnTo>
                      <a:pt x="465" y="7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88" name=""/>
          <p:cNvSpPr txBox="1"/>
          <p:nvPr/>
        </p:nvSpPr>
        <p:spPr>
          <a:xfrm>
            <a:off x="3246480" y="5821200"/>
            <a:ext cx="199224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atégorie de mouvement Tronc-tê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"/>
          <p:cNvGrpSpPr/>
          <p:nvPr/>
        </p:nvGrpSpPr>
        <p:grpSpPr>
          <a:xfrm>
            <a:off x="289080" y="5923080"/>
            <a:ext cx="4766040" cy="1400040"/>
            <a:chOff x="289080" y="5923080"/>
            <a:chExt cx="4766040" cy="1400040"/>
          </a:xfrm>
        </p:grpSpPr>
        <p:sp>
          <p:nvSpPr>
            <p:cNvPr id="290" name=""/>
            <p:cNvSpPr/>
            <p:nvPr/>
          </p:nvSpPr>
          <p:spPr>
            <a:xfrm>
              <a:off x="3276720" y="7086600"/>
              <a:ext cx="76320" cy="76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752480" y="6019920"/>
              <a:ext cx="380880" cy="4572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828800" y="6553080"/>
              <a:ext cx="228600" cy="457200"/>
            </a:xfrm>
            <a:prstGeom prst="round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1752480" y="6553080"/>
              <a:ext cx="76320" cy="457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 flipH="1">
              <a:off x="2057400" y="6553080"/>
              <a:ext cx="76320" cy="457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1828800" y="7010280"/>
              <a:ext cx="76320" cy="76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981080" y="7010280"/>
              <a:ext cx="76320" cy="76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1828800" y="7086600"/>
              <a:ext cx="228600" cy="76320"/>
            </a:xfrm>
            <a:prstGeom prst="round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85800" y="6172200"/>
              <a:ext cx="0" cy="6094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85800" y="678168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 flipH="1">
              <a:off x="457200" y="6781680"/>
              <a:ext cx="228600" cy="30492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 txBox="1"/>
            <p:nvPr/>
          </p:nvSpPr>
          <p:spPr>
            <a:xfrm>
              <a:off x="504720" y="5923080"/>
              <a:ext cx="27612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 txBox="1"/>
            <p:nvPr/>
          </p:nvSpPr>
          <p:spPr>
            <a:xfrm>
              <a:off x="1190520" y="6684840"/>
              <a:ext cx="27612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X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 txBox="1"/>
            <p:nvPr/>
          </p:nvSpPr>
          <p:spPr>
            <a:xfrm>
              <a:off x="289080" y="7078680"/>
              <a:ext cx="26820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Z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3031200" y="6111000"/>
              <a:ext cx="414720" cy="428040"/>
            </a:xfrm>
            <a:custGeom>
              <a:avLst/>
              <a:gdLst/>
              <a:ahLst/>
              <a:rect l="0" t="0" r="r" b="b"/>
              <a:pathLst>
                <a:path w="1152" h="1189">
                  <a:moveTo>
                    <a:pt x="170" y="936"/>
                  </a:moveTo>
                  <a:lnTo>
                    <a:pt x="170" y="936"/>
                  </a:lnTo>
                  <a:cubicBezTo>
                    <a:pt x="242" y="1021"/>
                    <a:pt x="331" y="1089"/>
                    <a:pt x="428" y="1133"/>
                  </a:cubicBezTo>
                  <a:cubicBezTo>
                    <a:pt x="526" y="1177"/>
                    <a:pt x="629" y="1196"/>
                    <a:pt x="727" y="1187"/>
                  </a:cubicBezTo>
                  <a:cubicBezTo>
                    <a:pt x="824" y="1178"/>
                    <a:pt x="913" y="1142"/>
                    <a:pt x="984" y="1082"/>
                  </a:cubicBezTo>
                  <a:cubicBezTo>
                    <a:pt x="1055" y="1022"/>
                    <a:pt x="1106" y="941"/>
                    <a:pt x="1132" y="846"/>
                  </a:cubicBezTo>
                  <a:cubicBezTo>
                    <a:pt x="1158" y="752"/>
                    <a:pt x="1158" y="647"/>
                    <a:pt x="1131" y="543"/>
                  </a:cubicBezTo>
                  <a:cubicBezTo>
                    <a:pt x="1105" y="439"/>
                    <a:pt x="1053" y="339"/>
                    <a:pt x="981" y="254"/>
                  </a:cubicBezTo>
                  <a:lnTo>
                    <a:pt x="981" y="253"/>
                  </a:lnTo>
                  <a:lnTo>
                    <a:pt x="981" y="253"/>
                  </a:lnTo>
                  <a:cubicBezTo>
                    <a:pt x="909" y="168"/>
                    <a:pt x="820" y="100"/>
                    <a:pt x="723" y="56"/>
                  </a:cubicBezTo>
                  <a:cubicBezTo>
                    <a:pt x="625" y="12"/>
                    <a:pt x="522" y="-7"/>
                    <a:pt x="424" y="2"/>
                  </a:cubicBezTo>
                  <a:cubicBezTo>
                    <a:pt x="327" y="11"/>
                    <a:pt x="238" y="47"/>
                    <a:pt x="167" y="107"/>
                  </a:cubicBezTo>
                  <a:cubicBezTo>
                    <a:pt x="96" y="167"/>
                    <a:pt x="45" y="248"/>
                    <a:pt x="19" y="343"/>
                  </a:cubicBezTo>
                  <a:cubicBezTo>
                    <a:pt x="-7" y="437"/>
                    <a:pt x="-7" y="542"/>
                    <a:pt x="20" y="646"/>
                  </a:cubicBezTo>
                  <a:cubicBezTo>
                    <a:pt x="46" y="750"/>
                    <a:pt x="98" y="850"/>
                    <a:pt x="170" y="935"/>
                  </a:cubicBezTo>
                  <a:lnTo>
                    <a:pt x="170" y="936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247920" y="6619680"/>
              <a:ext cx="286920" cy="476640"/>
            </a:xfrm>
            <a:custGeom>
              <a:avLst/>
              <a:gdLst/>
              <a:ahLst/>
              <a:rect l="0" t="0" r="r" b="b"/>
              <a:pathLst>
                <a:path w="797" h="1324">
                  <a:moveTo>
                    <a:pt x="508" y="1"/>
                  </a:moveTo>
                  <a:lnTo>
                    <a:pt x="508" y="1"/>
                  </a:lnTo>
                  <a:lnTo>
                    <a:pt x="508" y="1"/>
                  </a:lnTo>
                  <a:cubicBezTo>
                    <a:pt x="527" y="-2"/>
                    <a:pt x="545" y="0"/>
                    <a:pt x="562" y="7"/>
                  </a:cubicBezTo>
                  <a:cubicBezTo>
                    <a:pt x="580" y="13"/>
                    <a:pt x="595" y="24"/>
                    <a:pt x="607" y="39"/>
                  </a:cubicBezTo>
                  <a:cubicBezTo>
                    <a:pt x="618" y="53"/>
                    <a:pt x="626" y="70"/>
                    <a:pt x="629" y="88"/>
                  </a:cubicBezTo>
                  <a:cubicBezTo>
                    <a:pt x="629" y="89"/>
                    <a:pt x="629" y="89"/>
                    <a:pt x="629" y="89"/>
                  </a:cubicBezTo>
                  <a:lnTo>
                    <a:pt x="795" y="1135"/>
                  </a:lnTo>
                  <a:lnTo>
                    <a:pt x="795" y="1135"/>
                  </a:lnTo>
                  <a:lnTo>
                    <a:pt x="795" y="1136"/>
                  </a:lnTo>
                  <a:cubicBezTo>
                    <a:pt x="798" y="1154"/>
                    <a:pt x="796" y="1172"/>
                    <a:pt x="789" y="1190"/>
                  </a:cubicBezTo>
                  <a:cubicBezTo>
                    <a:pt x="783" y="1207"/>
                    <a:pt x="772" y="1222"/>
                    <a:pt x="757" y="1234"/>
                  </a:cubicBezTo>
                  <a:cubicBezTo>
                    <a:pt x="743" y="1245"/>
                    <a:pt x="726" y="1253"/>
                    <a:pt x="708" y="1256"/>
                  </a:cubicBezTo>
                  <a:cubicBezTo>
                    <a:pt x="707" y="1256"/>
                    <a:pt x="707" y="1256"/>
                    <a:pt x="707" y="1256"/>
                  </a:cubicBezTo>
                  <a:lnTo>
                    <a:pt x="287" y="1322"/>
                  </a:lnTo>
                  <a:lnTo>
                    <a:pt x="287" y="1322"/>
                  </a:lnTo>
                  <a:lnTo>
                    <a:pt x="287" y="1322"/>
                  </a:lnTo>
                  <a:cubicBezTo>
                    <a:pt x="268" y="1325"/>
                    <a:pt x="250" y="1323"/>
                    <a:pt x="232" y="1316"/>
                  </a:cubicBezTo>
                  <a:cubicBezTo>
                    <a:pt x="215" y="1310"/>
                    <a:pt x="200" y="1299"/>
                    <a:pt x="188" y="1284"/>
                  </a:cubicBezTo>
                  <a:cubicBezTo>
                    <a:pt x="177" y="1270"/>
                    <a:pt x="169" y="1253"/>
                    <a:pt x="166" y="1235"/>
                  </a:cubicBezTo>
                  <a:cubicBezTo>
                    <a:pt x="166" y="1234"/>
                    <a:pt x="166" y="1234"/>
                    <a:pt x="166" y="1234"/>
                  </a:cubicBezTo>
                  <a:lnTo>
                    <a:pt x="1" y="188"/>
                  </a:lnTo>
                  <a:lnTo>
                    <a:pt x="1" y="188"/>
                  </a:lnTo>
                  <a:lnTo>
                    <a:pt x="1" y="187"/>
                  </a:lnTo>
                  <a:cubicBezTo>
                    <a:pt x="-2" y="169"/>
                    <a:pt x="0" y="151"/>
                    <a:pt x="7" y="133"/>
                  </a:cubicBezTo>
                  <a:cubicBezTo>
                    <a:pt x="13" y="116"/>
                    <a:pt x="24" y="101"/>
                    <a:pt x="39" y="89"/>
                  </a:cubicBezTo>
                  <a:cubicBezTo>
                    <a:pt x="53" y="78"/>
                    <a:pt x="70" y="70"/>
                    <a:pt x="88" y="67"/>
                  </a:cubicBezTo>
                  <a:cubicBezTo>
                    <a:pt x="89" y="67"/>
                    <a:pt x="89" y="67"/>
                    <a:pt x="89" y="67"/>
                  </a:cubicBezTo>
                  <a:lnTo>
                    <a:pt x="508" y="1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200400" y="6629400"/>
              <a:ext cx="76320" cy="457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 flipH="1">
              <a:off x="3505320" y="6629400"/>
              <a:ext cx="75960" cy="457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3429000" y="7086600"/>
              <a:ext cx="76320" cy="76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3276720" y="7162920"/>
              <a:ext cx="228600" cy="76320"/>
            </a:xfrm>
            <a:prstGeom prst="round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623840" y="6118920"/>
              <a:ext cx="431280" cy="412560"/>
            </a:xfrm>
            <a:custGeom>
              <a:avLst/>
              <a:gdLst/>
              <a:ahLst/>
              <a:rect l="0" t="0" r="r" b="b"/>
              <a:pathLst>
                <a:path w="1198" h="1146">
                  <a:moveTo>
                    <a:pt x="273" y="155"/>
                  </a:moveTo>
                  <a:lnTo>
                    <a:pt x="273" y="155"/>
                  </a:lnTo>
                  <a:cubicBezTo>
                    <a:pt x="273" y="156"/>
                    <a:pt x="272" y="156"/>
                    <a:pt x="272" y="156"/>
                  </a:cubicBezTo>
                  <a:cubicBezTo>
                    <a:pt x="184" y="225"/>
                    <a:pt x="113" y="312"/>
                    <a:pt x="65" y="408"/>
                  </a:cubicBezTo>
                  <a:cubicBezTo>
                    <a:pt x="18" y="504"/>
                    <a:pt x="-5" y="606"/>
                    <a:pt x="1" y="704"/>
                  </a:cubicBezTo>
                  <a:cubicBezTo>
                    <a:pt x="7" y="802"/>
                    <a:pt x="40" y="892"/>
                    <a:pt x="97" y="965"/>
                  </a:cubicBezTo>
                  <a:cubicBezTo>
                    <a:pt x="154" y="1038"/>
                    <a:pt x="234" y="1092"/>
                    <a:pt x="327" y="1121"/>
                  </a:cubicBezTo>
                  <a:cubicBezTo>
                    <a:pt x="421" y="1150"/>
                    <a:pt x="525" y="1153"/>
                    <a:pt x="630" y="1130"/>
                  </a:cubicBezTo>
                  <a:cubicBezTo>
                    <a:pt x="734" y="1108"/>
                    <a:pt x="836" y="1059"/>
                    <a:pt x="924" y="991"/>
                  </a:cubicBezTo>
                  <a:cubicBezTo>
                    <a:pt x="924" y="990"/>
                    <a:pt x="924" y="990"/>
                    <a:pt x="925" y="990"/>
                  </a:cubicBezTo>
                  <a:lnTo>
                    <a:pt x="925" y="990"/>
                  </a:lnTo>
                  <a:cubicBezTo>
                    <a:pt x="925" y="989"/>
                    <a:pt x="926" y="989"/>
                    <a:pt x="926" y="989"/>
                  </a:cubicBezTo>
                  <a:cubicBezTo>
                    <a:pt x="1014" y="920"/>
                    <a:pt x="1085" y="833"/>
                    <a:pt x="1133" y="737"/>
                  </a:cubicBezTo>
                  <a:cubicBezTo>
                    <a:pt x="1180" y="641"/>
                    <a:pt x="1203" y="539"/>
                    <a:pt x="1197" y="441"/>
                  </a:cubicBezTo>
                  <a:cubicBezTo>
                    <a:pt x="1191" y="343"/>
                    <a:pt x="1158" y="253"/>
                    <a:pt x="1101" y="180"/>
                  </a:cubicBezTo>
                  <a:cubicBezTo>
                    <a:pt x="1044" y="107"/>
                    <a:pt x="964" y="53"/>
                    <a:pt x="871" y="24"/>
                  </a:cubicBezTo>
                  <a:cubicBezTo>
                    <a:pt x="777" y="-5"/>
                    <a:pt x="673" y="-8"/>
                    <a:pt x="568" y="15"/>
                  </a:cubicBezTo>
                  <a:cubicBezTo>
                    <a:pt x="464" y="37"/>
                    <a:pt x="362" y="86"/>
                    <a:pt x="274" y="154"/>
                  </a:cubicBezTo>
                  <a:cubicBezTo>
                    <a:pt x="274" y="155"/>
                    <a:pt x="274" y="155"/>
                    <a:pt x="273" y="155"/>
                  </a:cubicBez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622400" y="6620760"/>
              <a:ext cx="280440" cy="475200"/>
            </a:xfrm>
            <a:custGeom>
              <a:avLst/>
              <a:gdLst/>
              <a:ahLst/>
              <a:rect l="0" t="0" r="r" b="b"/>
              <a:pathLst>
                <a:path w="779" h="1320">
                  <a:moveTo>
                    <a:pt x="688" y="59"/>
                  </a:moveTo>
                  <a:lnTo>
                    <a:pt x="688" y="59"/>
                  </a:lnTo>
                  <a:lnTo>
                    <a:pt x="689" y="59"/>
                  </a:lnTo>
                  <a:cubicBezTo>
                    <a:pt x="707" y="62"/>
                    <a:pt x="724" y="69"/>
                    <a:pt x="739" y="80"/>
                  </a:cubicBezTo>
                  <a:cubicBezTo>
                    <a:pt x="753" y="92"/>
                    <a:pt x="765" y="107"/>
                    <a:pt x="772" y="124"/>
                  </a:cubicBezTo>
                  <a:cubicBezTo>
                    <a:pt x="778" y="141"/>
                    <a:pt x="781" y="160"/>
                    <a:pt x="778" y="178"/>
                  </a:cubicBezTo>
                  <a:lnTo>
                    <a:pt x="778" y="179"/>
                  </a:lnTo>
                  <a:lnTo>
                    <a:pt x="630" y="1229"/>
                  </a:lnTo>
                  <a:lnTo>
                    <a:pt x="630" y="1229"/>
                  </a:lnTo>
                  <a:lnTo>
                    <a:pt x="630" y="1230"/>
                  </a:lnTo>
                  <a:cubicBezTo>
                    <a:pt x="627" y="1248"/>
                    <a:pt x="620" y="1265"/>
                    <a:pt x="608" y="1280"/>
                  </a:cubicBezTo>
                  <a:cubicBezTo>
                    <a:pt x="597" y="1294"/>
                    <a:pt x="582" y="1305"/>
                    <a:pt x="565" y="1312"/>
                  </a:cubicBezTo>
                  <a:cubicBezTo>
                    <a:pt x="548" y="1319"/>
                    <a:pt x="529" y="1322"/>
                    <a:pt x="511" y="1319"/>
                  </a:cubicBezTo>
                  <a:lnTo>
                    <a:pt x="511" y="1319"/>
                  </a:lnTo>
                  <a:lnTo>
                    <a:pt x="91" y="1260"/>
                  </a:lnTo>
                  <a:lnTo>
                    <a:pt x="91" y="1260"/>
                  </a:lnTo>
                  <a:lnTo>
                    <a:pt x="90" y="1260"/>
                  </a:lnTo>
                  <a:cubicBezTo>
                    <a:pt x="72" y="1257"/>
                    <a:pt x="55" y="1250"/>
                    <a:pt x="40" y="1239"/>
                  </a:cubicBezTo>
                  <a:cubicBezTo>
                    <a:pt x="26" y="1227"/>
                    <a:pt x="15" y="1212"/>
                    <a:pt x="8" y="1195"/>
                  </a:cubicBezTo>
                  <a:cubicBezTo>
                    <a:pt x="1" y="1178"/>
                    <a:pt x="-2" y="1159"/>
                    <a:pt x="1" y="1141"/>
                  </a:cubicBezTo>
                  <a:lnTo>
                    <a:pt x="1" y="1141"/>
                  </a:lnTo>
                  <a:lnTo>
                    <a:pt x="148" y="91"/>
                  </a:lnTo>
                  <a:lnTo>
                    <a:pt x="148" y="91"/>
                  </a:lnTo>
                  <a:lnTo>
                    <a:pt x="148" y="90"/>
                  </a:lnTo>
                  <a:cubicBezTo>
                    <a:pt x="151" y="72"/>
                    <a:pt x="158" y="55"/>
                    <a:pt x="170" y="40"/>
                  </a:cubicBezTo>
                  <a:cubicBezTo>
                    <a:pt x="181" y="26"/>
                    <a:pt x="196" y="15"/>
                    <a:pt x="213" y="8"/>
                  </a:cubicBezTo>
                  <a:cubicBezTo>
                    <a:pt x="230" y="1"/>
                    <a:pt x="249" y="-2"/>
                    <a:pt x="267" y="1"/>
                  </a:cubicBezTo>
                  <a:lnTo>
                    <a:pt x="267" y="1"/>
                  </a:lnTo>
                  <a:lnTo>
                    <a:pt x="688" y="59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572000" y="6629400"/>
              <a:ext cx="76320" cy="457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 flipH="1">
              <a:off x="4876920" y="6629400"/>
              <a:ext cx="75960" cy="457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4648320" y="7086600"/>
              <a:ext cx="76320" cy="76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800600" y="7086600"/>
              <a:ext cx="76320" cy="76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4648320" y="7162920"/>
              <a:ext cx="228600" cy="76320"/>
            </a:xfrm>
            <a:prstGeom prst="round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7" name=""/>
          <p:cNvGrpSpPr/>
          <p:nvPr/>
        </p:nvGrpSpPr>
        <p:grpSpPr>
          <a:xfrm>
            <a:off x="441360" y="7513560"/>
            <a:ext cx="4587840" cy="1400040"/>
            <a:chOff x="441360" y="7513560"/>
            <a:chExt cx="4587840" cy="1400040"/>
          </a:xfrm>
        </p:grpSpPr>
        <p:grpSp>
          <p:nvGrpSpPr>
            <p:cNvPr id="318" name=""/>
            <p:cNvGrpSpPr/>
            <p:nvPr/>
          </p:nvGrpSpPr>
          <p:grpSpPr>
            <a:xfrm>
              <a:off x="441360" y="7513560"/>
              <a:ext cx="1844640" cy="1400040"/>
              <a:chOff x="441360" y="7513560"/>
              <a:chExt cx="1844640" cy="1400040"/>
            </a:xfrm>
          </p:grpSpPr>
          <p:sp>
            <p:nvSpPr>
              <p:cNvPr id="319" name=""/>
              <p:cNvSpPr/>
              <p:nvPr/>
            </p:nvSpPr>
            <p:spPr>
              <a:xfrm>
                <a:off x="838080" y="7763040"/>
                <a:ext cx="0" cy="609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838080" y="8372520"/>
                <a:ext cx="5335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flipH="1">
                <a:off x="609480" y="8372520"/>
                <a:ext cx="228600" cy="304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 txBox="1"/>
              <p:nvPr/>
            </p:nvSpPr>
            <p:spPr>
              <a:xfrm>
                <a:off x="657360" y="7513560"/>
                <a:ext cx="276120" cy="244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Y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 txBox="1"/>
              <p:nvPr/>
            </p:nvSpPr>
            <p:spPr>
              <a:xfrm>
                <a:off x="1343160" y="8275680"/>
                <a:ext cx="276120" cy="244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X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 txBox="1"/>
              <p:nvPr/>
            </p:nvSpPr>
            <p:spPr>
              <a:xfrm>
                <a:off x="441360" y="8669160"/>
                <a:ext cx="262080" cy="244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Z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1905120" y="7763040"/>
                <a:ext cx="380880" cy="457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1981080" y="8296200"/>
                <a:ext cx="228600" cy="457200"/>
              </a:xfrm>
              <a:prstGeom prst="round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1905120" y="8296200"/>
                <a:ext cx="75960" cy="45720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 flipH="1">
                <a:off x="2209680" y="8296200"/>
                <a:ext cx="76320" cy="45720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1981080" y="8753400"/>
                <a:ext cx="76320" cy="763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25200" bIns="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2133720" y="8753400"/>
                <a:ext cx="76320" cy="763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25200" bIns="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981080" y="8829720"/>
                <a:ext cx="228600" cy="76320"/>
              </a:xfrm>
              <a:prstGeom prst="round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25200" bIns="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905120" y="7686720"/>
                <a:ext cx="380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3" name=""/>
            <p:cNvSpPr/>
            <p:nvPr/>
          </p:nvSpPr>
          <p:spPr>
            <a:xfrm>
              <a:off x="3505320" y="7763040"/>
              <a:ext cx="380880" cy="4572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581280" y="8296200"/>
              <a:ext cx="228600" cy="457200"/>
            </a:xfrm>
            <a:prstGeom prst="round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505320" y="8296200"/>
              <a:ext cx="0" cy="45720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 flipH="1">
              <a:off x="3657600" y="8296200"/>
              <a:ext cx="228600" cy="45720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7" name=""/>
            <p:cNvGrpSpPr/>
            <p:nvPr/>
          </p:nvGrpSpPr>
          <p:grpSpPr>
            <a:xfrm>
              <a:off x="3429000" y="8753400"/>
              <a:ext cx="228600" cy="152640"/>
              <a:chOff x="3429000" y="8753400"/>
              <a:chExt cx="228600" cy="152640"/>
            </a:xfrm>
          </p:grpSpPr>
          <p:sp>
            <p:nvSpPr>
              <p:cNvPr id="338" name=""/>
              <p:cNvSpPr/>
              <p:nvPr/>
            </p:nvSpPr>
            <p:spPr>
              <a:xfrm>
                <a:off x="3429000" y="8753400"/>
                <a:ext cx="76320" cy="763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25200" bIns="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3581280" y="8753400"/>
                <a:ext cx="76320" cy="763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25200" bIns="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3429000" y="8829720"/>
                <a:ext cx="228600" cy="76320"/>
              </a:xfrm>
              <a:prstGeom prst="round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25200" bIns="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1" name=""/>
            <p:cNvSpPr/>
            <p:nvPr/>
          </p:nvSpPr>
          <p:spPr>
            <a:xfrm>
              <a:off x="4572000" y="7763040"/>
              <a:ext cx="380880" cy="4572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648320" y="8296200"/>
              <a:ext cx="228600" cy="457200"/>
            </a:xfrm>
            <a:prstGeom prst="round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4572000" y="8296200"/>
              <a:ext cx="228600" cy="45720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4952880" y="8296200"/>
              <a:ext cx="76320" cy="45720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5" name=""/>
            <p:cNvGrpSpPr/>
            <p:nvPr/>
          </p:nvGrpSpPr>
          <p:grpSpPr>
            <a:xfrm>
              <a:off x="4800600" y="8753400"/>
              <a:ext cx="228600" cy="152640"/>
              <a:chOff x="4800600" y="8753400"/>
              <a:chExt cx="228600" cy="152640"/>
            </a:xfrm>
          </p:grpSpPr>
          <p:sp>
            <p:nvSpPr>
              <p:cNvPr id="346" name=""/>
              <p:cNvSpPr/>
              <p:nvPr/>
            </p:nvSpPr>
            <p:spPr>
              <a:xfrm>
                <a:off x="4800600" y="8753400"/>
                <a:ext cx="76320" cy="763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25200" bIns="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4952880" y="8753400"/>
                <a:ext cx="76320" cy="763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25200" bIns="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4800600" y="8829720"/>
                <a:ext cx="228600" cy="76320"/>
              </a:xfrm>
              <a:prstGeom prst="round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25200" bIns="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49" name=""/>
          <p:cNvSpPr txBox="1"/>
          <p:nvPr/>
        </p:nvSpPr>
        <p:spPr>
          <a:xfrm>
            <a:off x="3398760" y="7421400"/>
            <a:ext cx="206676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atégorie de mouvement des Epaul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hubber</dc:creator>
  <dc:description/>
  <dc:language>en-US</dc:language>
  <cp:lastModifiedBy>Shubber</cp:lastModifiedBy>
  <cp:revision>0</cp:revision>
  <dc:subject/>
  <dc:title>Aucun titre de diapositive</dc:title>
</cp:coreProperties>
</file>