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1279440" y="174600"/>
            <a:ext cx="3689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gramme de l’Open Université Hollanda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990720" y="533520"/>
            <a:ext cx="6477120" cy="525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2971800" y="762120"/>
            <a:ext cx="2057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il de l’Univers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19320" y="1600200"/>
            <a:ext cx="59436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86200" y="1143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2666880" cy="20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2057400"/>
            <a:ext cx="12193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12408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413160" y="1874880"/>
            <a:ext cx="118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té Exécu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470560" y="2027160"/>
            <a:ext cx="93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ège 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4240" y="3170160"/>
            <a:ext cx="136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il Participa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32080" y="233208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ul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965240" y="3398760"/>
            <a:ext cx="2265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études et de recherch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733920"/>
            <a:ext cx="53352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495680"/>
            <a:ext cx="6094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3657600"/>
            <a:ext cx="6094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648320"/>
            <a:ext cx="6094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57600" y="4114800"/>
            <a:ext cx="609480" cy="533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93840" y="4670280"/>
            <a:ext cx="53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955960" y="474660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amp;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79640" y="3755880"/>
            <a:ext cx="638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641760" y="4160880"/>
            <a:ext cx="61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1981080"/>
            <a:ext cx="76212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2743200"/>
            <a:ext cx="457200" cy="6094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2362320"/>
            <a:ext cx="2895480" cy="3045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743200"/>
            <a:ext cx="2895480" cy="533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05320" y="2286000"/>
            <a:ext cx="152280" cy="10666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98108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43400" y="2514600"/>
            <a:ext cx="106668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495680" y="335268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286000"/>
            <a:ext cx="121896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70160" y="3832200"/>
            <a:ext cx="558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</dc:creator>
  <dc:description/>
  <dc:language>en-US</dc:language>
  <cp:lastModifiedBy>Bill</cp:lastModifiedBy>
  <cp:revision>0</cp:revision>
  <dc:subject/>
  <dc:title>Aucun titre de diapositive</dc:title>
</cp:coreProperties>
</file>