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822240" y="803520"/>
            <a:ext cx="4660920" cy="2176200"/>
            <a:chOff x="822240" y="803520"/>
            <a:chExt cx="4660920" cy="2176200"/>
          </a:xfrm>
        </p:grpSpPr>
        <p:sp>
          <p:nvSpPr>
            <p:cNvPr id="40" name=""/>
            <p:cNvSpPr/>
            <p:nvPr/>
          </p:nvSpPr>
          <p:spPr>
            <a:xfrm>
              <a:off x="3809880" y="213372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733920" y="213372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" name=""/>
            <p:cNvGrpSpPr/>
            <p:nvPr/>
          </p:nvGrpSpPr>
          <p:grpSpPr>
            <a:xfrm>
              <a:off x="822240" y="803520"/>
              <a:ext cx="4660920" cy="2176200"/>
              <a:chOff x="822240" y="803520"/>
              <a:chExt cx="4660920" cy="2176200"/>
            </a:xfrm>
          </p:grpSpPr>
          <p:sp>
            <p:nvSpPr>
              <p:cNvPr id="43" name=""/>
              <p:cNvSpPr/>
              <p:nvPr/>
            </p:nvSpPr>
            <p:spPr>
              <a:xfrm>
                <a:off x="2362320" y="160020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438280" y="213372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362320" y="213372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2666880" y="213372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43828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59092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38280" y="266688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219320" y="18288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19320" y="24382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990720" y="2438280"/>
                <a:ext cx="2286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1050840" y="159228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 txBox="1"/>
              <p:nvPr/>
            </p:nvSpPr>
            <p:spPr>
              <a:xfrm>
                <a:off x="1736640" y="235440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822240" y="2735280"/>
                <a:ext cx="2682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112120" y="803520"/>
                <a:ext cx="595440" cy="415800"/>
              </a:xfrm>
              <a:custGeom>
                <a:avLst/>
                <a:gdLst/>
                <a:ahLst/>
                <a:rect l="0" t="0" r="r" b="b"/>
                <a:pathLst>
                  <a:path fill="none" w="1654" h="1155">
                    <a:moveTo>
                      <a:pt x="695" y="1155"/>
                    </a:moveTo>
                    <a:lnTo>
                      <a:pt x="1654" y="321"/>
                    </a:lnTo>
                    <a:lnTo>
                      <a:pt x="1654" y="321"/>
                    </a:lnTo>
                    <a:lnTo>
                      <a:pt x="1654" y="321"/>
                    </a:lnTo>
                    <a:cubicBezTo>
                      <a:pt x="1532" y="181"/>
                      <a:pt x="1368" y="82"/>
                      <a:pt x="1178" y="33"/>
                    </a:cubicBezTo>
                    <a:cubicBezTo>
                      <a:pt x="988" y="-15"/>
                      <a:pt x="779" y="-11"/>
                      <a:pt x="572" y="46"/>
                    </a:cubicBezTo>
                    <a:cubicBezTo>
                      <a:pt x="366" y="103"/>
                      <a:pt x="168" y="209"/>
                      <a:pt x="0" y="355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3641760" y="1211400"/>
                <a:ext cx="18414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catégorie de mouvement de Tê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55440" y="1601640"/>
                <a:ext cx="385560" cy="454680"/>
              </a:xfrm>
              <a:custGeom>
                <a:avLst/>
                <a:gdLst/>
                <a:ahLst/>
                <a:rect l="0" t="0" r="r" b="b"/>
                <a:pathLst>
                  <a:path w="1071" h="1263">
                    <a:moveTo>
                      <a:pt x="19" y="750"/>
                    </a:moveTo>
                    <a:lnTo>
                      <a:pt x="19" y="750"/>
                    </a:lnTo>
                    <a:lnTo>
                      <a:pt x="19" y="750"/>
                    </a:lnTo>
                    <a:cubicBezTo>
                      <a:pt x="44" y="859"/>
                      <a:pt x="93" y="960"/>
                      <a:pt x="160" y="1044"/>
                    </a:cubicBezTo>
                    <a:cubicBezTo>
                      <a:pt x="227" y="1128"/>
                      <a:pt x="310" y="1191"/>
                      <a:pt x="401" y="1227"/>
                    </a:cubicBezTo>
                    <a:cubicBezTo>
                      <a:pt x="492" y="1264"/>
                      <a:pt x="587" y="1272"/>
                      <a:pt x="678" y="1251"/>
                    </a:cubicBezTo>
                    <a:cubicBezTo>
                      <a:pt x="769" y="1230"/>
                      <a:pt x="851" y="1181"/>
                      <a:pt x="917" y="1108"/>
                    </a:cubicBezTo>
                    <a:cubicBezTo>
                      <a:pt x="983" y="1036"/>
                      <a:pt x="1030" y="942"/>
                      <a:pt x="1053" y="838"/>
                    </a:cubicBezTo>
                    <a:cubicBezTo>
                      <a:pt x="1077" y="733"/>
                      <a:pt x="1076" y="621"/>
                      <a:pt x="1051" y="512"/>
                    </a:cubicBezTo>
                    <a:lnTo>
                      <a:pt x="1051" y="512"/>
                    </a:lnTo>
                    <a:lnTo>
                      <a:pt x="1051" y="512"/>
                    </a:lnTo>
                    <a:cubicBezTo>
                      <a:pt x="1026" y="403"/>
                      <a:pt x="977" y="302"/>
                      <a:pt x="910" y="218"/>
                    </a:cubicBezTo>
                    <a:cubicBezTo>
                      <a:pt x="843" y="134"/>
                      <a:pt x="760" y="71"/>
                      <a:pt x="669" y="35"/>
                    </a:cubicBezTo>
                    <a:cubicBezTo>
                      <a:pt x="578" y="-2"/>
                      <a:pt x="483" y="-10"/>
                      <a:pt x="392" y="11"/>
                    </a:cubicBezTo>
                    <a:cubicBezTo>
                      <a:pt x="301" y="32"/>
                      <a:pt x="219" y="81"/>
                      <a:pt x="153" y="154"/>
                    </a:cubicBezTo>
                    <a:cubicBezTo>
                      <a:pt x="87" y="226"/>
                      <a:pt x="40" y="320"/>
                      <a:pt x="17" y="424"/>
                    </a:cubicBezTo>
                    <a:cubicBezTo>
                      <a:pt x="-7" y="529"/>
                      <a:pt x="-6" y="641"/>
                      <a:pt x="19" y="75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4038480" y="213372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0988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96252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9880" y="266688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37880" y="1608840"/>
                <a:ext cx="402120" cy="439920"/>
              </a:xfrm>
              <a:custGeom>
                <a:avLst/>
                <a:gdLst/>
                <a:ahLst/>
                <a:rect l="0" t="0" r="r" b="b"/>
                <a:pathLst>
                  <a:path w="1117" h="1222">
                    <a:moveTo>
                      <a:pt x="99" y="347"/>
                    </a:moveTo>
                    <a:lnTo>
                      <a:pt x="99" y="347"/>
                    </a:lnTo>
                    <a:cubicBezTo>
                      <a:pt x="43" y="443"/>
                      <a:pt x="10" y="551"/>
                      <a:pt x="2" y="658"/>
                    </a:cubicBezTo>
                    <a:cubicBezTo>
                      <a:pt x="-6" y="765"/>
                      <a:pt x="11" y="868"/>
                      <a:pt x="53" y="956"/>
                    </a:cubicBezTo>
                    <a:cubicBezTo>
                      <a:pt x="95" y="1045"/>
                      <a:pt x="160" y="1116"/>
                      <a:pt x="240" y="1163"/>
                    </a:cubicBezTo>
                    <a:cubicBezTo>
                      <a:pt x="321" y="1209"/>
                      <a:pt x="415" y="1229"/>
                      <a:pt x="512" y="1221"/>
                    </a:cubicBezTo>
                    <a:cubicBezTo>
                      <a:pt x="610" y="1213"/>
                      <a:pt x="708" y="1177"/>
                      <a:pt x="797" y="1117"/>
                    </a:cubicBezTo>
                    <a:cubicBezTo>
                      <a:pt x="886" y="1056"/>
                      <a:pt x="962" y="973"/>
                      <a:pt x="1018" y="877"/>
                    </a:cubicBezTo>
                    <a:lnTo>
                      <a:pt x="1018" y="876"/>
                    </a:lnTo>
                    <a:lnTo>
                      <a:pt x="1018" y="876"/>
                    </a:lnTo>
                    <a:cubicBezTo>
                      <a:pt x="1074" y="780"/>
                      <a:pt x="1107" y="672"/>
                      <a:pt x="1115" y="565"/>
                    </a:cubicBezTo>
                    <a:cubicBezTo>
                      <a:pt x="1123" y="458"/>
                      <a:pt x="1106" y="355"/>
                      <a:pt x="1064" y="267"/>
                    </a:cubicBezTo>
                    <a:cubicBezTo>
                      <a:pt x="1022" y="178"/>
                      <a:pt x="957" y="107"/>
                      <a:pt x="877" y="60"/>
                    </a:cubicBezTo>
                    <a:cubicBezTo>
                      <a:pt x="796" y="14"/>
                      <a:pt x="702" y="-6"/>
                      <a:pt x="605" y="2"/>
                    </a:cubicBezTo>
                    <a:cubicBezTo>
                      <a:pt x="507" y="10"/>
                      <a:pt x="409" y="46"/>
                      <a:pt x="320" y="106"/>
                    </a:cubicBezTo>
                    <a:cubicBezTo>
                      <a:pt x="231" y="167"/>
                      <a:pt x="155" y="250"/>
                      <a:pt x="99" y="346"/>
                    </a:cubicBezTo>
                    <a:lnTo>
                      <a:pt x="99" y="347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48320" y="213372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72000" y="213372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4876920" y="213372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4832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0600" y="25909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48320" y="266688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974880" y="5070960"/>
            <a:ext cx="4413240" cy="1794960"/>
            <a:chOff x="974880" y="5070960"/>
            <a:chExt cx="4413240" cy="1794960"/>
          </a:xfrm>
        </p:grpSpPr>
        <p:sp>
          <p:nvSpPr>
            <p:cNvPr id="71" name=""/>
            <p:cNvSpPr txBox="1"/>
            <p:nvPr/>
          </p:nvSpPr>
          <p:spPr>
            <a:xfrm>
              <a:off x="3475080" y="5364000"/>
              <a:ext cx="1913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atégorie de mouvement du Bus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71600" y="57150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63244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143000" y="63244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1190520" y="54658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876320" y="62276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974880" y="662148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571500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624852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828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74320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460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688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4600" y="678168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8440" y="507096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62840" y="5718960"/>
              <a:ext cx="384120" cy="461880"/>
            </a:xfrm>
            <a:custGeom>
              <a:avLst/>
              <a:gdLst/>
              <a:ahLst/>
              <a:rect l="0" t="0" r="r" b="b"/>
              <a:pathLst>
                <a:path w="1067" h="1283">
                  <a:moveTo>
                    <a:pt x="10" y="725"/>
                  </a:moveTo>
                  <a:lnTo>
                    <a:pt x="10" y="725"/>
                  </a:lnTo>
                  <a:cubicBezTo>
                    <a:pt x="10" y="727"/>
                    <a:pt x="11" y="729"/>
                    <a:pt x="11" y="731"/>
                  </a:cubicBezTo>
                  <a:cubicBezTo>
                    <a:pt x="29" y="842"/>
                    <a:pt x="70" y="946"/>
                    <a:pt x="131" y="1035"/>
                  </a:cubicBezTo>
                  <a:cubicBezTo>
                    <a:pt x="192" y="1123"/>
                    <a:pt x="271" y="1192"/>
                    <a:pt x="359" y="1235"/>
                  </a:cubicBezTo>
                  <a:cubicBezTo>
                    <a:pt x="447" y="1278"/>
                    <a:pt x="542" y="1293"/>
                    <a:pt x="634" y="1278"/>
                  </a:cubicBezTo>
                  <a:cubicBezTo>
                    <a:pt x="726" y="1263"/>
                    <a:pt x="811" y="1220"/>
                    <a:pt x="882" y="1152"/>
                  </a:cubicBezTo>
                  <a:cubicBezTo>
                    <a:pt x="953" y="1084"/>
                    <a:pt x="1006" y="994"/>
                    <a:pt x="1037" y="891"/>
                  </a:cubicBezTo>
                  <a:cubicBezTo>
                    <a:pt x="1068" y="788"/>
                    <a:pt x="1074" y="676"/>
                    <a:pt x="1057" y="566"/>
                  </a:cubicBezTo>
                  <a:cubicBezTo>
                    <a:pt x="1057" y="564"/>
                    <a:pt x="1056" y="561"/>
                    <a:pt x="1056" y="559"/>
                  </a:cubicBezTo>
                  <a:lnTo>
                    <a:pt x="1056" y="559"/>
                  </a:lnTo>
                  <a:cubicBezTo>
                    <a:pt x="1056" y="557"/>
                    <a:pt x="1055" y="555"/>
                    <a:pt x="1055" y="553"/>
                  </a:cubicBezTo>
                  <a:cubicBezTo>
                    <a:pt x="1037" y="442"/>
                    <a:pt x="996" y="338"/>
                    <a:pt x="935" y="249"/>
                  </a:cubicBezTo>
                  <a:cubicBezTo>
                    <a:pt x="874" y="161"/>
                    <a:pt x="795" y="92"/>
                    <a:pt x="707" y="49"/>
                  </a:cubicBezTo>
                  <a:cubicBezTo>
                    <a:pt x="619" y="6"/>
                    <a:pt x="524" y="-9"/>
                    <a:pt x="432" y="6"/>
                  </a:cubicBezTo>
                  <a:cubicBezTo>
                    <a:pt x="340" y="21"/>
                    <a:pt x="255" y="64"/>
                    <a:pt x="184" y="132"/>
                  </a:cubicBezTo>
                  <a:cubicBezTo>
                    <a:pt x="113" y="200"/>
                    <a:pt x="60" y="290"/>
                    <a:pt x="29" y="393"/>
                  </a:cubicBezTo>
                  <a:cubicBezTo>
                    <a:pt x="-2" y="496"/>
                    <a:pt x="-8" y="608"/>
                    <a:pt x="9" y="718"/>
                  </a:cubicBezTo>
                  <a:cubicBezTo>
                    <a:pt x="9" y="720"/>
                    <a:pt x="10" y="723"/>
                    <a:pt x="10" y="72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93880" y="6235560"/>
              <a:ext cx="286920" cy="476640"/>
            </a:xfrm>
            <a:custGeom>
              <a:avLst/>
              <a:gdLst/>
              <a:ahLst/>
              <a:rect l="0" t="0" r="r" b="b"/>
              <a:pathLst>
                <a:path w="797" h="1324">
                  <a:moveTo>
                    <a:pt x="508" y="1"/>
                  </a:moveTo>
                  <a:lnTo>
                    <a:pt x="508" y="1"/>
                  </a:lnTo>
                  <a:lnTo>
                    <a:pt x="508" y="1"/>
                  </a:lnTo>
                  <a:cubicBezTo>
                    <a:pt x="527" y="-2"/>
                    <a:pt x="545" y="0"/>
                    <a:pt x="562" y="7"/>
                  </a:cubicBezTo>
                  <a:cubicBezTo>
                    <a:pt x="580" y="13"/>
                    <a:pt x="595" y="24"/>
                    <a:pt x="607" y="39"/>
                  </a:cubicBezTo>
                  <a:cubicBezTo>
                    <a:pt x="618" y="53"/>
                    <a:pt x="626" y="70"/>
                    <a:pt x="629" y="88"/>
                  </a:cubicBezTo>
                  <a:cubicBezTo>
                    <a:pt x="629" y="89"/>
                    <a:pt x="629" y="89"/>
                    <a:pt x="629" y="89"/>
                  </a:cubicBezTo>
                  <a:lnTo>
                    <a:pt x="795" y="1135"/>
                  </a:lnTo>
                  <a:lnTo>
                    <a:pt x="795" y="1135"/>
                  </a:lnTo>
                  <a:lnTo>
                    <a:pt x="795" y="1136"/>
                  </a:lnTo>
                  <a:cubicBezTo>
                    <a:pt x="798" y="1154"/>
                    <a:pt x="796" y="1172"/>
                    <a:pt x="789" y="1190"/>
                  </a:cubicBezTo>
                  <a:cubicBezTo>
                    <a:pt x="783" y="1207"/>
                    <a:pt x="772" y="1222"/>
                    <a:pt x="757" y="1234"/>
                  </a:cubicBezTo>
                  <a:cubicBezTo>
                    <a:pt x="743" y="1245"/>
                    <a:pt x="726" y="1253"/>
                    <a:pt x="708" y="1256"/>
                  </a:cubicBezTo>
                  <a:cubicBezTo>
                    <a:pt x="707" y="1256"/>
                    <a:pt x="707" y="1256"/>
                    <a:pt x="707" y="1256"/>
                  </a:cubicBezTo>
                  <a:lnTo>
                    <a:pt x="287" y="1322"/>
                  </a:lnTo>
                  <a:lnTo>
                    <a:pt x="287" y="1322"/>
                  </a:lnTo>
                  <a:lnTo>
                    <a:pt x="287" y="1322"/>
                  </a:lnTo>
                  <a:cubicBezTo>
                    <a:pt x="268" y="1325"/>
                    <a:pt x="250" y="1323"/>
                    <a:pt x="232" y="1316"/>
                  </a:cubicBezTo>
                  <a:cubicBezTo>
                    <a:pt x="215" y="1310"/>
                    <a:pt x="200" y="1299"/>
                    <a:pt x="188" y="1284"/>
                  </a:cubicBezTo>
                  <a:cubicBezTo>
                    <a:pt x="177" y="1270"/>
                    <a:pt x="169" y="1253"/>
                    <a:pt x="166" y="1235"/>
                  </a:cubicBezTo>
                  <a:cubicBezTo>
                    <a:pt x="166" y="1234"/>
                    <a:pt x="166" y="1234"/>
                    <a:pt x="166" y="1234"/>
                  </a:cubicBezTo>
                  <a:lnTo>
                    <a:pt x="1" y="188"/>
                  </a:lnTo>
                  <a:lnTo>
                    <a:pt x="1" y="188"/>
                  </a:lnTo>
                  <a:lnTo>
                    <a:pt x="1" y="187"/>
                  </a:lnTo>
                  <a:cubicBezTo>
                    <a:pt x="-2" y="169"/>
                    <a:pt x="0" y="151"/>
                    <a:pt x="7" y="133"/>
                  </a:cubicBezTo>
                  <a:cubicBezTo>
                    <a:pt x="13" y="116"/>
                    <a:pt x="24" y="101"/>
                    <a:pt x="39" y="89"/>
                  </a:cubicBezTo>
                  <a:cubicBezTo>
                    <a:pt x="53" y="78"/>
                    <a:pt x="70" y="70"/>
                    <a:pt x="88" y="67"/>
                  </a:cubicBezTo>
                  <a:cubicBezTo>
                    <a:pt x="89" y="67"/>
                    <a:pt x="89" y="67"/>
                    <a:pt x="89" y="67"/>
                  </a:cubicBezTo>
                  <a:lnTo>
                    <a:pt x="508" y="1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8128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88620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5760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0988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7600" y="678168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33360" y="5716800"/>
              <a:ext cx="381600" cy="458640"/>
            </a:xfrm>
            <a:custGeom>
              <a:avLst/>
              <a:gdLst/>
              <a:ahLst/>
              <a:rect l="0" t="0" r="r" b="b"/>
              <a:pathLst>
                <a:path w="1060" h="1274">
                  <a:moveTo>
                    <a:pt x="6" y="572"/>
                  </a:moveTo>
                  <a:lnTo>
                    <a:pt x="6" y="572"/>
                  </a:lnTo>
                  <a:cubicBezTo>
                    <a:pt x="6" y="573"/>
                    <a:pt x="6" y="573"/>
                    <a:pt x="6" y="573"/>
                  </a:cubicBezTo>
                  <a:cubicBezTo>
                    <a:pt x="-8" y="684"/>
                    <a:pt x="3" y="796"/>
                    <a:pt x="37" y="898"/>
                  </a:cubicBezTo>
                  <a:cubicBezTo>
                    <a:pt x="71" y="1000"/>
                    <a:pt x="128" y="1088"/>
                    <a:pt x="201" y="1154"/>
                  </a:cubicBezTo>
                  <a:cubicBezTo>
                    <a:pt x="273" y="1219"/>
                    <a:pt x="360" y="1260"/>
                    <a:pt x="452" y="1271"/>
                  </a:cubicBezTo>
                  <a:cubicBezTo>
                    <a:pt x="544" y="1282"/>
                    <a:pt x="638" y="1264"/>
                    <a:pt x="725" y="1218"/>
                  </a:cubicBezTo>
                  <a:cubicBezTo>
                    <a:pt x="811" y="1172"/>
                    <a:pt x="887" y="1100"/>
                    <a:pt x="945" y="1010"/>
                  </a:cubicBezTo>
                  <a:cubicBezTo>
                    <a:pt x="1003" y="919"/>
                    <a:pt x="1040" y="813"/>
                    <a:pt x="1054" y="702"/>
                  </a:cubicBezTo>
                  <a:lnTo>
                    <a:pt x="1054" y="702"/>
                  </a:lnTo>
                  <a:cubicBezTo>
                    <a:pt x="1054" y="701"/>
                    <a:pt x="1054" y="701"/>
                    <a:pt x="1054" y="701"/>
                  </a:cubicBezTo>
                  <a:cubicBezTo>
                    <a:pt x="1068" y="590"/>
                    <a:pt x="1057" y="478"/>
                    <a:pt x="1023" y="376"/>
                  </a:cubicBezTo>
                  <a:cubicBezTo>
                    <a:pt x="989" y="274"/>
                    <a:pt x="932" y="186"/>
                    <a:pt x="859" y="120"/>
                  </a:cubicBezTo>
                  <a:cubicBezTo>
                    <a:pt x="787" y="55"/>
                    <a:pt x="700" y="14"/>
                    <a:pt x="608" y="3"/>
                  </a:cubicBezTo>
                  <a:cubicBezTo>
                    <a:pt x="516" y="-8"/>
                    <a:pt x="422" y="10"/>
                    <a:pt x="335" y="56"/>
                  </a:cubicBezTo>
                  <a:cubicBezTo>
                    <a:pt x="249" y="102"/>
                    <a:pt x="173" y="174"/>
                    <a:pt x="115" y="264"/>
                  </a:cubicBezTo>
                  <a:cubicBezTo>
                    <a:pt x="57" y="355"/>
                    <a:pt x="20" y="461"/>
                    <a:pt x="6" y="57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22200" y="6238800"/>
              <a:ext cx="274680" cy="473400"/>
            </a:xfrm>
            <a:custGeom>
              <a:avLst/>
              <a:gdLst/>
              <a:ahLst/>
              <a:rect l="0" t="0" r="r" b="b"/>
              <a:pathLst>
                <a:path w="763" h="1315">
                  <a:moveTo>
                    <a:pt x="670" y="53"/>
                  </a:moveTo>
                  <a:lnTo>
                    <a:pt x="670" y="53"/>
                  </a:lnTo>
                  <a:lnTo>
                    <a:pt x="671" y="53"/>
                  </a:lnTo>
                  <a:cubicBezTo>
                    <a:pt x="690" y="56"/>
                    <a:pt x="707" y="63"/>
                    <a:pt x="722" y="74"/>
                  </a:cubicBezTo>
                  <a:cubicBezTo>
                    <a:pt x="737" y="85"/>
                    <a:pt x="748" y="100"/>
                    <a:pt x="756" y="117"/>
                  </a:cubicBezTo>
                  <a:cubicBezTo>
                    <a:pt x="763" y="134"/>
                    <a:pt x="765" y="152"/>
                    <a:pt x="763" y="170"/>
                  </a:cubicBezTo>
                  <a:cubicBezTo>
                    <a:pt x="763" y="171"/>
                    <a:pt x="763" y="171"/>
                    <a:pt x="763" y="171"/>
                  </a:cubicBezTo>
                  <a:lnTo>
                    <a:pt x="634" y="1223"/>
                  </a:lnTo>
                  <a:lnTo>
                    <a:pt x="634" y="1223"/>
                  </a:lnTo>
                  <a:lnTo>
                    <a:pt x="634" y="1224"/>
                  </a:lnTo>
                  <a:cubicBezTo>
                    <a:pt x="631" y="1242"/>
                    <a:pt x="624" y="1259"/>
                    <a:pt x="613" y="1274"/>
                  </a:cubicBezTo>
                  <a:cubicBezTo>
                    <a:pt x="602" y="1289"/>
                    <a:pt x="587" y="1300"/>
                    <a:pt x="570" y="1308"/>
                  </a:cubicBezTo>
                  <a:cubicBezTo>
                    <a:pt x="553" y="1315"/>
                    <a:pt x="535" y="1317"/>
                    <a:pt x="516" y="1315"/>
                  </a:cubicBezTo>
                  <a:lnTo>
                    <a:pt x="515" y="1315"/>
                  </a:lnTo>
                  <a:lnTo>
                    <a:pt x="93" y="1264"/>
                  </a:lnTo>
                  <a:lnTo>
                    <a:pt x="93" y="1264"/>
                  </a:lnTo>
                  <a:lnTo>
                    <a:pt x="93" y="1264"/>
                  </a:lnTo>
                  <a:cubicBezTo>
                    <a:pt x="74" y="1262"/>
                    <a:pt x="57" y="1255"/>
                    <a:pt x="42" y="1243"/>
                  </a:cubicBezTo>
                  <a:cubicBezTo>
                    <a:pt x="27" y="1232"/>
                    <a:pt x="16" y="1218"/>
                    <a:pt x="8" y="1201"/>
                  </a:cubicBezTo>
                  <a:cubicBezTo>
                    <a:pt x="1" y="1184"/>
                    <a:pt x="-1" y="1165"/>
                    <a:pt x="1" y="1147"/>
                  </a:cubicBezTo>
                  <a:cubicBezTo>
                    <a:pt x="1" y="1146"/>
                    <a:pt x="1" y="1146"/>
                    <a:pt x="1" y="1146"/>
                  </a:cubicBezTo>
                  <a:lnTo>
                    <a:pt x="130" y="93"/>
                  </a:lnTo>
                  <a:lnTo>
                    <a:pt x="130" y="93"/>
                  </a:lnTo>
                  <a:lnTo>
                    <a:pt x="130" y="92"/>
                  </a:lnTo>
                  <a:cubicBezTo>
                    <a:pt x="133" y="74"/>
                    <a:pt x="140" y="57"/>
                    <a:pt x="151" y="42"/>
                  </a:cubicBezTo>
                  <a:cubicBezTo>
                    <a:pt x="162" y="27"/>
                    <a:pt x="177" y="16"/>
                    <a:pt x="194" y="8"/>
                  </a:cubicBezTo>
                  <a:cubicBezTo>
                    <a:pt x="211" y="1"/>
                    <a:pt x="229" y="-1"/>
                    <a:pt x="248" y="1"/>
                  </a:cubicBezTo>
                  <a:lnTo>
                    <a:pt x="249" y="1"/>
                  </a:lnTo>
                  <a:lnTo>
                    <a:pt x="670" y="5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428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029200" y="62485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2880" y="67057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0600" y="678168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974880" y="6747120"/>
            <a:ext cx="4611600" cy="1969200"/>
            <a:chOff x="974880" y="6747120"/>
            <a:chExt cx="4611600" cy="1969200"/>
          </a:xfrm>
        </p:grpSpPr>
        <p:sp>
          <p:nvSpPr>
            <p:cNvPr id="101" name=""/>
            <p:cNvSpPr/>
            <p:nvPr/>
          </p:nvSpPr>
          <p:spPr>
            <a:xfrm>
              <a:off x="2438280" y="7391520"/>
              <a:ext cx="38088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792468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7924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43200" y="7924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8381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8381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84582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7543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8153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43000" y="81532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90520" y="72946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876320" y="805644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974880" y="8450280"/>
              <a:ext cx="268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551400" y="7192800"/>
              <a:ext cx="2035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atégorie de mouvement Tête-mai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88440" y="6747120"/>
              <a:ext cx="595440" cy="415800"/>
            </a:xfrm>
            <a:custGeom>
              <a:avLst/>
              <a:gdLst/>
              <a:ahLst/>
              <a:rect l="0" t="0" r="r" b="b"/>
              <a:pathLst>
                <a:path fill="none" w="1654" h="1155">
                  <a:moveTo>
                    <a:pt x="695" y="1155"/>
                  </a:moveTo>
                  <a:lnTo>
                    <a:pt x="1654" y="321"/>
                  </a:lnTo>
                  <a:lnTo>
                    <a:pt x="1654" y="321"/>
                  </a:lnTo>
                  <a:lnTo>
                    <a:pt x="1654" y="321"/>
                  </a:lnTo>
                  <a:cubicBezTo>
                    <a:pt x="1532" y="181"/>
                    <a:pt x="1368" y="82"/>
                    <a:pt x="1178" y="33"/>
                  </a:cubicBezTo>
                  <a:cubicBezTo>
                    <a:pt x="988" y="-15"/>
                    <a:pt x="779" y="-11"/>
                    <a:pt x="572" y="46"/>
                  </a:cubicBezTo>
                  <a:cubicBezTo>
                    <a:pt x="366" y="103"/>
                    <a:pt x="168" y="209"/>
                    <a:pt x="0" y="355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1600" y="8496360"/>
              <a:ext cx="371880" cy="219960"/>
            </a:xfrm>
            <a:custGeom>
              <a:avLst/>
              <a:gdLst/>
              <a:ahLst/>
              <a:rect l="0" t="0" r="r" b="b"/>
              <a:pathLst>
                <a:path fill="none" w="1033" h="611">
                  <a:moveTo>
                    <a:pt x="558" y="0"/>
                  </a:moveTo>
                  <a:lnTo>
                    <a:pt x="0" y="303"/>
                  </a:lnTo>
                  <a:lnTo>
                    <a:pt x="0" y="303"/>
                  </a:lnTo>
                  <a:cubicBezTo>
                    <a:pt x="28" y="368"/>
                    <a:pt x="69" y="425"/>
                    <a:pt x="119" y="472"/>
                  </a:cubicBezTo>
                  <a:cubicBezTo>
                    <a:pt x="192" y="540"/>
                    <a:pt x="284" y="585"/>
                    <a:pt x="386" y="603"/>
                  </a:cubicBezTo>
                  <a:cubicBezTo>
                    <a:pt x="487" y="620"/>
                    <a:pt x="595" y="610"/>
                    <a:pt x="699" y="572"/>
                  </a:cubicBezTo>
                  <a:cubicBezTo>
                    <a:pt x="802" y="535"/>
                    <a:pt x="897" y="472"/>
                    <a:pt x="974" y="389"/>
                  </a:cubicBezTo>
                  <a:cubicBezTo>
                    <a:pt x="995" y="366"/>
                    <a:pt x="1015" y="342"/>
                    <a:pt x="1033" y="317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1760" y="7468920"/>
              <a:ext cx="385560" cy="454680"/>
            </a:xfrm>
            <a:custGeom>
              <a:avLst/>
              <a:gdLst/>
              <a:ahLst/>
              <a:rect l="0" t="0" r="r" b="b"/>
              <a:pathLst>
                <a:path w="1071" h="1263">
                  <a:moveTo>
                    <a:pt x="19" y="750"/>
                  </a:moveTo>
                  <a:lnTo>
                    <a:pt x="19" y="750"/>
                  </a:lnTo>
                  <a:lnTo>
                    <a:pt x="19" y="750"/>
                  </a:lnTo>
                  <a:cubicBezTo>
                    <a:pt x="44" y="859"/>
                    <a:pt x="93" y="960"/>
                    <a:pt x="160" y="1044"/>
                  </a:cubicBezTo>
                  <a:cubicBezTo>
                    <a:pt x="227" y="1128"/>
                    <a:pt x="310" y="1191"/>
                    <a:pt x="401" y="1227"/>
                  </a:cubicBezTo>
                  <a:cubicBezTo>
                    <a:pt x="492" y="1264"/>
                    <a:pt x="587" y="1272"/>
                    <a:pt x="678" y="1251"/>
                  </a:cubicBezTo>
                  <a:cubicBezTo>
                    <a:pt x="769" y="1230"/>
                    <a:pt x="851" y="1181"/>
                    <a:pt x="917" y="1108"/>
                  </a:cubicBezTo>
                  <a:cubicBezTo>
                    <a:pt x="983" y="1036"/>
                    <a:pt x="1030" y="942"/>
                    <a:pt x="1053" y="838"/>
                  </a:cubicBezTo>
                  <a:cubicBezTo>
                    <a:pt x="1077" y="733"/>
                    <a:pt x="1076" y="621"/>
                    <a:pt x="1051" y="512"/>
                  </a:cubicBezTo>
                  <a:lnTo>
                    <a:pt x="1051" y="512"/>
                  </a:lnTo>
                  <a:lnTo>
                    <a:pt x="1051" y="512"/>
                  </a:lnTo>
                  <a:cubicBezTo>
                    <a:pt x="1026" y="403"/>
                    <a:pt x="977" y="302"/>
                    <a:pt x="910" y="218"/>
                  </a:cubicBezTo>
                  <a:cubicBezTo>
                    <a:pt x="843" y="134"/>
                    <a:pt x="760" y="71"/>
                    <a:pt x="669" y="35"/>
                  </a:cubicBezTo>
                  <a:cubicBezTo>
                    <a:pt x="578" y="-2"/>
                    <a:pt x="483" y="-10"/>
                    <a:pt x="392" y="11"/>
                  </a:cubicBezTo>
                  <a:cubicBezTo>
                    <a:pt x="301" y="32"/>
                    <a:pt x="219" y="81"/>
                    <a:pt x="153" y="154"/>
                  </a:cubicBezTo>
                  <a:cubicBezTo>
                    <a:pt x="87" y="226"/>
                    <a:pt x="40" y="320"/>
                    <a:pt x="17" y="424"/>
                  </a:cubicBezTo>
                  <a:cubicBezTo>
                    <a:pt x="-7" y="529"/>
                    <a:pt x="-6" y="641"/>
                    <a:pt x="19" y="750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14200" y="7476480"/>
              <a:ext cx="406440" cy="447480"/>
            </a:xfrm>
            <a:custGeom>
              <a:avLst/>
              <a:gdLst/>
              <a:ahLst/>
              <a:rect l="0" t="0" r="r" b="b"/>
              <a:pathLst>
                <a:path w="1129" h="1243">
                  <a:moveTo>
                    <a:pt x="106" y="357"/>
                  </a:moveTo>
                  <a:lnTo>
                    <a:pt x="106" y="357"/>
                  </a:lnTo>
                  <a:cubicBezTo>
                    <a:pt x="104" y="361"/>
                    <a:pt x="102" y="365"/>
                    <a:pt x="99" y="369"/>
                  </a:cubicBezTo>
                  <a:cubicBezTo>
                    <a:pt x="44" y="465"/>
                    <a:pt x="10" y="572"/>
                    <a:pt x="2" y="679"/>
                  </a:cubicBezTo>
                  <a:cubicBezTo>
                    <a:pt x="-6" y="786"/>
                    <a:pt x="12" y="889"/>
                    <a:pt x="54" y="978"/>
                  </a:cubicBezTo>
                  <a:cubicBezTo>
                    <a:pt x="95" y="1066"/>
                    <a:pt x="160" y="1137"/>
                    <a:pt x="240" y="1184"/>
                  </a:cubicBezTo>
                  <a:cubicBezTo>
                    <a:pt x="321" y="1230"/>
                    <a:pt x="414" y="1250"/>
                    <a:pt x="512" y="1242"/>
                  </a:cubicBezTo>
                  <a:cubicBezTo>
                    <a:pt x="610" y="1234"/>
                    <a:pt x="708" y="1198"/>
                    <a:pt x="796" y="1138"/>
                  </a:cubicBezTo>
                  <a:cubicBezTo>
                    <a:pt x="885" y="1077"/>
                    <a:pt x="961" y="995"/>
                    <a:pt x="1017" y="898"/>
                  </a:cubicBezTo>
                  <a:cubicBezTo>
                    <a:pt x="1019" y="894"/>
                    <a:pt x="1021" y="890"/>
                    <a:pt x="1023" y="887"/>
                  </a:cubicBezTo>
                  <a:lnTo>
                    <a:pt x="1023" y="887"/>
                  </a:lnTo>
                  <a:cubicBezTo>
                    <a:pt x="1025" y="883"/>
                    <a:pt x="1027" y="879"/>
                    <a:pt x="1030" y="875"/>
                  </a:cubicBezTo>
                  <a:cubicBezTo>
                    <a:pt x="1085" y="779"/>
                    <a:pt x="1119" y="672"/>
                    <a:pt x="1127" y="565"/>
                  </a:cubicBezTo>
                  <a:cubicBezTo>
                    <a:pt x="1135" y="458"/>
                    <a:pt x="1117" y="355"/>
                    <a:pt x="1075" y="266"/>
                  </a:cubicBezTo>
                  <a:cubicBezTo>
                    <a:pt x="1034" y="178"/>
                    <a:pt x="969" y="107"/>
                    <a:pt x="889" y="60"/>
                  </a:cubicBezTo>
                  <a:cubicBezTo>
                    <a:pt x="808" y="14"/>
                    <a:pt x="715" y="-6"/>
                    <a:pt x="617" y="2"/>
                  </a:cubicBezTo>
                  <a:cubicBezTo>
                    <a:pt x="519" y="10"/>
                    <a:pt x="421" y="46"/>
                    <a:pt x="333" y="106"/>
                  </a:cubicBezTo>
                  <a:cubicBezTo>
                    <a:pt x="244" y="167"/>
                    <a:pt x="168" y="249"/>
                    <a:pt x="112" y="346"/>
                  </a:cubicBezTo>
                  <a:cubicBezTo>
                    <a:pt x="110" y="350"/>
                    <a:pt x="108" y="354"/>
                    <a:pt x="106" y="357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80010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33920" y="800100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038480" y="80773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84582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85345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6000" y="8504640"/>
              <a:ext cx="216720" cy="136080"/>
            </a:xfrm>
            <a:custGeom>
              <a:avLst/>
              <a:gdLst/>
              <a:ahLst/>
              <a:rect l="0" t="0" r="r" b="b"/>
              <a:pathLst>
                <a:path w="602" h="378">
                  <a:moveTo>
                    <a:pt x="538" y="174"/>
                  </a:moveTo>
                  <a:lnTo>
                    <a:pt x="538" y="174"/>
                  </a:lnTo>
                  <a:cubicBezTo>
                    <a:pt x="538" y="175"/>
                    <a:pt x="538" y="175"/>
                    <a:pt x="539" y="175"/>
                  </a:cubicBezTo>
                  <a:cubicBezTo>
                    <a:pt x="556" y="182"/>
                    <a:pt x="570" y="194"/>
                    <a:pt x="582" y="208"/>
                  </a:cubicBezTo>
                  <a:cubicBezTo>
                    <a:pt x="593" y="223"/>
                    <a:pt x="600" y="241"/>
                    <a:pt x="602" y="259"/>
                  </a:cubicBezTo>
                  <a:cubicBezTo>
                    <a:pt x="604" y="277"/>
                    <a:pt x="602" y="296"/>
                    <a:pt x="594" y="313"/>
                  </a:cubicBez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cubicBezTo>
                    <a:pt x="587" y="331"/>
                    <a:pt x="575" y="346"/>
                    <a:pt x="560" y="357"/>
                  </a:cubicBezTo>
                  <a:cubicBezTo>
                    <a:pt x="546" y="368"/>
                    <a:pt x="528" y="375"/>
                    <a:pt x="510" y="378"/>
                  </a:cubicBezTo>
                  <a:cubicBezTo>
                    <a:pt x="491" y="380"/>
                    <a:pt x="473" y="377"/>
                    <a:pt x="456" y="370"/>
                  </a:cubicBezTo>
                  <a:lnTo>
                    <a:pt x="456" y="370"/>
                  </a:lnTo>
                  <a:lnTo>
                    <a:pt x="65" y="205"/>
                  </a:lnTo>
                  <a:lnTo>
                    <a:pt x="65" y="205"/>
                  </a:lnTo>
                  <a:cubicBezTo>
                    <a:pt x="65" y="204"/>
                    <a:pt x="65" y="204"/>
                    <a:pt x="64" y="204"/>
                  </a:cubicBezTo>
                  <a:cubicBezTo>
                    <a:pt x="47" y="197"/>
                    <a:pt x="33" y="185"/>
                    <a:pt x="21" y="171"/>
                  </a:cubicBezTo>
                  <a:cubicBezTo>
                    <a:pt x="10" y="156"/>
                    <a:pt x="3" y="138"/>
                    <a:pt x="1" y="120"/>
                  </a:cubicBezTo>
                  <a:cubicBezTo>
                    <a:pt x="-1" y="102"/>
                    <a:pt x="1" y="83"/>
                    <a:pt x="9" y="66"/>
                  </a:cubicBez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4"/>
                  </a:lnTo>
                  <a:cubicBezTo>
                    <a:pt x="17" y="47"/>
                    <a:pt x="28" y="33"/>
                    <a:pt x="43" y="21"/>
                  </a:cubicBezTo>
                  <a:cubicBezTo>
                    <a:pt x="58" y="10"/>
                    <a:pt x="75" y="3"/>
                    <a:pt x="93" y="1"/>
                  </a:cubicBezTo>
                  <a:cubicBezTo>
                    <a:pt x="112" y="-1"/>
                    <a:pt x="130" y="1"/>
                    <a:pt x="147" y="9"/>
                  </a:cubicBezTo>
                  <a:cubicBezTo>
                    <a:pt x="148" y="9"/>
                    <a:pt x="148" y="9"/>
                    <a:pt x="148" y="9"/>
                  </a:cubicBezTo>
                  <a:lnTo>
                    <a:pt x="538" y="1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80010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80773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029200" y="800100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85345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84582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5640" y="8507160"/>
              <a:ext cx="219240" cy="131400"/>
            </a:xfrm>
            <a:custGeom>
              <a:avLst/>
              <a:gdLst/>
              <a:ahLst/>
              <a:rect l="0" t="0" r="r" b="b"/>
              <a:pathLst>
                <a:path w="609" h="365">
                  <a:moveTo>
                    <a:pt x="465" y="7"/>
                  </a:moveTo>
                  <a:lnTo>
                    <a:pt x="465" y="7"/>
                  </a:lnTo>
                  <a:lnTo>
                    <a:pt x="465" y="7"/>
                  </a:lnTo>
                  <a:cubicBezTo>
                    <a:pt x="482" y="0"/>
                    <a:pt x="501" y="-2"/>
                    <a:pt x="519" y="1"/>
                  </a:cubicBezTo>
                  <a:cubicBezTo>
                    <a:pt x="537" y="4"/>
                    <a:pt x="555" y="12"/>
                    <a:pt x="569" y="23"/>
                  </a:cubicBezTo>
                  <a:cubicBezTo>
                    <a:pt x="583" y="35"/>
                    <a:pt x="594" y="50"/>
                    <a:pt x="601" y="67"/>
                  </a:cubicBezTo>
                  <a:lnTo>
                    <a:pt x="601" y="67"/>
                  </a:lnTo>
                  <a:lnTo>
                    <a:pt x="601" y="67"/>
                  </a:lnTo>
                  <a:cubicBezTo>
                    <a:pt x="601" y="68"/>
                    <a:pt x="601" y="68"/>
                    <a:pt x="601" y="68"/>
                  </a:cubicBezTo>
                  <a:cubicBezTo>
                    <a:pt x="608" y="85"/>
                    <a:pt x="610" y="104"/>
                    <a:pt x="607" y="122"/>
                  </a:cubicBezTo>
                  <a:cubicBezTo>
                    <a:pt x="604" y="141"/>
                    <a:pt x="597" y="158"/>
                    <a:pt x="585" y="172"/>
                  </a:cubicBezTo>
                  <a:cubicBezTo>
                    <a:pt x="573" y="187"/>
                    <a:pt x="558" y="198"/>
                    <a:pt x="541" y="204"/>
                  </a:cubicBezTo>
                  <a:cubicBezTo>
                    <a:pt x="540" y="204"/>
                    <a:pt x="540" y="204"/>
                    <a:pt x="540" y="205"/>
                  </a:cubicBezTo>
                  <a:lnTo>
                    <a:pt x="143" y="357"/>
                  </a:lnTo>
                  <a:lnTo>
                    <a:pt x="143" y="357"/>
                  </a:lnTo>
                  <a:lnTo>
                    <a:pt x="143" y="357"/>
                  </a:lnTo>
                  <a:cubicBezTo>
                    <a:pt x="126" y="364"/>
                    <a:pt x="107" y="366"/>
                    <a:pt x="89" y="363"/>
                  </a:cubicBezTo>
                  <a:cubicBezTo>
                    <a:pt x="71" y="360"/>
                    <a:pt x="54" y="352"/>
                    <a:pt x="39" y="341"/>
                  </a:cubicBezTo>
                  <a:cubicBezTo>
                    <a:pt x="25" y="329"/>
                    <a:pt x="14" y="314"/>
                    <a:pt x="7" y="296"/>
                  </a:cubicBezTo>
                  <a:lnTo>
                    <a:pt x="7" y="296"/>
                  </a:lnTo>
                  <a:lnTo>
                    <a:pt x="7" y="296"/>
                  </a:lnTo>
                  <a:lnTo>
                    <a:pt x="7" y="296"/>
                  </a:lnTo>
                  <a:cubicBezTo>
                    <a:pt x="7" y="295"/>
                    <a:pt x="7" y="295"/>
                    <a:pt x="7" y="295"/>
                  </a:cubicBezTo>
                  <a:cubicBezTo>
                    <a:pt x="0" y="277"/>
                    <a:pt x="-2" y="259"/>
                    <a:pt x="1" y="240"/>
                  </a:cubicBezTo>
                  <a:cubicBezTo>
                    <a:pt x="4" y="222"/>
                    <a:pt x="11" y="205"/>
                    <a:pt x="23" y="191"/>
                  </a:cubicBezTo>
                  <a:cubicBezTo>
                    <a:pt x="35" y="176"/>
                    <a:pt x="50" y="165"/>
                    <a:pt x="67" y="158"/>
                  </a:cubicBezTo>
                  <a:lnTo>
                    <a:pt x="67" y="158"/>
                  </a:lnTo>
                  <a:lnTo>
                    <a:pt x="4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22240" y="3306600"/>
            <a:ext cx="4738680" cy="1675800"/>
            <a:chOff x="822240" y="3306600"/>
            <a:chExt cx="4738680" cy="1675800"/>
          </a:xfrm>
        </p:grpSpPr>
        <p:grpSp>
          <p:nvGrpSpPr>
            <p:cNvPr id="132" name=""/>
            <p:cNvGrpSpPr/>
            <p:nvPr/>
          </p:nvGrpSpPr>
          <p:grpSpPr>
            <a:xfrm>
              <a:off x="822240" y="3306600"/>
              <a:ext cx="4738680" cy="1675800"/>
              <a:chOff x="822240" y="3306600"/>
              <a:chExt cx="4738680" cy="1675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286000" y="358128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86000" y="411480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590920" y="411480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62320" y="4572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14600" y="457200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62320" y="4648320"/>
                <a:ext cx="228600" cy="7632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9320" y="3809880"/>
                <a:ext cx="0" cy="609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19320" y="441972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90720" y="4419720"/>
                <a:ext cx="228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1038240" y="356076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1724040" y="4322880"/>
                <a:ext cx="27612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822240" y="4716360"/>
                <a:ext cx="262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3627360" y="3306600"/>
                <a:ext cx="1933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catégorie de mouvement de M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08960" y="4762440"/>
                <a:ext cx="371880" cy="219960"/>
              </a:xfrm>
              <a:custGeom>
                <a:avLst/>
                <a:gdLst/>
                <a:ahLst/>
                <a:rect l="0" t="0" r="r" b="b"/>
                <a:pathLst>
                  <a:path fill="none" w="1033" h="611">
                    <a:moveTo>
                      <a:pt x="558" y="0"/>
                    </a:moveTo>
                    <a:lnTo>
                      <a:pt x="0" y="303"/>
                    </a:lnTo>
                    <a:lnTo>
                      <a:pt x="0" y="303"/>
                    </a:lnTo>
                    <a:cubicBezTo>
                      <a:pt x="28" y="368"/>
                      <a:pt x="69" y="425"/>
                      <a:pt x="119" y="472"/>
                    </a:cubicBezTo>
                    <a:cubicBezTo>
                      <a:pt x="192" y="540"/>
                      <a:pt x="284" y="585"/>
                      <a:pt x="386" y="603"/>
                    </a:cubicBezTo>
                    <a:cubicBezTo>
                      <a:pt x="487" y="620"/>
                      <a:pt x="595" y="610"/>
                      <a:pt x="699" y="572"/>
                    </a:cubicBezTo>
                    <a:cubicBezTo>
                      <a:pt x="802" y="535"/>
                      <a:pt x="897" y="472"/>
                      <a:pt x="974" y="389"/>
                    </a:cubicBezTo>
                    <a:cubicBezTo>
                      <a:pt x="995" y="366"/>
                      <a:pt x="1015" y="342"/>
                      <a:pt x="1033" y="317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280" y="365760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657600" y="419112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81280" y="419112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886200" y="426708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57600" y="46483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09880" y="4724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63720" y="4694760"/>
                <a:ext cx="216720" cy="136080"/>
              </a:xfrm>
              <a:custGeom>
                <a:avLst/>
                <a:gdLst/>
                <a:ahLst/>
                <a:rect l="0" t="0" r="r" b="b"/>
                <a:pathLst>
                  <a:path w="602" h="378">
                    <a:moveTo>
                      <a:pt x="538" y="174"/>
                    </a:moveTo>
                    <a:lnTo>
                      <a:pt x="538" y="174"/>
                    </a:lnTo>
                    <a:cubicBezTo>
                      <a:pt x="538" y="175"/>
                      <a:pt x="538" y="175"/>
                      <a:pt x="539" y="175"/>
                    </a:cubicBezTo>
                    <a:cubicBezTo>
                      <a:pt x="556" y="182"/>
                      <a:pt x="570" y="194"/>
                      <a:pt x="582" y="208"/>
                    </a:cubicBezTo>
                    <a:cubicBezTo>
                      <a:pt x="593" y="223"/>
                      <a:pt x="600" y="241"/>
                      <a:pt x="602" y="259"/>
                    </a:cubicBezTo>
                    <a:cubicBezTo>
                      <a:pt x="604" y="277"/>
                      <a:pt x="602" y="296"/>
                      <a:pt x="594" y="313"/>
                    </a:cubicBez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lnTo>
                      <a:pt x="594" y="314"/>
                    </a:lnTo>
                    <a:cubicBezTo>
                      <a:pt x="587" y="331"/>
                      <a:pt x="575" y="346"/>
                      <a:pt x="560" y="357"/>
                    </a:cubicBezTo>
                    <a:cubicBezTo>
                      <a:pt x="546" y="368"/>
                      <a:pt x="528" y="375"/>
                      <a:pt x="510" y="378"/>
                    </a:cubicBezTo>
                    <a:cubicBezTo>
                      <a:pt x="491" y="380"/>
                      <a:pt x="473" y="377"/>
                      <a:pt x="456" y="370"/>
                    </a:cubicBezTo>
                    <a:lnTo>
                      <a:pt x="456" y="370"/>
                    </a:lnTo>
                    <a:lnTo>
                      <a:pt x="65" y="205"/>
                    </a:lnTo>
                    <a:lnTo>
                      <a:pt x="65" y="205"/>
                    </a:lnTo>
                    <a:cubicBezTo>
                      <a:pt x="65" y="204"/>
                      <a:pt x="65" y="204"/>
                      <a:pt x="64" y="204"/>
                    </a:cubicBezTo>
                    <a:cubicBezTo>
                      <a:pt x="47" y="197"/>
                      <a:pt x="33" y="185"/>
                      <a:pt x="21" y="171"/>
                    </a:cubicBezTo>
                    <a:cubicBezTo>
                      <a:pt x="10" y="156"/>
                      <a:pt x="3" y="138"/>
                      <a:pt x="1" y="120"/>
                    </a:cubicBezTo>
                    <a:cubicBezTo>
                      <a:pt x="-1" y="102"/>
                      <a:pt x="1" y="83"/>
                      <a:pt x="9" y="66"/>
                    </a:cubicBezTo>
                    <a:lnTo>
                      <a:pt x="9" y="65"/>
                    </a:lnTo>
                    <a:lnTo>
                      <a:pt x="9" y="65"/>
                    </a:lnTo>
                    <a:lnTo>
                      <a:pt x="9" y="65"/>
                    </a:lnTo>
                    <a:lnTo>
                      <a:pt x="9" y="64"/>
                    </a:lnTo>
                    <a:cubicBezTo>
                      <a:pt x="17" y="47"/>
                      <a:pt x="28" y="33"/>
                      <a:pt x="43" y="21"/>
                    </a:cubicBezTo>
                    <a:cubicBezTo>
                      <a:pt x="58" y="10"/>
                      <a:pt x="75" y="3"/>
                      <a:pt x="93" y="1"/>
                    </a:cubicBezTo>
                    <a:cubicBezTo>
                      <a:pt x="112" y="-1"/>
                      <a:pt x="130" y="1"/>
                      <a:pt x="147" y="9"/>
                    </a:cubicBezTo>
                    <a:cubicBezTo>
                      <a:pt x="148" y="9"/>
                      <a:pt x="148" y="9"/>
                      <a:pt x="148" y="9"/>
                    </a:cubicBezTo>
                    <a:lnTo>
                      <a:pt x="538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3657600"/>
                <a:ext cx="380880" cy="457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48320" y="4191120"/>
                <a:ext cx="228600" cy="457200"/>
              </a:xfrm>
              <a:prstGeom prst="round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72000" y="4267080"/>
                <a:ext cx="7632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876920" y="4191120"/>
                <a:ext cx="759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48320" y="472428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600" y="464832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53360" y="4696920"/>
                <a:ext cx="219240" cy="131400"/>
              </a:xfrm>
              <a:custGeom>
                <a:avLst/>
                <a:gdLst/>
                <a:ahLst/>
                <a:rect l="0" t="0" r="r" b="b"/>
                <a:pathLst>
                  <a:path w="609" h="365">
                    <a:moveTo>
                      <a:pt x="465" y="7"/>
                    </a:moveTo>
                    <a:lnTo>
                      <a:pt x="465" y="7"/>
                    </a:lnTo>
                    <a:lnTo>
                      <a:pt x="465" y="7"/>
                    </a:lnTo>
                    <a:cubicBezTo>
                      <a:pt x="482" y="0"/>
                      <a:pt x="501" y="-2"/>
                      <a:pt x="519" y="1"/>
                    </a:cubicBezTo>
                    <a:cubicBezTo>
                      <a:pt x="537" y="4"/>
                      <a:pt x="555" y="12"/>
                      <a:pt x="569" y="23"/>
                    </a:cubicBezTo>
                    <a:cubicBezTo>
                      <a:pt x="583" y="35"/>
                      <a:pt x="594" y="50"/>
                      <a:pt x="601" y="67"/>
                    </a:cubicBezTo>
                    <a:lnTo>
                      <a:pt x="601" y="67"/>
                    </a:lnTo>
                    <a:lnTo>
                      <a:pt x="601" y="67"/>
                    </a:lnTo>
                    <a:cubicBezTo>
                      <a:pt x="601" y="68"/>
                      <a:pt x="601" y="68"/>
                      <a:pt x="601" y="68"/>
                    </a:cubicBezTo>
                    <a:cubicBezTo>
                      <a:pt x="608" y="85"/>
                      <a:pt x="610" y="104"/>
                      <a:pt x="607" y="122"/>
                    </a:cubicBezTo>
                    <a:cubicBezTo>
                      <a:pt x="604" y="141"/>
                      <a:pt x="597" y="158"/>
                      <a:pt x="585" y="172"/>
                    </a:cubicBezTo>
                    <a:cubicBezTo>
                      <a:pt x="573" y="187"/>
                      <a:pt x="558" y="198"/>
                      <a:pt x="541" y="204"/>
                    </a:cubicBezTo>
                    <a:cubicBezTo>
                      <a:pt x="540" y="204"/>
                      <a:pt x="540" y="204"/>
                      <a:pt x="540" y="205"/>
                    </a:cubicBezTo>
                    <a:lnTo>
                      <a:pt x="143" y="357"/>
                    </a:lnTo>
                    <a:lnTo>
                      <a:pt x="143" y="357"/>
                    </a:lnTo>
                    <a:lnTo>
                      <a:pt x="143" y="357"/>
                    </a:lnTo>
                    <a:cubicBezTo>
                      <a:pt x="126" y="364"/>
                      <a:pt x="107" y="366"/>
                      <a:pt x="89" y="363"/>
                    </a:cubicBezTo>
                    <a:cubicBezTo>
                      <a:pt x="71" y="360"/>
                      <a:pt x="54" y="352"/>
                      <a:pt x="39" y="341"/>
                    </a:cubicBezTo>
                    <a:cubicBezTo>
                      <a:pt x="25" y="329"/>
                      <a:pt x="14" y="314"/>
                      <a:pt x="7" y="296"/>
                    </a:cubicBezTo>
                    <a:lnTo>
                      <a:pt x="7" y="296"/>
                    </a:lnTo>
                    <a:lnTo>
                      <a:pt x="7" y="296"/>
                    </a:lnTo>
                    <a:lnTo>
                      <a:pt x="7" y="296"/>
                    </a:lnTo>
                    <a:cubicBezTo>
                      <a:pt x="7" y="295"/>
                      <a:pt x="7" y="295"/>
                      <a:pt x="7" y="295"/>
                    </a:cubicBezTo>
                    <a:cubicBezTo>
                      <a:pt x="0" y="277"/>
                      <a:pt x="-2" y="259"/>
                      <a:pt x="1" y="240"/>
                    </a:cubicBezTo>
                    <a:cubicBezTo>
                      <a:pt x="4" y="222"/>
                      <a:pt x="11" y="205"/>
                      <a:pt x="23" y="191"/>
                    </a:cubicBezTo>
                    <a:cubicBezTo>
                      <a:pt x="35" y="176"/>
                      <a:pt x="50" y="165"/>
                      <a:pt x="67" y="158"/>
                    </a:cubicBezTo>
                    <a:lnTo>
                      <a:pt x="67" y="158"/>
                    </a:lnTo>
                    <a:lnTo>
                      <a:pt x="465" y="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362320" y="41148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>
            <a:off x="365040" y="326880"/>
            <a:ext cx="6264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éma des différentes catégories de mou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membres impliqués sont en gras, l’axe en gras correspond à la direction du mouvement de rotation. On trouve les 7 catégories retenus, et à la fin deux catégories qui n’ont pas obtenu de résultats, Epaules, et Tronc-tê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6520" y="533520"/>
            <a:ext cx="3808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1066680"/>
            <a:ext cx="228600" cy="45720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06668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981080" y="10666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1523880"/>
            <a:ext cx="76320" cy="7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1523880"/>
            <a:ext cx="76320" cy="7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600200"/>
            <a:ext cx="228600" cy="76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685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295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80880" y="12952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43668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14560" y="119844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12760" y="1592280"/>
            <a:ext cx="268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362320"/>
            <a:ext cx="3808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2895480"/>
            <a:ext cx="228600" cy="45720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2895480"/>
            <a:ext cx="7596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81080" y="2895480"/>
            <a:ext cx="763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3526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3429000"/>
            <a:ext cx="228600" cy="76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880" y="31240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8760" y="226548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4560" y="302724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2760" y="3421080"/>
            <a:ext cx="268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191120"/>
            <a:ext cx="3808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724280"/>
            <a:ext cx="228600" cy="45720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4724280"/>
            <a:ext cx="7596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81080" y="4724280"/>
            <a:ext cx="763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5181480"/>
            <a:ext cx="76320" cy="7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181480"/>
            <a:ext cx="76320" cy="7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5257800"/>
            <a:ext cx="228600" cy="7632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343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9528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80880" y="49528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409428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4560" y="485604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12760" y="5249880"/>
            <a:ext cx="262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17880" y="3840120"/>
            <a:ext cx="252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épaules-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94200" y="1935000"/>
            <a:ext cx="2176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épa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94200" y="182520"/>
            <a:ext cx="209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Buste-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99480" y="1638360"/>
            <a:ext cx="371880" cy="219960"/>
          </a:xfrm>
          <a:custGeom>
            <a:avLst/>
            <a:gdLst/>
            <a:ahLst/>
            <a:rect l="0" t="0" r="r" b="b"/>
            <a:pathLst>
              <a:path fill="none" w="1033" h="611">
                <a:moveTo>
                  <a:pt x="558" y="0"/>
                </a:moveTo>
                <a:lnTo>
                  <a:pt x="0" y="303"/>
                </a:lnTo>
                <a:lnTo>
                  <a:pt x="0" y="303"/>
                </a:lnTo>
                <a:cubicBezTo>
                  <a:pt x="28" y="368"/>
                  <a:pt x="69" y="425"/>
                  <a:pt x="119" y="472"/>
                </a:cubicBezTo>
                <a:cubicBezTo>
                  <a:pt x="192" y="540"/>
                  <a:pt x="284" y="585"/>
                  <a:pt x="386" y="603"/>
                </a:cubicBezTo>
                <a:cubicBezTo>
                  <a:pt x="487" y="620"/>
                  <a:pt x="595" y="610"/>
                  <a:pt x="699" y="572"/>
                </a:cubicBezTo>
                <a:cubicBezTo>
                  <a:pt x="802" y="535"/>
                  <a:pt x="897" y="472"/>
                  <a:pt x="974" y="389"/>
                </a:cubicBezTo>
                <a:cubicBezTo>
                  <a:pt x="995" y="366"/>
                  <a:pt x="1015" y="342"/>
                  <a:pt x="1033" y="317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81960" y="537480"/>
            <a:ext cx="384120" cy="461880"/>
          </a:xfrm>
          <a:custGeom>
            <a:avLst/>
            <a:gdLst/>
            <a:ahLst/>
            <a:rect l="0" t="0" r="r" b="b"/>
            <a:pathLst>
              <a:path w="1067" h="1283">
                <a:moveTo>
                  <a:pt x="10" y="725"/>
                </a:moveTo>
                <a:lnTo>
                  <a:pt x="10" y="725"/>
                </a:lnTo>
                <a:cubicBezTo>
                  <a:pt x="10" y="727"/>
                  <a:pt x="11" y="729"/>
                  <a:pt x="11" y="731"/>
                </a:cubicBezTo>
                <a:cubicBezTo>
                  <a:pt x="29" y="842"/>
                  <a:pt x="70" y="946"/>
                  <a:pt x="131" y="1035"/>
                </a:cubicBezTo>
                <a:cubicBezTo>
                  <a:pt x="192" y="1123"/>
                  <a:pt x="271" y="1192"/>
                  <a:pt x="359" y="1235"/>
                </a:cubicBezTo>
                <a:cubicBezTo>
                  <a:pt x="447" y="1278"/>
                  <a:pt x="542" y="1293"/>
                  <a:pt x="634" y="1278"/>
                </a:cubicBezTo>
                <a:cubicBezTo>
                  <a:pt x="726" y="1263"/>
                  <a:pt x="811" y="1220"/>
                  <a:pt x="882" y="1152"/>
                </a:cubicBezTo>
                <a:cubicBezTo>
                  <a:pt x="953" y="1084"/>
                  <a:pt x="1006" y="994"/>
                  <a:pt x="1037" y="891"/>
                </a:cubicBezTo>
                <a:cubicBezTo>
                  <a:pt x="1068" y="788"/>
                  <a:pt x="1074" y="676"/>
                  <a:pt x="1057" y="566"/>
                </a:cubicBezTo>
                <a:cubicBezTo>
                  <a:pt x="1057" y="564"/>
                  <a:pt x="1056" y="561"/>
                  <a:pt x="1056" y="559"/>
                </a:cubicBezTo>
                <a:lnTo>
                  <a:pt x="1056" y="559"/>
                </a:lnTo>
                <a:cubicBezTo>
                  <a:pt x="1056" y="557"/>
                  <a:pt x="1055" y="555"/>
                  <a:pt x="1055" y="553"/>
                </a:cubicBezTo>
                <a:cubicBezTo>
                  <a:pt x="1037" y="442"/>
                  <a:pt x="996" y="338"/>
                  <a:pt x="935" y="249"/>
                </a:cubicBezTo>
                <a:cubicBezTo>
                  <a:pt x="874" y="161"/>
                  <a:pt x="795" y="92"/>
                  <a:pt x="707" y="49"/>
                </a:cubicBezTo>
                <a:cubicBezTo>
                  <a:pt x="619" y="6"/>
                  <a:pt x="524" y="-9"/>
                  <a:pt x="432" y="6"/>
                </a:cubicBezTo>
                <a:cubicBezTo>
                  <a:pt x="340" y="21"/>
                  <a:pt x="255" y="64"/>
                  <a:pt x="184" y="132"/>
                </a:cubicBezTo>
                <a:cubicBezTo>
                  <a:pt x="113" y="200"/>
                  <a:pt x="60" y="290"/>
                  <a:pt x="29" y="393"/>
                </a:cubicBezTo>
                <a:cubicBezTo>
                  <a:pt x="-2" y="496"/>
                  <a:pt x="-8" y="608"/>
                  <a:pt x="9" y="718"/>
                </a:cubicBezTo>
                <a:cubicBezTo>
                  <a:pt x="9" y="720"/>
                  <a:pt x="10" y="723"/>
                  <a:pt x="10" y="725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3000" y="1054080"/>
            <a:ext cx="286920" cy="476640"/>
          </a:xfrm>
          <a:custGeom>
            <a:avLst/>
            <a:gdLst/>
            <a:ahLst/>
            <a:rect l="0" t="0" r="r" b="b"/>
            <a:pathLst>
              <a:path w="797" h="1324">
                <a:moveTo>
                  <a:pt x="508" y="1"/>
                </a:moveTo>
                <a:lnTo>
                  <a:pt x="508" y="1"/>
                </a:lnTo>
                <a:lnTo>
                  <a:pt x="508" y="1"/>
                </a:lnTo>
                <a:cubicBezTo>
                  <a:pt x="527" y="-2"/>
                  <a:pt x="545" y="0"/>
                  <a:pt x="562" y="7"/>
                </a:cubicBezTo>
                <a:cubicBezTo>
                  <a:pt x="580" y="13"/>
                  <a:pt x="595" y="24"/>
                  <a:pt x="607" y="39"/>
                </a:cubicBezTo>
                <a:cubicBezTo>
                  <a:pt x="618" y="53"/>
                  <a:pt x="626" y="70"/>
                  <a:pt x="629" y="88"/>
                </a:cubicBezTo>
                <a:cubicBezTo>
                  <a:pt x="629" y="89"/>
                  <a:pt x="629" y="89"/>
                  <a:pt x="629" y="89"/>
                </a:cubicBezTo>
                <a:lnTo>
                  <a:pt x="795" y="1135"/>
                </a:lnTo>
                <a:lnTo>
                  <a:pt x="795" y="1135"/>
                </a:lnTo>
                <a:lnTo>
                  <a:pt x="795" y="1136"/>
                </a:lnTo>
                <a:cubicBezTo>
                  <a:pt x="798" y="1154"/>
                  <a:pt x="796" y="1172"/>
                  <a:pt x="789" y="1190"/>
                </a:cubicBezTo>
                <a:cubicBezTo>
                  <a:pt x="783" y="1207"/>
                  <a:pt x="772" y="1222"/>
                  <a:pt x="757" y="1234"/>
                </a:cubicBezTo>
                <a:cubicBezTo>
                  <a:pt x="743" y="1245"/>
                  <a:pt x="726" y="1253"/>
                  <a:pt x="708" y="1256"/>
                </a:cubicBezTo>
                <a:cubicBezTo>
                  <a:pt x="707" y="1256"/>
                  <a:pt x="707" y="1256"/>
                  <a:pt x="707" y="1256"/>
                </a:cubicBezTo>
                <a:lnTo>
                  <a:pt x="287" y="1322"/>
                </a:lnTo>
                <a:lnTo>
                  <a:pt x="287" y="1322"/>
                </a:lnTo>
                <a:lnTo>
                  <a:pt x="287" y="1322"/>
                </a:lnTo>
                <a:cubicBezTo>
                  <a:pt x="268" y="1325"/>
                  <a:pt x="250" y="1323"/>
                  <a:pt x="232" y="1316"/>
                </a:cubicBezTo>
                <a:cubicBezTo>
                  <a:pt x="215" y="1310"/>
                  <a:pt x="200" y="1299"/>
                  <a:pt x="188" y="1284"/>
                </a:cubicBezTo>
                <a:cubicBezTo>
                  <a:pt x="177" y="1270"/>
                  <a:pt x="169" y="1253"/>
                  <a:pt x="166" y="1235"/>
                </a:cubicBezTo>
                <a:cubicBezTo>
                  <a:pt x="166" y="1234"/>
                  <a:pt x="166" y="1234"/>
                  <a:pt x="166" y="1234"/>
                </a:cubicBezTo>
                <a:lnTo>
                  <a:pt x="1" y="188"/>
                </a:lnTo>
                <a:lnTo>
                  <a:pt x="1" y="188"/>
                </a:lnTo>
                <a:lnTo>
                  <a:pt x="1" y="187"/>
                </a:lnTo>
                <a:cubicBezTo>
                  <a:pt x="-2" y="169"/>
                  <a:pt x="0" y="151"/>
                  <a:pt x="7" y="133"/>
                </a:cubicBezTo>
                <a:cubicBezTo>
                  <a:pt x="13" y="116"/>
                  <a:pt x="24" y="101"/>
                  <a:pt x="39" y="89"/>
                </a:cubicBezTo>
                <a:cubicBezTo>
                  <a:pt x="53" y="78"/>
                  <a:pt x="70" y="70"/>
                  <a:pt x="88" y="67"/>
                </a:cubicBezTo>
                <a:cubicBezTo>
                  <a:pt x="89" y="67"/>
                  <a:pt x="89" y="67"/>
                  <a:pt x="89" y="67"/>
                </a:cubicBezTo>
                <a:lnTo>
                  <a:pt x="508" y="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52480" y="535320"/>
            <a:ext cx="381600" cy="459000"/>
          </a:xfrm>
          <a:custGeom>
            <a:avLst/>
            <a:gdLst/>
            <a:ahLst/>
            <a:rect l="0" t="0" r="r" b="b"/>
            <a:pathLst>
              <a:path w="1060" h="1275">
                <a:moveTo>
                  <a:pt x="6" y="573"/>
                </a:moveTo>
                <a:lnTo>
                  <a:pt x="6" y="573"/>
                </a:lnTo>
                <a:lnTo>
                  <a:pt x="6" y="573"/>
                </a:lnTo>
                <a:cubicBezTo>
                  <a:pt x="-8" y="685"/>
                  <a:pt x="3" y="797"/>
                  <a:pt x="37" y="899"/>
                </a:cubicBezTo>
                <a:cubicBezTo>
                  <a:pt x="71" y="1001"/>
                  <a:pt x="128" y="1089"/>
                  <a:pt x="201" y="1155"/>
                </a:cubicBezTo>
                <a:cubicBezTo>
                  <a:pt x="273" y="1220"/>
                  <a:pt x="360" y="1261"/>
                  <a:pt x="452" y="1272"/>
                </a:cubicBezTo>
                <a:cubicBezTo>
                  <a:pt x="544" y="1283"/>
                  <a:pt x="638" y="1265"/>
                  <a:pt x="725" y="1219"/>
                </a:cubicBezTo>
                <a:cubicBezTo>
                  <a:pt x="811" y="1173"/>
                  <a:pt x="887" y="1101"/>
                  <a:pt x="945" y="1010"/>
                </a:cubicBezTo>
                <a:cubicBezTo>
                  <a:pt x="1003" y="920"/>
                  <a:pt x="1040" y="813"/>
                  <a:pt x="1054" y="702"/>
                </a:cubicBezTo>
                <a:lnTo>
                  <a:pt x="1054" y="702"/>
                </a:lnTo>
                <a:lnTo>
                  <a:pt x="1054" y="702"/>
                </a:lnTo>
                <a:cubicBezTo>
                  <a:pt x="1068" y="590"/>
                  <a:pt x="1057" y="478"/>
                  <a:pt x="1023" y="376"/>
                </a:cubicBezTo>
                <a:cubicBezTo>
                  <a:pt x="989" y="274"/>
                  <a:pt x="932" y="186"/>
                  <a:pt x="859" y="120"/>
                </a:cubicBezTo>
                <a:cubicBezTo>
                  <a:pt x="787" y="55"/>
                  <a:pt x="700" y="14"/>
                  <a:pt x="608" y="3"/>
                </a:cubicBezTo>
                <a:cubicBezTo>
                  <a:pt x="516" y="-8"/>
                  <a:pt x="422" y="10"/>
                  <a:pt x="335" y="56"/>
                </a:cubicBezTo>
                <a:cubicBezTo>
                  <a:pt x="249" y="102"/>
                  <a:pt x="173" y="174"/>
                  <a:pt x="115" y="265"/>
                </a:cubicBezTo>
                <a:cubicBezTo>
                  <a:pt x="57" y="355"/>
                  <a:pt x="20" y="462"/>
                  <a:pt x="6" y="573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41320" y="1057320"/>
            <a:ext cx="274680" cy="473400"/>
          </a:xfrm>
          <a:custGeom>
            <a:avLst/>
            <a:gdLst/>
            <a:ahLst/>
            <a:rect l="0" t="0" r="r" b="b"/>
            <a:pathLst>
              <a:path w="763" h="1315">
                <a:moveTo>
                  <a:pt x="670" y="53"/>
                </a:moveTo>
                <a:lnTo>
                  <a:pt x="670" y="53"/>
                </a:lnTo>
                <a:lnTo>
                  <a:pt x="671" y="53"/>
                </a:lnTo>
                <a:cubicBezTo>
                  <a:pt x="690" y="56"/>
                  <a:pt x="707" y="63"/>
                  <a:pt x="722" y="74"/>
                </a:cubicBezTo>
                <a:cubicBezTo>
                  <a:pt x="737" y="85"/>
                  <a:pt x="748" y="100"/>
                  <a:pt x="756" y="117"/>
                </a:cubicBezTo>
                <a:cubicBezTo>
                  <a:pt x="763" y="134"/>
                  <a:pt x="765" y="152"/>
                  <a:pt x="763" y="170"/>
                </a:cubicBezTo>
                <a:cubicBezTo>
                  <a:pt x="763" y="171"/>
                  <a:pt x="763" y="171"/>
                  <a:pt x="763" y="171"/>
                </a:cubicBezTo>
                <a:lnTo>
                  <a:pt x="634" y="1223"/>
                </a:lnTo>
                <a:lnTo>
                  <a:pt x="634" y="1223"/>
                </a:lnTo>
                <a:lnTo>
                  <a:pt x="634" y="1224"/>
                </a:lnTo>
                <a:cubicBezTo>
                  <a:pt x="631" y="1242"/>
                  <a:pt x="624" y="1259"/>
                  <a:pt x="613" y="1274"/>
                </a:cubicBezTo>
                <a:cubicBezTo>
                  <a:pt x="602" y="1289"/>
                  <a:pt x="587" y="1300"/>
                  <a:pt x="570" y="1308"/>
                </a:cubicBezTo>
                <a:cubicBezTo>
                  <a:pt x="553" y="1315"/>
                  <a:pt x="535" y="1317"/>
                  <a:pt x="516" y="1315"/>
                </a:cubicBezTo>
                <a:lnTo>
                  <a:pt x="515" y="1315"/>
                </a:lnTo>
                <a:lnTo>
                  <a:pt x="93" y="1264"/>
                </a:lnTo>
                <a:lnTo>
                  <a:pt x="93" y="1264"/>
                </a:lnTo>
                <a:lnTo>
                  <a:pt x="93" y="1264"/>
                </a:lnTo>
                <a:cubicBezTo>
                  <a:pt x="74" y="1262"/>
                  <a:pt x="57" y="1255"/>
                  <a:pt x="42" y="1243"/>
                </a:cubicBezTo>
                <a:cubicBezTo>
                  <a:pt x="27" y="1232"/>
                  <a:pt x="16" y="1218"/>
                  <a:pt x="8" y="1201"/>
                </a:cubicBezTo>
                <a:cubicBezTo>
                  <a:pt x="1" y="1184"/>
                  <a:pt x="-1" y="1165"/>
                  <a:pt x="1" y="1147"/>
                </a:cubicBezTo>
                <a:cubicBezTo>
                  <a:pt x="1" y="1146"/>
                  <a:pt x="1" y="1146"/>
                  <a:pt x="1" y="1146"/>
                </a:cubicBezTo>
                <a:lnTo>
                  <a:pt x="130" y="93"/>
                </a:lnTo>
                <a:lnTo>
                  <a:pt x="130" y="93"/>
                </a:lnTo>
                <a:lnTo>
                  <a:pt x="130" y="92"/>
                </a:lnTo>
                <a:cubicBezTo>
                  <a:pt x="133" y="74"/>
                  <a:pt x="140" y="57"/>
                  <a:pt x="151" y="42"/>
                </a:cubicBezTo>
                <a:cubicBezTo>
                  <a:pt x="162" y="27"/>
                  <a:pt x="177" y="16"/>
                  <a:pt x="194" y="8"/>
                </a:cubicBezTo>
                <a:cubicBezTo>
                  <a:pt x="211" y="1"/>
                  <a:pt x="229" y="-1"/>
                  <a:pt x="248" y="1"/>
                </a:cubicBezTo>
                <a:lnTo>
                  <a:pt x="249" y="1"/>
                </a:lnTo>
                <a:lnTo>
                  <a:pt x="670" y="5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26320" y="-110880"/>
            <a:ext cx="595440" cy="415800"/>
          </a:xfrm>
          <a:custGeom>
            <a:avLst/>
            <a:gdLst/>
            <a:ahLst/>
            <a:rect l="0" t="0" r="r" b="b"/>
            <a:pathLst>
              <a:path fill="none" w="1654" h="1155">
                <a:moveTo>
                  <a:pt x="695" y="1155"/>
                </a:moveTo>
                <a:lnTo>
                  <a:pt x="1654" y="321"/>
                </a:lnTo>
                <a:lnTo>
                  <a:pt x="1654" y="321"/>
                </a:lnTo>
                <a:lnTo>
                  <a:pt x="1654" y="321"/>
                </a:lnTo>
                <a:cubicBezTo>
                  <a:pt x="1532" y="181"/>
                  <a:pt x="1368" y="82"/>
                  <a:pt x="1178" y="33"/>
                </a:cubicBezTo>
                <a:cubicBezTo>
                  <a:pt x="988" y="-15"/>
                  <a:pt x="779" y="-11"/>
                  <a:pt x="572" y="46"/>
                </a:cubicBezTo>
                <a:cubicBezTo>
                  <a:pt x="366" y="103"/>
                  <a:pt x="168" y="209"/>
                  <a:pt x="0" y="355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00400" y="1066680"/>
            <a:ext cx="380880" cy="639720"/>
            <a:chOff x="3200400" y="1066680"/>
            <a:chExt cx="380880" cy="639720"/>
          </a:xfrm>
        </p:grpSpPr>
        <p:sp>
          <p:nvSpPr>
            <p:cNvPr id="212" name=""/>
            <p:cNvSpPr/>
            <p:nvPr/>
          </p:nvSpPr>
          <p:spPr>
            <a:xfrm>
              <a:off x="3200400" y="106668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505320" y="114300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76720" y="152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29000" y="16002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82840" y="1570320"/>
              <a:ext cx="216720" cy="136080"/>
            </a:xfrm>
            <a:custGeom>
              <a:avLst/>
              <a:gdLst/>
              <a:ahLst/>
              <a:rect l="0" t="0" r="r" b="b"/>
              <a:pathLst>
                <a:path w="602" h="378">
                  <a:moveTo>
                    <a:pt x="538" y="174"/>
                  </a:moveTo>
                  <a:lnTo>
                    <a:pt x="538" y="174"/>
                  </a:lnTo>
                  <a:cubicBezTo>
                    <a:pt x="538" y="175"/>
                    <a:pt x="538" y="175"/>
                    <a:pt x="539" y="175"/>
                  </a:cubicBezTo>
                  <a:cubicBezTo>
                    <a:pt x="556" y="182"/>
                    <a:pt x="570" y="194"/>
                    <a:pt x="582" y="208"/>
                  </a:cubicBezTo>
                  <a:cubicBezTo>
                    <a:pt x="593" y="223"/>
                    <a:pt x="600" y="241"/>
                    <a:pt x="602" y="259"/>
                  </a:cubicBezTo>
                  <a:cubicBezTo>
                    <a:pt x="604" y="277"/>
                    <a:pt x="602" y="296"/>
                    <a:pt x="594" y="313"/>
                  </a:cubicBez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cubicBezTo>
                    <a:pt x="587" y="331"/>
                    <a:pt x="575" y="346"/>
                    <a:pt x="560" y="357"/>
                  </a:cubicBezTo>
                  <a:cubicBezTo>
                    <a:pt x="546" y="368"/>
                    <a:pt x="528" y="375"/>
                    <a:pt x="510" y="378"/>
                  </a:cubicBezTo>
                  <a:cubicBezTo>
                    <a:pt x="491" y="380"/>
                    <a:pt x="473" y="377"/>
                    <a:pt x="456" y="370"/>
                  </a:cubicBezTo>
                  <a:lnTo>
                    <a:pt x="456" y="370"/>
                  </a:lnTo>
                  <a:lnTo>
                    <a:pt x="65" y="205"/>
                  </a:lnTo>
                  <a:lnTo>
                    <a:pt x="65" y="205"/>
                  </a:lnTo>
                  <a:cubicBezTo>
                    <a:pt x="65" y="204"/>
                    <a:pt x="65" y="204"/>
                    <a:pt x="64" y="204"/>
                  </a:cubicBezTo>
                  <a:cubicBezTo>
                    <a:pt x="47" y="197"/>
                    <a:pt x="33" y="185"/>
                    <a:pt x="21" y="171"/>
                  </a:cubicBezTo>
                  <a:cubicBezTo>
                    <a:pt x="10" y="156"/>
                    <a:pt x="3" y="138"/>
                    <a:pt x="1" y="120"/>
                  </a:cubicBezTo>
                  <a:cubicBezTo>
                    <a:pt x="-1" y="102"/>
                    <a:pt x="1" y="83"/>
                    <a:pt x="9" y="66"/>
                  </a:cubicBez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4"/>
                  </a:lnTo>
                  <a:cubicBezTo>
                    <a:pt x="17" y="47"/>
                    <a:pt x="28" y="33"/>
                    <a:pt x="43" y="21"/>
                  </a:cubicBezTo>
                  <a:cubicBezTo>
                    <a:pt x="58" y="10"/>
                    <a:pt x="75" y="3"/>
                    <a:pt x="93" y="1"/>
                  </a:cubicBezTo>
                  <a:cubicBezTo>
                    <a:pt x="112" y="-1"/>
                    <a:pt x="130" y="1"/>
                    <a:pt x="147" y="9"/>
                  </a:cubicBezTo>
                  <a:cubicBezTo>
                    <a:pt x="148" y="9"/>
                    <a:pt x="148" y="9"/>
                    <a:pt x="148" y="9"/>
                  </a:cubicBezTo>
                  <a:lnTo>
                    <a:pt x="538" y="1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43400" y="1066680"/>
            <a:ext cx="380880" cy="637560"/>
            <a:chOff x="4343400" y="1066680"/>
            <a:chExt cx="380880" cy="637560"/>
          </a:xfrm>
        </p:grpSpPr>
        <p:sp>
          <p:nvSpPr>
            <p:cNvPr id="218" name=""/>
            <p:cNvSpPr/>
            <p:nvPr/>
          </p:nvSpPr>
          <p:spPr>
            <a:xfrm>
              <a:off x="4343400" y="114300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648320" y="1066680"/>
              <a:ext cx="7596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19720" y="16002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152388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24760" y="1572840"/>
              <a:ext cx="219240" cy="131400"/>
            </a:xfrm>
            <a:custGeom>
              <a:avLst/>
              <a:gdLst/>
              <a:ahLst/>
              <a:rect l="0" t="0" r="r" b="b"/>
              <a:pathLst>
                <a:path w="609" h="365">
                  <a:moveTo>
                    <a:pt x="465" y="7"/>
                  </a:moveTo>
                  <a:lnTo>
                    <a:pt x="465" y="7"/>
                  </a:lnTo>
                  <a:lnTo>
                    <a:pt x="465" y="7"/>
                  </a:lnTo>
                  <a:cubicBezTo>
                    <a:pt x="482" y="0"/>
                    <a:pt x="501" y="-2"/>
                    <a:pt x="519" y="1"/>
                  </a:cubicBezTo>
                  <a:cubicBezTo>
                    <a:pt x="537" y="4"/>
                    <a:pt x="555" y="12"/>
                    <a:pt x="569" y="23"/>
                  </a:cubicBezTo>
                  <a:cubicBezTo>
                    <a:pt x="583" y="35"/>
                    <a:pt x="594" y="50"/>
                    <a:pt x="601" y="67"/>
                  </a:cubicBezTo>
                  <a:lnTo>
                    <a:pt x="601" y="67"/>
                  </a:lnTo>
                  <a:lnTo>
                    <a:pt x="601" y="67"/>
                  </a:lnTo>
                  <a:cubicBezTo>
                    <a:pt x="601" y="68"/>
                    <a:pt x="601" y="68"/>
                    <a:pt x="601" y="68"/>
                  </a:cubicBezTo>
                  <a:cubicBezTo>
                    <a:pt x="608" y="85"/>
                    <a:pt x="610" y="104"/>
                    <a:pt x="607" y="122"/>
                  </a:cubicBezTo>
                  <a:cubicBezTo>
                    <a:pt x="604" y="141"/>
                    <a:pt x="597" y="158"/>
                    <a:pt x="585" y="172"/>
                  </a:cubicBezTo>
                  <a:cubicBezTo>
                    <a:pt x="573" y="187"/>
                    <a:pt x="558" y="198"/>
                    <a:pt x="541" y="204"/>
                  </a:cubicBezTo>
                  <a:cubicBezTo>
                    <a:pt x="540" y="204"/>
                    <a:pt x="540" y="204"/>
                    <a:pt x="540" y="205"/>
                  </a:cubicBezTo>
                  <a:lnTo>
                    <a:pt x="143" y="357"/>
                  </a:lnTo>
                  <a:lnTo>
                    <a:pt x="143" y="357"/>
                  </a:lnTo>
                  <a:lnTo>
                    <a:pt x="143" y="357"/>
                  </a:lnTo>
                  <a:cubicBezTo>
                    <a:pt x="126" y="364"/>
                    <a:pt x="107" y="366"/>
                    <a:pt x="89" y="363"/>
                  </a:cubicBezTo>
                  <a:cubicBezTo>
                    <a:pt x="71" y="360"/>
                    <a:pt x="54" y="352"/>
                    <a:pt x="39" y="341"/>
                  </a:cubicBezTo>
                  <a:cubicBezTo>
                    <a:pt x="25" y="329"/>
                    <a:pt x="14" y="314"/>
                    <a:pt x="7" y="296"/>
                  </a:cubicBezTo>
                  <a:lnTo>
                    <a:pt x="7" y="296"/>
                  </a:lnTo>
                  <a:lnTo>
                    <a:pt x="7" y="296"/>
                  </a:lnTo>
                  <a:lnTo>
                    <a:pt x="7" y="296"/>
                  </a:lnTo>
                  <a:cubicBezTo>
                    <a:pt x="7" y="295"/>
                    <a:pt x="7" y="295"/>
                    <a:pt x="7" y="295"/>
                  </a:cubicBezTo>
                  <a:cubicBezTo>
                    <a:pt x="0" y="277"/>
                    <a:pt x="-2" y="259"/>
                    <a:pt x="1" y="240"/>
                  </a:cubicBezTo>
                  <a:cubicBezTo>
                    <a:pt x="4" y="222"/>
                    <a:pt x="11" y="205"/>
                    <a:pt x="23" y="191"/>
                  </a:cubicBezTo>
                  <a:cubicBezTo>
                    <a:pt x="35" y="176"/>
                    <a:pt x="50" y="165"/>
                    <a:pt x="67" y="158"/>
                  </a:cubicBezTo>
                  <a:lnTo>
                    <a:pt x="67" y="158"/>
                  </a:lnTo>
                  <a:lnTo>
                    <a:pt x="4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26320" y="1717920"/>
            <a:ext cx="595440" cy="415800"/>
          </a:xfrm>
          <a:custGeom>
            <a:avLst/>
            <a:gdLst/>
            <a:ahLst/>
            <a:rect l="0" t="0" r="r" b="b"/>
            <a:pathLst>
              <a:path fill="none" w="1654" h="1155">
                <a:moveTo>
                  <a:pt x="695" y="1155"/>
                </a:moveTo>
                <a:lnTo>
                  <a:pt x="1654" y="321"/>
                </a:lnTo>
                <a:lnTo>
                  <a:pt x="1654" y="321"/>
                </a:lnTo>
                <a:lnTo>
                  <a:pt x="1654" y="321"/>
                </a:lnTo>
                <a:cubicBezTo>
                  <a:pt x="1532" y="181"/>
                  <a:pt x="1368" y="82"/>
                  <a:pt x="1178" y="33"/>
                </a:cubicBezTo>
                <a:cubicBezTo>
                  <a:pt x="988" y="-15"/>
                  <a:pt x="779" y="-11"/>
                  <a:pt x="572" y="46"/>
                </a:cubicBezTo>
                <a:cubicBezTo>
                  <a:pt x="366" y="103"/>
                  <a:pt x="168" y="209"/>
                  <a:pt x="0" y="355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34240" y="2289960"/>
            <a:ext cx="384120" cy="461880"/>
          </a:xfrm>
          <a:custGeom>
            <a:avLst/>
            <a:gdLst/>
            <a:ahLst/>
            <a:rect l="0" t="0" r="r" b="b"/>
            <a:pathLst>
              <a:path w="1067" h="1283">
                <a:moveTo>
                  <a:pt x="10" y="725"/>
                </a:moveTo>
                <a:lnTo>
                  <a:pt x="10" y="725"/>
                </a:lnTo>
                <a:cubicBezTo>
                  <a:pt x="10" y="727"/>
                  <a:pt x="11" y="729"/>
                  <a:pt x="11" y="731"/>
                </a:cubicBezTo>
                <a:cubicBezTo>
                  <a:pt x="29" y="842"/>
                  <a:pt x="70" y="946"/>
                  <a:pt x="131" y="1035"/>
                </a:cubicBezTo>
                <a:cubicBezTo>
                  <a:pt x="192" y="1123"/>
                  <a:pt x="271" y="1192"/>
                  <a:pt x="359" y="1235"/>
                </a:cubicBezTo>
                <a:cubicBezTo>
                  <a:pt x="447" y="1278"/>
                  <a:pt x="542" y="1293"/>
                  <a:pt x="634" y="1278"/>
                </a:cubicBezTo>
                <a:cubicBezTo>
                  <a:pt x="726" y="1263"/>
                  <a:pt x="811" y="1220"/>
                  <a:pt x="882" y="1152"/>
                </a:cubicBezTo>
                <a:cubicBezTo>
                  <a:pt x="953" y="1084"/>
                  <a:pt x="1006" y="994"/>
                  <a:pt x="1037" y="891"/>
                </a:cubicBezTo>
                <a:cubicBezTo>
                  <a:pt x="1068" y="788"/>
                  <a:pt x="1074" y="676"/>
                  <a:pt x="1057" y="566"/>
                </a:cubicBezTo>
                <a:cubicBezTo>
                  <a:pt x="1057" y="564"/>
                  <a:pt x="1056" y="561"/>
                  <a:pt x="1056" y="559"/>
                </a:cubicBezTo>
                <a:lnTo>
                  <a:pt x="1056" y="559"/>
                </a:lnTo>
                <a:cubicBezTo>
                  <a:pt x="1056" y="557"/>
                  <a:pt x="1055" y="555"/>
                  <a:pt x="1055" y="553"/>
                </a:cubicBezTo>
                <a:cubicBezTo>
                  <a:pt x="1037" y="442"/>
                  <a:pt x="996" y="338"/>
                  <a:pt x="935" y="249"/>
                </a:cubicBezTo>
                <a:cubicBezTo>
                  <a:pt x="874" y="161"/>
                  <a:pt x="795" y="92"/>
                  <a:pt x="707" y="49"/>
                </a:cubicBezTo>
                <a:cubicBezTo>
                  <a:pt x="619" y="6"/>
                  <a:pt x="524" y="-9"/>
                  <a:pt x="432" y="6"/>
                </a:cubicBezTo>
                <a:cubicBezTo>
                  <a:pt x="340" y="21"/>
                  <a:pt x="255" y="64"/>
                  <a:pt x="184" y="132"/>
                </a:cubicBezTo>
                <a:cubicBezTo>
                  <a:pt x="113" y="200"/>
                  <a:pt x="60" y="290"/>
                  <a:pt x="29" y="393"/>
                </a:cubicBezTo>
                <a:cubicBezTo>
                  <a:pt x="-2" y="496"/>
                  <a:pt x="-8" y="608"/>
                  <a:pt x="9" y="718"/>
                </a:cubicBezTo>
                <a:cubicBezTo>
                  <a:pt x="9" y="720"/>
                  <a:pt x="10" y="723"/>
                  <a:pt x="10" y="725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65280" y="2806560"/>
            <a:ext cx="286920" cy="476640"/>
          </a:xfrm>
          <a:custGeom>
            <a:avLst/>
            <a:gdLst/>
            <a:ahLst/>
            <a:rect l="0" t="0" r="r" b="b"/>
            <a:pathLst>
              <a:path w="797" h="1324">
                <a:moveTo>
                  <a:pt x="508" y="1"/>
                </a:moveTo>
                <a:lnTo>
                  <a:pt x="508" y="1"/>
                </a:lnTo>
                <a:lnTo>
                  <a:pt x="508" y="1"/>
                </a:lnTo>
                <a:cubicBezTo>
                  <a:pt x="527" y="-2"/>
                  <a:pt x="545" y="0"/>
                  <a:pt x="562" y="7"/>
                </a:cubicBezTo>
                <a:cubicBezTo>
                  <a:pt x="580" y="13"/>
                  <a:pt x="595" y="24"/>
                  <a:pt x="607" y="39"/>
                </a:cubicBezTo>
                <a:cubicBezTo>
                  <a:pt x="618" y="53"/>
                  <a:pt x="626" y="70"/>
                  <a:pt x="629" y="88"/>
                </a:cubicBezTo>
                <a:cubicBezTo>
                  <a:pt x="629" y="89"/>
                  <a:pt x="629" y="89"/>
                  <a:pt x="629" y="89"/>
                </a:cubicBezTo>
                <a:lnTo>
                  <a:pt x="795" y="1135"/>
                </a:lnTo>
                <a:lnTo>
                  <a:pt x="795" y="1135"/>
                </a:lnTo>
                <a:lnTo>
                  <a:pt x="795" y="1136"/>
                </a:lnTo>
                <a:cubicBezTo>
                  <a:pt x="798" y="1154"/>
                  <a:pt x="796" y="1172"/>
                  <a:pt x="789" y="1190"/>
                </a:cubicBezTo>
                <a:cubicBezTo>
                  <a:pt x="783" y="1207"/>
                  <a:pt x="772" y="1222"/>
                  <a:pt x="757" y="1234"/>
                </a:cubicBezTo>
                <a:cubicBezTo>
                  <a:pt x="743" y="1245"/>
                  <a:pt x="726" y="1253"/>
                  <a:pt x="708" y="1256"/>
                </a:cubicBezTo>
                <a:cubicBezTo>
                  <a:pt x="707" y="1256"/>
                  <a:pt x="707" y="1256"/>
                  <a:pt x="707" y="1256"/>
                </a:cubicBezTo>
                <a:lnTo>
                  <a:pt x="287" y="1322"/>
                </a:lnTo>
                <a:lnTo>
                  <a:pt x="287" y="1322"/>
                </a:lnTo>
                <a:lnTo>
                  <a:pt x="287" y="1322"/>
                </a:lnTo>
                <a:cubicBezTo>
                  <a:pt x="268" y="1325"/>
                  <a:pt x="250" y="1323"/>
                  <a:pt x="232" y="1316"/>
                </a:cubicBezTo>
                <a:cubicBezTo>
                  <a:pt x="215" y="1310"/>
                  <a:pt x="200" y="1299"/>
                  <a:pt x="188" y="1284"/>
                </a:cubicBezTo>
                <a:cubicBezTo>
                  <a:pt x="177" y="1270"/>
                  <a:pt x="169" y="1253"/>
                  <a:pt x="166" y="1235"/>
                </a:cubicBezTo>
                <a:cubicBezTo>
                  <a:pt x="166" y="1234"/>
                  <a:pt x="166" y="1234"/>
                  <a:pt x="166" y="1234"/>
                </a:cubicBezTo>
                <a:lnTo>
                  <a:pt x="1" y="188"/>
                </a:lnTo>
                <a:lnTo>
                  <a:pt x="1" y="188"/>
                </a:lnTo>
                <a:lnTo>
                  <a:pt x="1" y="187"/>
                </a:lnTo>
                <a:cubicBezTo>
                  <a:pt x="-2" y="169"/>
                  <a:pt x="0" y="151"/>
                  <a:pt x="7" y="133"/>
                </a:cubicBezTo>
                <a:cubicBezTo>
                  <a:pt x="13" y="116"/>
                  <a:pt x="24" y="101"/>
                  <a:pt x="39" y="89"/>
                </a:cubicBezTo>
                <a:cubicBezTo>
                  <a:pt x="53" y="78"/>
                  <a:pt x="70" y="70"/>
                  <a:pt x="88" y="67"/>
                </a:cubicBezTo>
                <a:cubicBezTo>
                  <a:pt x="89" y="67"/>
                  <a:pt x="89" y="67"/>
                  <a:pt x="89" y="67"/>
                </a:cubicBezTo>
                <a:lnTo>
                  <a:pt x="508" y="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04760" y="2288160"/>
            <a:ext cx="381600" cy="458640"/>
          </a:xfrm>
          <a:custGeom>
            <a:avLst/>
            <a:gdLst/>
            <a:ahLst/>
            <a:rect l="0" t="0" r="r" b="b"/>
            <a:pathLst>
              <a:path w="1060" h="1274">
                <a:moveTo>
                  <a:pt x="6" y="572"/>
                </a:moveTo>
                <a:lnTo>
                  <a:pt x="6" y="572"/>
                </a:lnTo>
                <a:cubicBezTo>
                  <a:pt x="6" y="573"/>
                  <a:pt x="6" y="573"/>
                  <a:pt x="6" y="573"/>
                </a:cubicBezTo>
                <a:cubicBezTo>
                  <a:pt x="-8" y="684"/>
                  <a:pt x="3" y="796"/>
                  <a:pt x="37" y="898"/>
                </a:cubicBezTo>
                <a:cubicBezTo>
                  <a:pt x="71" y="1000"/>
                  <a:pt x="128" y="1088"/>
                  <a:pt x="201" y="1154"/>
                </a:cubicBezTo>
                <a:cubicBezTo>
                  <a:pt x="273" y="1219"/>
                  <a:pt x="360" y="1260"/>
                  <a:pt x="452" y="1271"/>
                </a:cubicBezTo>
                <a:cubicBezTo>
                  <a:pt x="544" y="1282"/>
                  <a:pt x="638" y="1264"/>
                  <a:pt x="725" y="1218"/>
                </a:cubicBezTo>
                <a:cubicBezTo>
                  <a:pt x="811" y="1172"/>
                  <a:pt x="887" y="1100"/>
                  <a:pt x="945" y="1010"/>
                </a:cubicBezTo>
                <a:cubicBezTo>
                  <a:pt x="1003" y="919"/>
                  <a:pt x="1040" y="813"/>
                  <a:pt x="1054" y="702"/>
                </a:cubicBezTo>
                <a:lnTo>
                  <a:pt x="1054" y="702"/>
                </a:lnTo>
                <a:cubicBezTo>
                  <a:pt x="1054" y="701"/>
                  <a:pt x="1054" y="701"/>
                  <a:pt x="1054" y="701"/>
                </a:cubicBezTo>
                <a:cubicBezTo>
                  <a:pt x="1068" y="590"/>
                  <a:pt x="1057" y="478"/>
                  <a:pt x="1023" y="376"/>
                </a:cubicBezTo>
                <a:cubicBezTo>
                  <a:pt x="989" y="274"/>
                  <a:pt x="932" y="186"/>
                  <a:pt x="859" y="120"/>
                </a:cubicBezTo>
                <a:cubicBezTo>
                  <a:pt x="787" y="55"/>
                  <a:pt x="700" y="14"/>
                  <a:pt x="608" y="3"/>
                </a:cubicBezTo>
                <a:cubicBezTo>
                  <a:pt x="516" y="-8"/>
                  <a:pt x="422" y="10"/>
                  <a:pt x="335" y="56"/>
                </a:cubicBezTo>
                <a:cubicBezTo>
                  <a:pt x="249" y="102"/>
                  <a:pt x="173" y="174"/>
                  <a:pt x="115" y="264"/>
                </a:cubicBezTo>
                <a:cubicBezTo>
                  <a:pt x="57" y="355"/>
                  <a:pt x="20" y="461"/>
                  <a:pt x="6" y="572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3600" y="2809800"/>
            <a:ext cx="274680" cy="473400"/>
          </a:xfrm>
          <a:custGeom>
            <a:avLst/>
            <a:gdLst/>
            <a:ahLst/>
            <a:rect l="0" t="0" r="r" b="b"/>
            <a:pathLst>
              <a:path w="763" h="1315">
                <a:moveTo>
                  <a:pt x="670" y="53"/>
                </a:moveTo>
                <a:lnTo>
                  <a:pt x="670" y="53"/>
                </a:lnTo>
                <a:lnTo>
                  <a:pt x="671" y="53"/>
                </a:lnTo>
                <a:cubicBezTo>
                  <a:pt x="690" y="56"/>
                  <a:pt x="707" y="63"/>
                  <a:pt x="722" y="74"/>
                </a:cubicBezTo>
                <a:cubicBezTo>
                  <a:pt x="737" y="85"/>
                  <a:pt x="748" y="100"/>
                  <a:pt x="756" y="117"/>
                </a:cubicBezTo>
                <a:cubicBezTo>
                  <a:pt x="763" y="134"/>
                  <a:pt x="765" y="152"/>
                  <a:pt x="763" y="170"/>
                </a:cubicBezTo>
                <a:cubicBezTo>
                  <a:pt x="763" y="171"/>
                  <a:pt x="763" y="171"/>
                  <a:pt x="763" y="171"/>
                </a:cubicBezTo>
                <a:lnTo>
                  <a:pt x="634" y="1223"/>
                </a:lnTo>
                <a:lnTo>
                  <a:pt x="634" y="1223"/>
                </a:lnTo>
                <a:lnTo>
                  <a:pt x="634" y="1224"/>
                </a:lnTo>
                <a:cubicBezTo>
                  <a:pt x="631" y="1242"/>
                  <a:pt x="624" y="1259"/>
                  <a:pt x="613" y="1274"/>
                </a:cubicBezTo>
                <a:cubicBezTo>
                  <a:pt x="602" y="1289"/>
                  <a:pt x="587" y="1300"/>
                  <a:pt x="570" y="1308"/>
                </a:cubicBezTo>
                <a:cubicBezTo>
                  <a:pt x="553" y="1315"/>
                  <a:pt x="535" y="1317"/>
                  <a:pt x="516" y="1315"/>
                </a:cubicBezTo>
                <a:lnTo>
                  <a:pt x="515" y="1315"/>
                </a:lnTo>
                <a:lnTo>
                  <a:pt x="93" y="1264"/>
                </a:lnTo>
                <a:lnTo>
                  <a:pt x="93" y="1264"/>
                </a:lnTo>
                <a:lnTo>
                  <a:pt x="93" y="1264"/>
                </a:lnTo>
                <a:cubicBezTo>
                  <a:pt x="74" y="1262"/>
                  <a:pt x="57" y="1255"/>
                  <a:pt x="42" y="1243"/>
                </a:cubicBezTo>
                <a:cubicBezTo>
                  <a:pt x="27" y="1232"/>
                  <a:pt x="16" y="1218"/>
                  <a:pt x="8" y="1201"/>
                </a:cubicBezTo>
                <a:cubicBezTo>
                  <a:pt x="1" y="1184"/>
                  <a:pt x="-1" y="1165"/>
                  <a:pt x="1" y="1147"/>
                </a:cubicBezTo>
                <a:cubicBezTo>
                  <a:pt x="1" y="1146"/>
                  <a:pt x="1" y="1146"/>
                  <a:pt x="1" y="1146"/>
                </a:cubicBezTo>
                <a:lnTo>
                  <a:pt x="130" y="93"/>
                </a:lnTo>
                <a:lnTo>
                  <a:pt x="130" y="93"/>
                </a:lnTo>
                <a:lnTo>
                  <a:pt x="130" y="92"/>
                </a:lnTo>
                <a:cubicBezTo>
                  <a:pt x="133" y="74"/>
                  <a:pt x="140" y="57"/>
                  <a:pt x="151" y="42"/>
                </a:cubicBezTo>
                <a:cubicBezTo>
                  <a:pt x="162" y="27"/>
                  <a:pt x="177" y="16"/>
                  <a:pt x="194" y="8"/>
                </a:cubicBezTo>
                <a:cubicBezTo>
                  <a:pt x="211" y="1"/>
                  <a:pt x="229" y="-1"/>
                  <a:pt x="248" y="1"/>
                </a:cubicBezTo>
                <a:lnTo>
                  <a:pt x="249" y="1"/>
                </a:lnTo>
                <a:lnTo>
                  <a:pt x="670" y="5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895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505320" y="289548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276720" y="3352680"/>
            <a:ext cx="228600" cy="152640"/>
            <a:chOff x="3276720" y="3352680"/>
            <a:chExt cx="228600" cy="152640"/>
          </a:xfrm>
        </p:grpSpPr>
        <p:sp>
          <p:nvSpPr>
            <p:cNvPr id="232" name=""/>
            <p:cNvSpPr/>
            <p:nvPr/>
          </p:nvSpPr>
          <p:spPr>
            <a:xfrm>
              <a:off x="327672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900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76720" y="34290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495680" y="289548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76920" y="2895480"/>
            <a:ext cx="7596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724280" y="3352680"/>
            <a:ext cx="228960" cy="152640"/>
            <a:chOff x="4724280" y="3352680"/>
            <a:chExt cx="228960" cy="152640"/>
          </a:xfrm>
        </p:grpSpPr>
        <p:sp>
          <p:nvSpPr>
            <p:cNvPr id="238" name=""/>
            <p:cNvSpPr/>
            <p:nvPr/>
          </p:nvSpPr>
          <p:spPr>
            <a:xfrm>
              <a:off x="472428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920" y="335268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24280" y="342900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426320" y="3546720"/>
            <a:ext cx="595440" cy="415800"/>
          </a:xfrm>
          <a:custGeom>
            <a:avLst/>
            <a:gdLst/>
            <a:ahLst/>
            <a:rect l="0" t="0" r="r" b="b"/>
            <a:pathLst>
              <a:path fill="none" w="1654" h="1155">
                <a:moveTo>
                  <a:pt x="695" y="1155"/>
                </a:moveTo>
                <a:lnTo>
                  <a:pt x="1654" y="321"/>
                </a:lnTo>
                <a:lnTo>
                  <a:pt x="1654" y="321"/>
                </a:lnTo>
                <a:lnTo>
                  <a:pt x="1654" y="321"/>
                </a:lnTo>
                <a:cubicBezTo>
                  <a:pt x="1532" y="181"/>
                  <a:pt x="1368" y="82"/>
                  <a:pt x="1178" y="33"/>
                </a:cubicBezTo>
                <a:cubicBezTo>
                  <a:pt x="988" y="-15"/>
                  <a:pt x="779" y="-11"/>
                  <a:pt x="572" y="46"/>
                </a:cubicBezTo>
                <a:cubicBezTo>
                  <a:pt x="366" y="103"/>
                  <a:pt x="168" y="209"/>
                  <a:pt x="0" y="355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99480" y="5295960"/>
            <a:ext cx="371880" cy="219960"/>
          </a:xfrm>
          <a:custGeom>
            <a:avLst/>
            <a:gdLst/>
            <a:ahLst/>
            <a:rect l="0" t="0" r="r" b="b"/>
            <a:pathLst>
              <a:path fill="none" w="1033" h="611">
                <a:moveTo>
                  <a:pt x="558" y="0"/>
                </a:moveTo>
                <a:lnTo>
                  <a:pt x="0" y="303"/>
                </a:lnTo>
                <a:lnTo>
                  <a:pt x="0" y="303"/>
                </a:lnTo>
                <a:cubicBezTo>
                  <a:pt x="28" y="368"/>
                  <a:pt x="69" y="425"/>
                  <a:pt x="119" y="472"/>
                </a:cubicBezTo>
                <a:cubicBezTo>
                  <a:pt x="192" y="540"/>
                  <a:pt x="284" y="585"/>
                  <a:pt x="386" y="603"/>
                </a:cubicBezTo>
                <a:cubicBezTo>
                  <a:pt x="487" y="620"/>
                  <a:pt x="595" y="610"/>
                  <a:pt x="699" y="572"/>
                </a:cubicBezTo>
                <a:cubicBezTo>
                  <a:pt x="802" y="535"/>
                  <a:pt x="897" y="472"/>
                  <a:pt x="974" y="389"/>
                </a:cubicBezTo>
                <a:cubicBezTo>
                  <a:pt x="995" y="366"/>
                  <a:pt x="1015" y="342"/>
                  <a:pt x="1033" y="317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10560" y="4194720"/>
            <a:ext cx="384120" cy="457560"/>
          </a:xfrm>
          <a:custGeom>
            <a:avLst/>
            <a:gdLst/>
            <a:ahLst/>
            <a:rect l="0" t="0" r="r" b="b"/>
            <a:pathLst>
              <a:path w="1067" h="1271">
                <a:moveTo>
                  <a:pt x="10" y="719"/>
                </a:moveTo>
                <a:lnTo>
                  <a:pt x="10" y="719"/>
                </a:lnTo>
                <a:cubicBezTo>
                  <a:pt x="28" y="830"/>
                  <a:pt x="69" y="934"/>
                  <a:pt x="130" y="1023"/>
                </a:cubicBezTo>
                <a:cubicBezTo>
                  <a:pt x="191" y="1111"/>
                  <a:pt x="270" y="1181"/>
                  <a:pt x="358" y="1223"/>
                </a:cubicBezTo>
                <a:cubicBezTo>
                  <a:pt x="447" y="1266"/>
                  <a:pt x="541" y="1281"/>
                  <a:pt x="633" y="1266"/>
                </a:cubicBezTo>
                <a:cubicBezTo>
                  <a:pt x="725" y="1252"/>
                  <a:pt x="811" y="1208"/>
                  <a:pt x="882" y="1140"/>
                </a:cubicBezTo>
                <a:cubicBezTo>
                  <a:pt x="953" y="1072"/>
                  <a:pt x="1006" y="982"/>
                  <a:pt x="1037" y="879"/>
                </a:cubicBezTo>
                <a:cubicBezTo>
                  <a:pt x="1068" y="776"/>
                  <a:pt x="1075" y="664"/>
                  <a:pt x="1057" y="553"/>
                </a:cubicBezTo>
                <a:lnTo>
                  <a:pt x="1057" y="553"/>
                </a:lnTo>
                <a:lnTo>
                  <a:pt x="1057" y="553"/>
                </a:lnTo>
                <a:cubicBezTo>
                  <a:pt x="1039" y="442"/>
                  <a:pt x="998" y="338"/>
                  <a:pt x="937" y="249"/>
                </a:cubicBezTo>
                <a:cubicBezTo>
                  <a:pt x="876" y="161"/>
                  <a:pt x="797" y="91"/>
                  <a:pt x="709" y="49"/>
                </a:cubicBezTo>
                <a:cubicBezTo>
                  <a:pt x="620" y="6"/>
                  <a:pt x="526" y="-9"/>
                  <a:pt x="434" y="6"/>
                </a:cubicBezTo>
                <a:cubicBezTo>
                  <a:pt x="342" y="20"/>
                  <a:pt x="256" y="64"/>
                  <a:pt x="185" y="132"/>
                </a:cubicBezTo>
                <a:cubicBezTo>
                  <a:pt x="114" y="200"/>
                  <a:pt x="61" y="290"/>
                  <a:pt x="30" y="393"/>
                </a:cubicBezTo>
                <a:cubicBezTo>
                  <a:pt x="-1" y="496"/>
                  <a:pt x="-8" y="608"/>
                  <a:pt x="10" y="719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1600" y="4711680"/>
            <a:ext cx="286920" cy="476640"/>
          </a:xfrm>
          <a:custGeom>
            <a:avLst/>
            <a:gdLst/>
            <a:ahLst/>
            <a:rect l="0" t="0" r="r" b="b"/>
            <a:pathLst>
              <a:path w="797" h="1324">
                <a:moveTo>
                  <a:pt x="508" y="1"/>
                </a:moveTo>
                <a:lnTo>
                  <a:pt x="508" y="1"/>
                </a:lnTo>
                <a:lnTo>
                  <a:pt x="508" y="1"/>
                </a:lnTo>
                <a:cubicBezTo>
                  <a:pt x="527" y="-2"/>
                  <a:pt x="545" y="0"/>
                  <a:pt x="562" y="7"/>
                </a:cubicBezTo>
                <a:cubicBezTo>
                  <a:pt x="580" y="13"/>
                  <a:pt x="595" y="24"/>
                  <a:pt x="607" y="39"/>
                </a:cubicBezTo>
                <a:cubicBezTo>
                  <a:pt x="618" y="53"/>
                  <a:pt x="626" y="70"/>
                  <a:pt x="629" y="88"/>
                </a:cubicBezTo>
                <a:cubicBezTo>
                  <a:pt x="629" y="89"/>
                  <a:pt x="629" y="89"/>
                  <a:pt x="629" y="89"/>
                </a:cubicBezTo>
                <a:lnTo>
                  <a:pt x="795" y="1135"/>
                </a:lnTo>
                <a:lnTo>
                  <a:pt x="795" y="1135"/>
                </a:lnTo>
                <a:lnTo>
                  <a:pt x="795" y="1136"/>
                </a:lnTo>
                <a:cubicBezTo>
                  <a:pt x="798" y="1154"/>
                  <a:pt x="796" y="1172"/>
                  <a:pt x="789" y="1190"/>
                </a:cubicBezTo>
                <a:cubicBezTo>
                  <a:pt x="783" y="1207"/>
                  <a:pt x="772" y="1222"/>
                  <a:pt x="757" y="1234"/>
                </a:cubicBezTo>
                <a:cubicBezTo>
                  <a:pt x="743" y="1245"/>
                  <a:pt x="726" y="1253"/>
                  <a:pt x="708" y="1256"/>
                </a:cubicBezTo>
                <a:cubicBezTo>
                  <a:pt x="707" y="1256"/>
                  <a:pt x="707" y="1256"/>
                  <a:pt x="707" y="1256"/>
                </a:cubicBezTo>
                <a:lnTo>
                  <a:pt x="287" y="1322"/>
                </a:lnTo>
                <a:lnTo>
                  <a:pt x="287" y="1322"/>
                </a:lnTo>
                <a:lnTo>
                  <a:pt x="287" y="1322"/>
                </a:lnTo>
                <a:cubicBezTo>
                  <a:pt x="268" y="1325"/>
                  <a:pt x="250" y="1323"/>
                  <a:pt x="232" y="1316"/>
                </a:cubicBezTo>
                <a:cubicBezTo>
                  <a:pt x="215" y="1310"/>
                  <a:pt x="200" y="1299"/>
                  <a:pt x="188" y="1284"/>
                </a:cubicBezTo>
                <a:cubicBezTo>
                  <a:pt x="177" y="1270"/>
                  <a:pt x="169" y="1253"/>
                  <a:pt x="166" y="1235"/>
                </a:cubicBezTo>
                <a:cubicBezTo>
                  <a:pt x="166" y="1234"/>
                  <a:pt x="166" y="1234"/>
                  <a:pt x="166" y="1234"/>
                </a:cubicBezTo>
                <a:lnTo>
                  <a:pt x="1" y="188"/>
                </a:lnTo>
                <a:lnTo>
                  <a:pt x="1" y="188"/>
                </a:lnTo>
                <a:lnTo>
                  <a:pt x="1" y="187"/>
                </a:lnTo>
                <a:cubicBezTo>
                  <a:pt x="-2" y="169"/>
                  <a:pt x="0" y="151"/>
                  <a:pt x="7" y="133"/>
                </a:cubicBezTo>
                <a:cubicBezTo>
                  <a:pt x="13" y="116"/>
                  <a:pt x="24" y="101"/>
                  <a:pt x="39" y="89"/>
                </a:cubicBezTo>
                <a:cubicBezTo>
                  <a:pt x="53" y="78"/>
                  <a:pt x="70" y="70"/>
                  <a:pt x="88" y="67"/>
                </a:cubicBezTo>
                <a:cubicBezTo>
                  <a:pt x="89" y="67"/>
                  <a:pt x="89" y="67"/>
                  <a:pt x="89" y="67"/>
                </a:cubicBezTo>
                <a:lnTo>
                  <a:pt x="508" y="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1080" y="4192920"/>
            <a:ext cx="381600" cy="459000"/>
          </a:xfrm>
          <a:custGeom>
            <a:avLst/>
            <a:gdLst/>
            <a:ahLst/>
            <a:rect l="0" t="0" r="r" b="b"/>
            <a:pathLst>
              <a:path w="1060" h="1275">
                <a:moveTo>
                  <a:pt x="6" y="573"/>
                </a:moveTo>
                <a:lnTo>
                  <a:pt x="6" y="573"/>
                </a:lnTo>
                <a:lnTo>
                  <a:pt x="6" y="573"/>
                </a:lnTo>
                <a:cubicBezTo>
                  <a:pt x="-8" y="685"/>
                  <a:pt x="3" y="797"/>
                  <a:pt x="37" y="899"/>
                </a:cubicBezTo>
                <a:cubicBezTo>
                  <a:pt x="71" y="1001"/>
                  <a:pt x="128" y="1089"/>
                  <a:pt x="201" y="1155"/>
                </a:cubicBezTo>
                <a:cubicBezTo>
                  <a:pt x="273" y="1220"/>
                  <a:pt x="360" y="1261"/>
                  <a:pt x="452" y="1272"/>
                </a:cubicBezTo>
                <a:cubicBezTo>
                  <a:pt x="544" y="1283"/>
                  <a:pt x="638" y="1265"/>
                  <a:pt x="725" y="1219"/>
                </a:cubicBezTo>
                <a:cubicBezTo>
                  <a:pt x="811" y="1173"/>
                  <a:pt x="887" y="1101"/>
                  <a:pt x="945" y="1010"/>
                </a:cubicBezTo>
                <a:cubicBezTo>
                  <a:pt x="1003" y="920"/>
                  <a:pt x="1040" y="813"/>
                  <a:pt x="1054" y="702"/>
                </a:cubicBezTo>
                <a:lnTo>
                  <a:pt x="1054" y="702"/>
                </a:lnTo>
                <a:lnTo>
                  <a:pt x="1054" y="702"/>
                </a:lnTo>
                <a:cubicBezTo>
                  <a:pt x="1068" y="590"/>
                  <a:pt x="1057" y="478"/>
                  <a:pt x="1023" y="376"/>
                </a:cubicBezTo>
                <a:cubicBezTo>
                  <a:pt x="989" y="274"/>
                  <a:pt x="932" y="186"/>
                  <a:pt x="859" y="120"/>
                </a:cubicBezTo>
                <a:cubicBezTo>
                  <a:pt x="787" y="55"/>
                  <a:pt x="700" y="14"/>
                  <a:pt x="608" y="3"/>
                </a:cubicBezTo>
                <a:cubicBezTo>
                  <a:pt x="516" y="-8"/>
                  <a:pt x="422" y="10"/>
                  <a:pt x="335" y="56"/>
                </a:cubicBezTo>
                <a:cubicBezTo>
                  <a:pt x="249" y="102"/>
                  <a:pt x="173" y="174"/>
                  <a:pt x="115" y="265"/>
                </a:cubicBezTo>
                <a:cubicBezTo>
                  <a:pt x="57" y="355"/>
                  <a:pt x="20" y="462"/>
                  <a:pt x="6" y="573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69920" y="4714920"/>
            <a:ext cx="274680" cy="473400"/>
          </a:xfrm>
          <a:custGeom>
            <a:avLst/>
            <a:gdLst/>
            <a:ahLst/>
            <a:rect l="0" t="0" r="r" b="b"/>
            <a:pathLst>
              <a:path w="763" h="1315">
                <a:moveTo>
                  <a:pt x="670" y="53"/>
                </a:moveTo>
                <a:lnTo>
                  <a:pt x="670" y="53"/>
                </a:lnTo>
                <a:lnTo>
                  <a:pt x="671" y="53"/>
                </a:lnTo>
                <a:cubicBezTo>
                  <a:pt x="690" y="56"/>
                  <a:pt x="707" y="63"/>
                  <a:pt x="722" y="74"/>
                </a:cubicBezTo>
                <a:cubicBezTo>
                  <a:pt x="737" y="85"/>
                  <a:pt x="748" y="100"/>
                  <a:pt x="756" y="117"/>
                </a:cubicBezTo>
                <a:cubicBezTo>
                  <a:pt x="763" y="134"/>
                  <a:pt x="765" y="152"/>
                  <a:pt x="763" y="170"/>
                </a:cubicBezTo>
                <a:cubicBezTo>
                  <a:pt x="763" y="171"/>
                  <a:pt x="763" y="171"/>
                  <a:pt x="763" y="171"/>
                </a:cubicBezTo>
                <a:lnTo>
                  <a:pt x="634" y="1223"/>
                </a:lnTo>
                <a:lnTo>
                  <a:pt x="634" y="1223"/>
                </a:lnTo>
                <a:lnTo>
                  <a:pt x="634" y="1224"/>
                </a:lnTo>
                <a:cubicBezTo>
                  <a:pt x="631" y="1242"/>
                  <a:pt x="624" y="1259"/>
                  <a:pt x="613" y="1274"/>
                </a:cubicBezTo>
                <a:cubicBezTo>
                  <a:pt x="602" y="1289"/>
                  <a:pt x="587" y="1300"/>
                  <a:pt x="570" y="1308"/>
                </a:cubicBezTo>
                <a:cubicBezTo>
                  <a:pt x="553" y="1315"/>
                  <a:pt x="535" y="1317"/>
                  <a:pt x="516" y="1315"/>
                </a:cubicBezTo>
                <a:lnTo>
                  <a:pt x="515" y="1315"/>
                </a:lnTo>
                <a:lnTo>
                  <a:pt x="93" y="1264"/>
                </a:lnTo>
                <a:lnTo>
                  <a:pt x="93" y="1264"/>
                </a:lnTo>
                <a:lnTo>
                  <a:pt x="93" y="1264"/>
                </a:lnTo>
                <a:cubicBezTo>
                  <a:pt x="74" y="1262"/>
                  <a:pt x="57" y="1255"/>
                  <a:pt x="42" y="1243"/>
                </a:cubicBezTo>
                <a:cubicBezTo>
                  <a:pt x="27" y="1232"/>
                  <a:pt x="16" y="1218"/>
                  <a:pt x="8" y="1201"/>
                </a:cubicBezTo>
                <a:cubicBezTo>
                  <a:pt x="1" y="1184"/>
                  <a:pt x="-1" y="1165"/>
                  <a:pt x="1" y="1147"/>
                </a:cubicBezTo>
                <a:cubicBezTo>
                  <a:pt x="1" y="1146"/>
                  <a:pt x="1" y="1146"/>
                  <a:pt x="1" y="1146"/>
                </a:cubicBezTo>
                <a:lnTo>
                  <a:pt x="130" y="93"/>
                </a:lnTo>
                <a:lnTo>
                  <a:pt x="130" y="93"/>
                </a:lnTo>
                <a:lnTo>
                  <a:pt x="130" y="92"/>
                </a:lnTo>
                <a:cubicBezTo>
                  <a:pt x="133" y="74"/>
                  <a:pt x="140" y="57"/>
                  <a:pt x="151" y="42"/>
                </a:cubicBezTo>
                <a:cubicBezTo>
                  <a:pt x="162" y="27"/>
                  <a:pt x="177" y="16"/>
                  <a:pt x="194" y="8"/>
                </a:cubicBezTo>
                <a:cubicBezTo>
                  <a:pt x="211" y="1"/>
                  <a:pt x="229" y="-1"/>
                  <a:pt x="248" y="1"/>
                </a:cubicBezTo>
                <a:lnTo>
                  <a:pt x="249" y="1"/>
                </a:lnTo>
                <a:lnTo>
                  <a:pt x="670" y="53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9000" y="48006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581280" y="480060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800600"/>
            <a:ext cx="22860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800600"/>
            <a:ext cx="763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352680" y="5257800"/>
            <a:ext cx="228960" cy="182520"/>
            <a:chOff x="3352680" y="5257800"/>
            <a:chExt cx="228960" cy="182520"/>
          </a:xfrm>
        </p:grpSpPr>
        <p:sp>
          <p:nvSpPr>
            <p:cNvPr id="253" name=""/>
            <p:cNvSpPr/>
            <p:nvPr/>
          </p:nvSpPr>
          <p:spPr>
            <a:xfrm>
              <a:off x="3352680" y="52578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53341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8800" y="5304240"/>
              <a:ext cx="216720" cy="136080"/>
            </a:xfrm>
            <a:custGeom>
              <a:avLst/>
              <a:gdLst/>
              <a:ahLst/>
              <a:rect l="0" t="0" r="r" b="b"/>
              <a:pathLst>
                <a:path w="602" h="378">
                  <a:moveTo>
                    <a:pt x="538" y="174"/>
                  </a:moveTo>
                  <a:lnTo>
                    <a:pt x="538" y="174"/>
                  </a:lnTo>
                  <a:cubicBezTo>
                    <a:pt x="538" y="175"/>
                    <a:pt x="538" y="175"/>
                    <a:pt x="539" y="175"/>
                  </a:cubicBezTo>
                  <a:cubicBezTo>
                    <a:pt x="556" y="182"/>
                    <a:pt x="570" y="194"/>
                    <a:pt x="582" y="208"/>
                  </a:cubicBezTo>
                  <a:cubicBezTo>
                    <a:pt x="593" y="223"/>
                    <a:pt x="600" y="241"/>
                    <a:pt x="602" y="259"/>
                  </a:cubicBezTo>
                  <a:cubicBezTo>
                    <a:pt x="604" y="277"/>
                    <a:pt x="602" y="296"/>
                    <a:pt x="594" y="313"/>
                  </a:cubicBez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lnTo>
                    <a:pt x="594" y="314"/>
                  </a:lnTo>
                  <a:cubicBezTo>
                    <a:pt x="587" y="331"/>
                    <a:pt x="575" y="346"/>
                    <a:pt x="560" y="357"/>
                  </a:cubicBezTo>
                  <a:cubicBezTo>
                    <a:pt x="546" y="368"/>
                    <a:pt x="528" y="375"/>
                    <a:pt x="510" y="378"/>
                  </a:cubicBezTo>
                  <a:cubicBezTo>
                    <a:pt x="491" y="380"/>
                    <a:pt x="473" y="377"/>
                    <a:pt x="456" y="370"/>
                  </a:cubicBezTo>
                  <a:lnTo>
                    <a:pt x="456" y="370"/>
                  </a:lnTo>
                  <a:lnTo>
                    <a:pt x="65" y="205"/>
                  </a:lnTo>
                  <a:lnTo>
                    <a:pt x="65" y="205"/>
                  </a:lnTo>
                  <a:cubicBezTo>
                    <a:pt x="65" y="204"/>
                    <a:pt x="65" y="204"/>
                    <a:pt x="64" y="204"/>
                  </a:cubicBezTo>
                  <a:cubicBezTo>
                    <a:pt x="47" y="197"/>
                    <a:pt x="33" y="185"/>
                    <a:pt x="21" y="171"/>
                  </a:cubicBezTo>
                  <a:cubicBezTo>
                    <a:pt x="10" y="156"/>
                    <a:pt x="3" y="138"/>
                    <a:pt x="1" y="120"/>
                  </a:cubicBezTo>
                  <a:cubicBezTo>
                    <a:pt x="-1" y="102"/>
                    <a:pt x="1" y="83"/>
                    <a:pt x="9" y="66"/>
                  </a:cubicBez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4"/>
                  </a:lnTo>
                  <a:cubicBezTo>
                    <a:pt x="17" y="47"/>
                    <a:pt x="28" y="33"/>
                    <a:pt x="43" y="21"/>
                  </a:cubicBezTo>
                  <a:cubicBezTo>
                    <a:pt x="58" y="10"/>
                    <a:pt x="75" y="3"/>
                    <a:pt x="93" y="1"/>
                  </a:cubicBezTo>
                  <a:cubicBezTo>
                    <a:pt x="112" y="-1"/>
                    <a:pt x="130" y="1"/>
                    <a:pt x="147" y="9"/>
                  </a:cubicBezTo>
                  <a:cubicBezTo>
                    <a:pt x="148" y="9"/>
                    <a:pt x="148" y="9"/>
                    <a:pt x="148" y="9"/>
                  </a:cubicBezTo>
                  <a:lnTo>
                    <a:pt x="538" y="1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800600" y="5257800"/>
            <a:ext cx="228600" cy="180360"/>
            <a:chOff x="4800600" y="5257800"/>
            <a:chExt cx="228600" cy="180360"/>
          </a:xfrm>
        </p:grpSpPr>
        <p:sp>
          <p:nvSpPr>
            <p:cNvPr id="257" name=""/>
            <p:cNvSpPr/>
            <p:nvPr/>
          </p:nvSpPr>
          <p:spPr>
            <a:xfrm>
              <a:off x="4800600" y="533412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5257800"/>
              <a:ext cx="76320" cy="76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05640" y="5306760"/>
              <a:ext cx="219240" cy="131400"/>
            </a:xfrm>
            <a:custGeom>
              <a:avLst/>
              <a:gdLst/>
              <a:ahLst/>
              <a:rect l="0" t="0" r="r" b="b"/>
              <a:pathLst>
                <a:path w="609" h="365">
                  <a:moveTo>
                    <a:pt x="465" y="7"/>
                  </a:moveTo>
                  <a:lnTo>
                    <a:pt x="465" y="7"/>
                  </a:lnTo>
                  <a:lnTo>
                    <a:pt x="465" y="7"/>
                  </a:lnTo>
                  <a:cubicBezTo>
                    <a:pt x="482" y="0"/>
                    <a:pt x="501" y="-2"/>
                    <a:pt x="519" y="1"/>
                  </a:cubicBezTo>
                  <a:cubicBezTo>
                    <a:pt x="537" y="4"/>
                    <a:pt x="555" y="12"/>
                    <a:pt x="569" y="23"/>
                  </a:cubicBezTo>
                  <a:cubicBezTo>
                    <a:pt x="583" y="35"/>
                    <a:pt x="594" y="50"/>
                    <a:pt x="601" y="67"/>
                  </a:cubicBezTo>
                  <a:lnTo>
                    <a:pt x="601" y="67"/>
                  </a:lnTo>
                  <a:lnTo>
                    <a:pt x="601" y="67"/>
                  </a:lnTo>
                  <a:cubicBezTo>
                    <a:pt x="601" y="68"/>
                    <a:pt x="601" y="68"/>
                    <a:pt x="601" y="68"/>
                  </a:cubicBezTo>
                  <a:cubicBezTo>
                    <a:pt x="608" y="85"/>
                    <a:pt x="610" y="104"/>
                    <a:pt x="607" y="122"/>
                  </a:cubicBezTo>
                  <a:cubicBezTo>
                    <a:pt x="604" y="141"/>
                    <a:pt x="597" y="158"/>
                    <a:pt x="585" y="172"/>
                  </a:cubicBezTo>
                  <a:cubicBezTo>
                    <a:pt x="573" y="187"/>
                    <a:pt x="558" y="198"/>
                    <a:pt x="541" y="204"/>
                  </a:cubicBezTo>
                  <a:cubicBezTo>
                    <a:pt x="540" y="204"/>
                    <a:pt x="540" y="204"/>
                    <a:pt x="540" y="205"/>
                  </a:cubicBezTo>
                  <a:lnTo>
                    <a:pt x="143" y="357"/>
                  </a:lnTo>
                  <a:lnTo>
                    <a:pt x="143" y="357"/>
                  </a:lnTo>
                  <a:lnTo>
                    <a:pt x="143" y="357"/>
                  </a:lnTo>
                  <a:cubicBezTo>
                    <a:pt x="126" y="364"/>
                    <a:pt x="107" y="366"/>
                    <a:pt x="89" y="363"/>
                  </a:cubicBezTo>
                  <a:cubicBezTo>
                    <a:pt x="71" y="360"/>
                    <a:pt x="54" y="352"/>
                    <a:pt x="39" y="341"/>
                  </a:cubicBezTo>
                  <a:cubicBezTo>
                    <a:pt x="25" y="329"/>
                    <a:pt x="14" y="314"/>
                    <a:pt x="7" y="296"/>
                  </a:cubicBezTo>
                  <a:lnTo>
                    <a:pt x="7" y="296"/>
                  </a:lnTo>
                  <a:lnTo>
                    <a:pt x="7" y="296"/>
                  </a:lnTo>
                  <a:lnTo>
                    <a:pt x="7" y="296"/>
                  </a:lnTo>
                  <a:cubicBezTo>
                    <a:pt x="7" y="295"/>
                    <a:pt x="7" y="295"/>
                    <a:pt x="7" y="295"/>
                  </a:cubicBezTo>
                  <a:cubicBezTo>
                    <a:pt x="0" y="277"/>
                    <a:pt x="-2" y="259"/>
                    <a:pt x="1" y="240"/>
                  </a:cubicBezTo>
                  <a:cubicBezTo>
                    <a:pt x="4" y="222"/>
                    <a:pt x="11" y="205"/>
                    <a:pt x="23" y="191"/>
                  </a:cubicBezTo>
                  <a:cubicBezTo>
                    <a:pt x="35" y="176"/>
                    <a:pt x="50" y="165"/>
                    <a:pt x="67" y="158"/>
                  </a:cubicBezTo>
                  <a:lnTo>
                    <a:pt x="67" y="158"/>
                  </a:lnTo>
                  <a:lnTo>
                    <a:pt x="465" y="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76720" y="7086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6019920"/>
            <a:ext cx="38088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6553080"/>
            <a:ext cx="228600" cy="45720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6553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57400" y="655308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28800" y="70102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701028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7086600"/>
            <a:ext cx="228600" cy="76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172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67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457200" y="6781680"/>
            <a:ext cx="22860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4720" y="592308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90520" y="6684840"/>
            <a:ext cx="27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89080" y="7078680"/>
            <a:ext cx="268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6480" y="5821200"/>
            <a:ext cx="199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tégorie de mouvement Tronc-tê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31200" y="6111000"/>
            <a:ext cx="414720" cy="428040"/>
          </a:xfrm>
          <a:custGeom>
            <a:avLst/>
            <a:gdLst/>
            <a:ahLst/>
            <a:rect l="0" t="0" r="r" b="b"/>
            <a:pathLst>
              <a:path w="1152" h="1189">
                <a:moveTo>
                  <a:pt x="170" y="936"/>
                </a:moveTo>
                <a:lnTo>
                  <a:pt x="170" y="936"/>
                </a:lnTo>
                <a:cubicBezTo>
                  <a:pt x="242" y="1021"/>
                  <a:pt x="331" y="1089"/>
                  <a:pt x="428" y="1133"/>
                </a:cubicBezTo>
                <a:cubicBezTo>
                  <a:pt x="526" y="1177"/>
                  <a:pt x="629" y="1196"/>
                  <a:pt x="727" y="1187"/>
                </a:cubicBezTo>
                <a:cubicBezTo>
                  <a:pt x="824" y="1178"/>
                  <a:pt x="913" y="1142"/>
                  <a:pt x="984" y="1082"/>
                </a:cubicBezTo>
                <a:cubicBezTo>
                  <a:pt x="1055" y="1022"/>
                  <a:pt x="1106" y="941"/>
                  <a:pt x="1132" y="846"/>
                </a:cubicBezTo>
                <a:cubicBezTo>
                  <a:pt x="1158" y="752"/>
                  <a:pt x="1158" y="647"/>
                  <a:pt x="1131" y="543"/>
                </a:cubicBezTo>
                <a:cubicBezTo>
                  <a:pt x="1105" y="439"/>
                  <a:pt x="1053" y="339"/>
                  <a:pt x="981" y="254"/>
                </a:cubicBezTo>
                <a:lnTo>
                  <a:pt x="981" y="253"/>
                </a:lnTo>
                <a:lnTo>
                  <a:pt x="981" y="253"/>
                </a:lnTo>
                <a:cubicBezTo>
                  <a:pt x="909" y="168"/>
                  <a:pt x="820" y="100"/>
                  <a:pt x="723" y="56"/>
                </a:cubicBezTo>
                <a:cubicBezTo>
                  <a:pt x="625" y="12"/>
                  <a:pt x="522" y="-7"/>
                  <a:pt x="424" y="2"/>
                </a:cubicBezTo>
                <a:cubicBezTo>
                  <a:pt x="327" y="11"/>
                  <a:pt x="238" y="47"/>
                  <a:pt x="167" y="107"/>
                </a:cubicBezTo>
                <a:cubicBezTo>
                  <a:pt x="96" y="167"/>
                  <a:pt x="45" y="248"/>
                  <a:pt x="19" y="343"/>
                </a:cubicBezTo>
                <a:cubicBezTo>
                  <a:pt x="-7" y="437"/>
                  <a:pt x="-7" y="542"/>
                  <a:pt x="20" y="646"/>
                </a:cubicBezTo>
                <a:cubicBezTo>
                  <a:pt x="46" y="750"/>
                  <a:pt x="98" y="850"/>
                  <a:pt x="170" y="935"/>
                </a:cubicBezTo>
                <a:lnTo>
                  <a:pt x="170" y="93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7920" y="6619680"/>
            <a:ext cx="286920" cy="476640"/>
          </a:xfrm>
          <a:custGeom>
            <a:avLst/>
            <a:gdLst/>
            <a:ahLst/>
            <a:rect l="0" t="0" r="r" b="b"/>
            <a:pathLst>
              <a:path w="797" h="1324">
                <a:moveTo>
                  <a:pt x="508" y="1"/>
                </a:moveTo>
                <a:lnTo>
                  <a:pt x="508" y="1"/>
                </a:lnTo>
                <a:lnTo>
                  <a:pt x="508" y="1"/>
                </a:lnTo>
                <a:cubicBezTo>
                  <a:pt x="527" y="-2"/>
                  <a:pt x="545" y="0"/>
                  <a:pt x="562" y="7"/>
                </a:cubicBezTo>
                <a:cubicBezTo>
                  <a:pt x="580" y="13"/>
                  <a:pt x="595" y="24"/>
                  <a:pt x="607" y="39"/>
                </a:cubicBezTo>
                <a:cubicBezTo>
                  <a:pt x="618" y="53"/>
                  <a:pt x="626" y="70"/>
                  <a:pt x="629" y="88"/>
                </a:cubicBezTo>
                <a:cubicBezTo>
                  <a:pt x="629" y="89"/>
                  <a:pt x="629" y="89"/>
                  <a:pt x="629" y="89"/>
                </a:cubicBezTo>
                <a:lnTo>
                  <a:pt x="795" y="1135"/>
                </a:lnTo>
                <a:lnTo>
                  <a:pt x="795" y="1135"/>
                </a:lnTo>
                <a:lnTo>
                  <a:pt x="795" y="1136"/>
                </a:lnTo>
                <a:cubicBezTo>
                  <a:pt x="798" y="1154"/>
                  <a:pt x="796" y="1172"/>
                  <a:pt x="789" y="1190"/>
                </a:cubicBezTo>
                <a:cubicBezTo>
                  <a:pt x="783" y="1207"/>
                  <a:pt x="772" y="1222"/>
                  <a:pt x="757" y="1234"/>
                </a:cubicBezTo>
                <a:cubicBezTo>
                  <a:pt x="743" y="1245"/>
                  <a:pt x="726" y="1253"/>
                  <a:pt x="708" y="1256"/>
                </a:cubicBezTo>
                <a:cubicBezTo>
                  <a:pt x="707" y="1256"/>
                  <a:pt x="707" y="1256"/>
                  <a:pt x="707" y="1256"/>
                </a:cubicBezTo>
                <a:lnTo>
                  <a:pt x="287" y="1322"/>
                </a:lnTo>
                <a:lnTo>
                  <a:pt x="287" y="1322"/>
                </a:lnTo>
                <a:lnTo>
                  <a:pt x="287" y="1322"/>
                </a:lnTo>
                <a:cubicBezTo>
                  <a:pt x="268" y="1325"/>
                  <a:pt x="250" y="1323"/>
                  <a:pt x="232" y="1316"/>
                </a:cubicBezTo>
                <a:cubicBezTo>
                  <a:pt x="215" y="1310"/>
                  <a:pt x="200" y="1299"/>
                  <a:pt x="188" y="1284"/>
                </a:cubicBezTo>
                <a:cubicBezTo>
                  <a:pt x="177" y="1270"/>
                  <a:pt x="169" y="1253"/>
                  <a:pt x="166" y="1235"/>
                </a:cubicBezTo>
                <a:cubicBezTo>
                  <a:pt x="166" y="1234"/>
                  <a:pt x="166" y="1234"/>
                  <a:pt x="166" y="1234"/>
                </a:cubicBezTo>
                <a:lnTo>
                  <a:pt x="1" y="188"/>
                </a:lnTo>
                <a:lnTo>
                  <a:pt x="1" y="188"/>
                </a:lnTo>
                <a:lnTo>
                  <a:pt x="1" y="187"/>
                </a:lnTo>
                <a:cubicBezTo>
                  <a:pt x="-2" y="169"/>
                  <a:pt x="0" y="151"/>
                  <a:pt x="7" y="133"/>
                </a:cubicBezTo>
                <a:cubicBezTo>
                  <a:pt x="13" y="116"/>
                  <a:pt x="24" y="101"/>
                  <a:pt x="39" y="89"/>
                </a:cubicBezTo>
                <a:cubicBezTo>
                  <a:pt x="53" y="78"/>
                  <a:pt x="70" y="70"/>
                  <a:pt x="88" y="67"/>
                </a:cubicBezTo>
                <a:cubicBezTo>
                  <a:pt x="89" y="67"/>
                  <a:pt x="89" y="67"/>
                  <a:pt x="89" y="67"/>
                </a:cubicBezTo>
                <a:lnTo>
                  <a:pt x="508" y="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6629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505320" y="66294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29000" y="7086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7162920"/>
            <a:ext cx="228600" cy="76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23840" y="6118920"/>
            <a:ext cx="431280" cy="412560"/>
          </a:xfrm>
          <a:custGeom>
            <a:avLst/>
            <a:gdLst/>
            <a:ahLst/>
            <a:rect l="0" t="0" r="r" b="b"/>
            <a:pathLst>
              <a:path w="1198" h="1146">
                <a:moveTo>
                  <a:pt x="273" y="155"/>
                </a:moveTo>
                <a:lnTo>
                  <a:pt x="273" y="155"/>
                </a:lnTo>
                <a:cubicBezTo>
                  <a:pt x="273" y="156"/>
                  <a:pt x="272" y="156"/>
                  <a:pt x="272" y="156"/>
                </a:cubicBezTo>
                <a:cubicBezTo>
                  <a:pt x="184" y="225"/>
                  <a:pt x="113" y="312"/>
                  <a:pt x="65" y="408"/>
                </a:cubicBezTo>
                <a:cubicBezTo>
                  <a:pt x="18" y="504"/>
                  <a:pt x="-5" y="606"/>
                  <a:pt x="1" y="704"/>
                </a:cubicBezTo>
                <a:cubicBezTo>
                  <a:pt x="7" y="802"/>
                  <a:pt x="40" y="892"/>
                  <a:pt x="97" y="965"/>
                </a:cubicBezTo>
                <a:cubicBezTo>
                  <a:pt x="154" y="1038"/>
                  <a:pt x="234" y="1092"/>
                  <a:pt x="327" y="1121"/>
                </a:cubicBezTo>
                <a:cubicBezTo>
                  <a:pt x="421" y="1150"/>
                  <a:pt x="525" y="1153"/>
                  <a:pt x="630" y="1130"/>
                </a:cubicBezTo>
                <a:cubicBezTo>
                  <a:pt x="734" y="1108"/>
                  <a:pt x="836" y="1059"/>
                  <a:pt x="924" y="991"/>
                </a:cubicBezTo>
                <a:cubicBezTo>
                  <a:pt x="924" y="990"/>
                  <a:pt x="924" y="990"/>
                  <a:pt x="925" y="990"/>
                </a:cubicBezTo>
                <a:lnTo>
                  <a:pt x="925" y="990"/>
                </a:lnTo>
                <a:cubicBezTo>
                  <a:pt x="925" y="989"/>
                  <a:pt x="926" y="989"/>
                  <a:pt x="926" y="989"/>
                </a:cubicBezTo>
                <a:cubicBezTo>
                  <a:pt x="1014" y="920"/>
                  <a:pt x="1085" y="833"/>
                  <a:pt x="1133" y="737"/>
                </a:cubicBezTo>
                <a:cubicBezTo>
                  <a:pt x="1180" y="641"/>
                  <a:pt x="1203" y="539"/>
                  <a:pt x="1197" y="441"/>
                </a:cubicBezTo>
                <a:cubicBezTo>
                  <a:pt x="1191" y="343"/>
                  <a:pt x="1158" y="253"/>
                  <a:pt x="1101" y="180"/>
                </a:cubicBezTo>
                <a:cubicBezTo>
                  <a:pt x="1044" y="107"/>
                  <a:pt x="964" y="53"/>
                  <a:pt x="871" y="24"/>
                </a:cubicBezTo>
                <a:cubicBezTo>
                  <a:pt x="777" y="-5"/>
                  <a:pt x="673" y="-8"/>
                  <a:pt x="568" y="15"/>
                </a:cubicBezTo>
                <a:cubicBezTo>
                  <a:pt x="464" y="37"/>
                  <a:pt x="362" y="86"/>
                  <a:pt x="274" y="154"/>
                </a:cubicBezTo>
                <a:cubicBezTo>
                  <a:pt x="274" y="155"/>
                  <a:pt x="274" y="155"/>
                  <a:pt x="273" y="155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22400" y="6620760"/>
            <a:ext cx="280440" cy="475200"/>
          </a:xfrm>
          <a:custGeom>
            <a:avLst/>
            <a:gdLst/>
            <a:ahLst/>
            <a:rect l="0" t="0" r="r" b="b"/>
            <a:pathLst>
              <a:path w="779" h="1320">
                <a:moveTo>
                  <a:pt x="688" y="59"/>
                </a:moveTo>
                <a:lnTo>
                  <a:pt x="688" y="59"/>
                </a:lnTo>
                <a:lnTo>
                  <a:pt x="689" y="59"/>
                </a:lnTo>
                <a:cubicBezTo>
                  <a:pt x="707" y="62"/>
                  <a:pt x="724" y="69"/>
                  <a:pt x="739" y="80"/>
                </a:cubicBezTo>
                <a:cubicBezTo>
                  <a:pt x="753" y="92"/>
                  <a:pt x="765" y="107"/>
                  <a:pt x="772" y="124"/>
                </a:cubicBezTo>
                <a:cubicBezTo>
                  <a:pt x="778" y="141"/>
                  <a:pt x="781" y="160"/>
                  <a:pt x="778" y="178"/>
                </a:cubicBezTo>
                <a:lnTo>
                  <a:pt x="778" y="179"/>
                </a:lnTo>
                <a:lnTo>
                  <a:pt x="630" y="1229"/>
                </a:lnTo>
                <a:lnTo>
                  <a:pt x="630" y="1229"/>
                </a:lnTo>
                <a:lnTo>
                  <a:pt x="630" y="1230"/>
                </a:lnTo>
                <a:cubicBezTo>
                  <a:pt x="627" y="1248"/>
                  <a:pt x="620" y="1265"/>
                  <a:pt x="608" y="1280"/>
                </a:cubicBezTo>
                <a:cubicBezTo>
                  <a:pt x="597" y="1294"/>
                  <a:pt x="582" y="1305"/>
                  <a:pt x="565" y="1312"/>
                </a:cubicBezTo>
                <a:cubicBezTo>
                  <a:pt x="548" y="1319"/>
                  <a:pt x="529" y="1322"/>
                  <a:pt x="511" y="1319"/>
                </a:cubicBezTo>
                <a:lnTo>
                  <a:pt x="511" y="1319"/>
                </a:lnTo>
                <a:lnTo>
                  <a:pt x="91" y="1260"/>
                </a:lnTo>
                <a:lnTo>
                  <a:pt x="91" y="1260"/>
                </a:lnTo>
                <a:lnTo>
                  <a:pt x="90" y="1260"/>
                </a:lnTo>
                <a:cubicBezTo>
                  <a:pt x="72" y="1257"/>
                  <a:pt x="55" y="1250"/>
                  <a:pt x="40" y="1239"/>
                </a:cubicBezTo>
                <a:cubicBezTo>
                  <a:pt x="26" y="1227"/>
                  <a:pt x="15" y="1212"/>
                  <a:pt x="8" y="1195"/>
                </a:cubicBezTo>
                <a:cubicBezTo>
                  <a:pt x="1" y="1178"/>
                  <a:pt x="-2" y="1159"/>
                  <a:pt x="1" y="1141"/>
                </a:cubicBezTo>
                <a:lnTo>
                  <a:pt x="1" y="1141"/>
                </a:lnTo>
                <a:lnTo>
                  <a:pt x="148" y="91"/>
                </a:lnTo>
                <a:lnTo>
                  <a:pt x="148" y="91"/>
                </a:lnTo>
                <a:lnTo>
                  <a:pt x="148" y="90"/>
                </a:lnTo>
                <a:cubicBezTo>
                  <a:pt x="151" y="72"/>
                  <a:pt x="158" y="55"/>
                  <a:pt x="170" y="40"/>
                </a:cubicBezTo>
                <a:cubicBezTo>
                  <a:pt x="181" y="26"/>
                  <a:pt x="196" y="15"/>
                  <a:pt x="213" y="8"/>
                </a:cubicBezTo>
                <a:cubicBezTo>
                  <a:pt x="230" y="1"/>
                  <a:pt x="249" y="-2"/>
                  <a:pt x="267" y="1"/>
                </a:cubicBezTo>
                <a:lnTo>
                  <a:pt x="267" y="1"/>
                </a:lnTo>
                <a:lnTo>
                  <a:pt x="688" y="5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662940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66294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48320" y="7086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70866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7162920"/>
            <a:ext cx="228600" cy="763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41360" y="7513560"/>
            <a:ext cx="1844640" cy="1400040"/>
            <a:chOff x="441360" y="7513560"/>
            <a:chExt cx="1844640" cy="1400040"/>
          </a:xfrm>
        </p:grpSpPr>
        <p:sp>
          <p:nvSpPr>
            <p:cNvPr id="289" name=""/>
            <p:cNvSpPr/>
            <p:nvPr/>
          </p:nvSpPr>
          <p:spPr>
            <a:xfrm>
              <a:off x="838080" y="7763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080" y="837252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09480" y="837252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657360" y="751356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343160" y="8275680"/>
              <a:ext cx="276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41360" y="8669160"/>
              <a:ext cx="262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7763040"/>
              <a:ext cx="38088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8296200"/>
              <a:ext cx="228600" cy="45720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05120" y="8296200"/>
              <a:ext cx="7596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209680" y="8296200"/>
              <a:ext cx="7632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8108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3372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1080" y="88297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05120" y="7686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505320" y="7763040"/>
            <a:ext cx="38088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8296200"/>
            <a:ext cx="228600" cy="4572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82962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57600" y="82962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429000" y="8753400"/>
            <a:ext cx="228600" cy="152640"/>
            <a:chOff x="3429000" y="8753400"/>
            <a:chExt cx="228600" cy="152640"/>
          </a:xfrm>
        </p:grpSpPr>
        <p:sp>
          <p:nvSpPr>
            <p:cNvPr id="308" name=""/>
            <p:cNvSpPr/>
            <p:nvPr/>
          </p:nvSpPr>
          <p:spPr>
            <a:xfrm>
              <a:off x="342900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8128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29000" y="88297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4572000" y="7763040"/>
            <a:ext cx="38088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8296200"/>
            <a:ext cx="228600" cy="4572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829620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8296200"/>
            <a:ext cx="7632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800600" y="8753400"/>
            <a:ext cx="228600" cy="152640"/>
            <a:chOff x="4800600" y="8753400"/>
            <a:chExt cx="228600" cy="152640"/>
          </a:xfrm>
        </p:grpSpPr>
        <p:sp>
          <p:nvSpPr>
            <p:cNvPr id="316" name=""/>
            <p:cNvSpPr/>
            <p:nvPr/>
          </p:nvSpPr>
          <p:spPr>
            <a:xfrm>
              <a:off x="480060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2880" y="875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0600" y="8829720"/>
              <a:ext cx="228600" cy="763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3398760" y="7421400"/>
            <a:ext cx="20667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égorie de mouvement des Epa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ubber</dc:creator>
  <dc:description/>
  <dc:language>en-US</dc:language>
  <cp:lastModifiedBy>Shubber</cp:lastModifiedBy>
  <cp:revision>0</cp:revision>
  <dc:subject/>
  <dc:title>Aucun titre de diapositive</dc:title>
</cp:coreProperties>
</file>