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280160" y="361440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5372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604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73228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28016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0604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73228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280160" y="2090880"/>
            <a:ext cx="658332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658332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280160" y="1114920"/>
            <a:ext cx="6583320" cy="38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5372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 flipV="1">
            <a:off x="6400800" y="3581280"/>
            <a:ext cx="38088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 flipV="1">
            <a:off x="6400800" y="3505320"/>
            <a:ext cx="45720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533520" y="1219320"/>
            <a:ext cx="8229600" cy="4495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203480" y="357120"/>
            <a:ext cx="3225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lan du dispositif expéri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505320" y="3581280"/>
            <a:ext cx="3048480" cy="152640"/>
          </a:xfrm>
          <a:custGeom>
            <a:avLst/>
            <a:gdLst/>
            <a:ahLst/>
            <a:rect l="0" t="0" r="r" b="b"/>
            <a:pathLst>
              <a:path fill="none" w="8468" h="424">
                <a:moveTo>
                  <a:pt x="0" y="424"/>
                </a:moveTo>
                <a:lnTo>
                  <a:pt x="0" y="424"/>
                </a:lnTo>
                <a:cubicBezTo>
                  <a:pt x="1486" y="424"/>
                  <a:pt x="2947" y="404"/>
                  <a:pt x="4234" y="367"/>
                </a:cubicBezTo>
                <a:cubicBezTo>
                  <a:pt x="5521" y="330"/>
                  <a:pt x="6590" y="276"/>
                  <a:pt x="7334" y="212"/>
                </a:cubicBezTo>
                <a:cubicBezTo>
                  <a:pt x="8077" y="148"/>
                  <a:pt x="8468" y="74"/>
                  <a:pt x="846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523880" y="1828800"/>
            <a:ext cx="2667240" cy="1219320"/>
            <a:chOff x="1523880" y="1828800"/>
            <a:chExt cx="2667240" cy="1219320"/>
          </a:xfrm>
        </p:grpSpPr>
        <p:sp>
          <p:nvSpPr>
            <p:cNvPr id="43" name=""/>
            <p:cNvSpPr/>
            <p:nvPr/>
          </p:nvSpPr>
          <p:spPr>
            <a:xfrm>
              <a:off x="2133720" y="1981080"/>
              <a:ext cx="2057400" cy="106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 flipV="1">
              <a:off x="1523880" y="2895480"/>
              <a:ext cx="609840" cy="152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 flipV="1">
              <a:off x="1523880" y="1828800"/>
              <a:ext cx="60984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 flipV="1">
              <a:off x="3505320" y="1828800"/>
              <a:ext cx="60948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 flipV="1">
            <a:off x="7315200" y="426708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2514600"/>
            <a:ext cx="457200" cy="533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400800" y="2209680"/>
            <a:ext cx="914760" cy="838440"/>
            <a:chOff x="6400800" y="2209680"/>
            <a:chExt cx="914760" cy="838440"/>
          </a:xfrm>
        </p:grpSpPr>
        <p:sp>
          <p:nvSpPr>
            <p:cNvPr id="50" name=""/>
            <p:cNvSpPr/>
            <p:nvPr/>
          </p:nvSpPr>
          <p:spPr>
            <a:xfrm>
              <a:off x="6400800" y="2209680"/>
              <a:ext cx="304920" cy="838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705720" y="2209680"/>
              <a:ext cx="609840" cy="838440"/>
            </a:xfrm>
            <a:custGeom>
              <a:avLst/>
              <a:gdLst/>
              <a:ahLst/>
              <a:rect l="0" t="0" r="r" b="b"/>
              <a:pathLst>
                <a:path w="1694" h="2329">
                  <a:moveTo>
                    <a:pt x="0" y="2329"/>
                  </a:moveTo>
                  <a:lnTo>
                    <a:pt x="508" y="0"/>
                  </a:lnTo>
                  <a:lnTo>
                    <a:pt x="1186" y="0"/>
                  </a:lnTo>
                  <a:lnTo>
                    <a:pt x="1694" y="2329"/>
                  </a:lnTo>
                  <a:lnTo>
                    <a:pt x="0" y="232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905560" y="3619800"/>
            <a:ext cx="497520" cy="364320"/>
            <a:chOff x="2905560" y="3619800"/>
            <a:chExt cx="497520" cy="364320"/>
          </a:xfrm>
        </p:grpSpPr>
        <p:sp>
          <p:nvSpPr>
            <p:cNvPr id="53" name=""/>
            <p:cNvSpPr/>
            <p:nvPr/>
          </p:nvSpPr>
          <p:spPr>
            <a:xfrm>
              <a:off x="2905560" y="3746520"/>
              <a:ext cx="201960" cy="171720"/>
            </a:xfrm>
            <a:custGeom>
              <a:avLst/>
              <a:gdLst/>
              <a:ahLst/>
              <a:rect l="0" t="0" r="r" b="b"/>
              <a:pathLst>
                <a:path w="561" h="477">
                  <a:moveTo>
                    <a:pt x="519" y="280"/>
                  </a:moveTo>
                  <a:lnTo>
                    <a:pt x="519" y="280"/>
                  </a:lnTo>
                  <a:lnTo>
                    <a:pt x="520" y="280"/>
                  </a:lnTo>
                  <a:cubicBezTo>
                    <a:pt x="534" y="291"/>
                    <a:pt x="546" y="306"/>
                    <a:pt x="553" y="323"/>
                  </a:cubicBezTo>
                  <a:cubicBezTo>
                    <a:pt x="560" y="340"/>
                    <a:pt x="563" y="359"/>
                    <a:pt x="561" y="377"/>
                  </a:cubicBezTo>
                  <a:cubicBezTo>
                    <a:pt x="558" y="395"/>
                    <a:pt x="551" y="413"/>
                    <a:pt x="540" y="427"/>
                  </a:cubicBezTo>
                  <a:cubicBezTo>
                    <a:pt x="540" y="428"/>
                    <a:pt x="540" y="428"/>
                    <a:pt x="540" y="428"/>
                  </a:cubicBezTo>
                  <a:lnTo>
                    <a:pt x="534" y="435"/>
                  </a:lnTo>
                  <a:lnTo>
                    <a:pt x="534" y="435"/>
                  </a:lnTo>
                  <a:lnTo>
                    <a:pt x="533" y="436"/>
                  </a:lnTo>
                  <a:cubicBezTo>
                    <a:pt x="522" y="450"/>
                    <a:pt x="507" y="462"/>
                    <a:pt x="490" y="469"/>
                  </a:cubicBezTo>
                  <a:cubicBezTo>
                    <a:pt x="473" y="476"/>
                    <a:pt x="455" y="479"/>
                    <a:pt x="436" y="477"/>
                  </a:cubicBezTo>
                  <a:cubicBezTo>
                    <a:pt x="418" y="474"/>
                    <a:pt x="401" y="467"/>
                    <a:pt x="386" y="456"/>
                  </a:cubicBezTo>
                  <a:lnTo>
                    <a:pt x="385" y="456"/>
                  </a:lnTo>
                  <a:lnTo>
                    <a:pt x="43" y="198"/>
                  </a:lnTo>
                  <a:lnTo>
                    <a:pt x="43" y="198"/>
                  </a:lnTo>
                  <a:lnTo>
                    <a:pt x="42" y="198"/>
                  </a:lnTo>
                  <a:cubicBezTo>
                    <a:pt x="28" y="187"/>
                    <a:pt x="16" y="172"/>
                    <a:pt x="9" y="155"/>
                  </a:cubicBezTo>
                  <a:cubicBezTo>
                    <a:pt x="2" y="138"/>
                    <a:pt x="-1" y="119"/>
                    <a:pt x="1" y="101"/>
                  </a:cubicBezTo>
                  <a:cubicBezTo>
                    <a:pt x="4" y="83"/>
                    <a:pt x="11" y="65"/>
                    <a:pt x="22" y="51"/>
                  </a:cubicBezTo>
                  <a:cubicBezTo>
                    <a:pt x="22" y="50"/>
                    <a:pt x="22" y="50"/>
                    <a:pt x="22" y="50"/>
                  </a:cubicBezTo>
                  <a:lnTo>
                    <a:pt x="27" y="43"/>
                  </a:lnTo>
                  <a:lnTo>
                    <a:pt x="27" y="43"/>
                  </a:lnTo>
                  <a:lnTo>
                    <a:pt x="28" y="42"/>
                  </a:lnTo>
                  <a:cubicBezTo>
                    <a:pt x="39" y="28"/>
                    <a:pt x="54" y="16"/>
                    <a:pt x="71" y="9"/>
                  </a:cubicBezTo>
                  <a:cubicBezTo>
                    <a:pt x="88" y="2"/>
                    <a:pt x="106" y="-1"/>
                    <a:pt x="125" y="1"/>
                  </a:cubicBezTo>
                  <a:cubicBezTo>
                    <a:pt x="143" y="4"/>
                    <a:pt x="160" y="11"/>
                    <a:pt x="175" y="22"/>
                  </a:cubicBezTo>
                  <a:lnTo>
                    <a:pt x="176" y="22"/>
                  </a:lnTo>
                  <a:lnTo>
                    <a:pt x="519" y="2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70800" y="3619800"/>
              <a:ext cx="210600" cy="158760"/>
            </a:xfrm>
            <a:custGeom>
              <a:avLst/>
              <a:gdLst/>
              <a:ahLst/>
              <a:rect l="0" t="0" r="r" b="b"/>
              <a:pathLst>
                <a:path w="585" h="441">
                  <a:moveTo>
                    <a:pt x="534" y="236"/>
                  </a:moveTo>
                  <a:lnTo>
                    <a:pt x="534" y="236"/>
                  </a:lnTo>
                  <a:lnTo>
                    <a:pt x="534" y="236"/>
                  </a:lnTo>
                  <a:cubicBezTo>
                    <a:pt x="550" y="245"/>
                    <a:pt x="563" y="259"/>
                    <a:pt x="572" y="275"/>
                  </a:cubicBezTo>
                  <a:cubicBezTo>
                    <a:pt x="581" y="291"/>
                    <a:pt x="586" y="309"/>
                    <a:pt x="585" y="328"/>
                  </a:cubicBezTo>
                  <a:cubicBezTo>
                    <a:pt x="585" y="346"/>
                    <a:pt x="580" y="364"/>
                    <a:pt x="570" y="380"/>
                  </a:cubicBezTo>
                  <a:lnTo>
                    <a:pt x="570" y="381"/>
                  </a:lnTo>
                  <a:lnTo>
                    <a:pt x="566" y="389"/>
                  </a:lnTo>
                  <a:lnTo>
                    <a:pt x="566" y="389"/>
                  </a:lnTo>
                  <a:lnTo>
                    <a:pt x="565" y="390"/>
                  </a:lnTo>
                  <a:cubicBezTo>
                    <a:pt x="556" y="406"/>
                    <a:pt x="542" y="419"/>
                    <a:pt x="526" y="428"/>
                  </a:cubicBezTo>
                  <a:cubicBezTo>
                    <a:pt x="510" y="437"/>
                    <a:pt x="492" y="441"/>
                    <a:pt x="473" y="441"/>
                  </a:cubicBezTo>
                  <a:cubicBezTo>
                    <a:pt x="455" y="441"/>
                    <a:pt x="437" y="435"/>
                    <a:pt x="421" y="426"/>
                  </a:cubicBezTo>
                  <a:cubicBezTo>
                    <a:pt x="420" y="426"/>
                    <a:pt x="420" y="425"/>
                    <a:pt x="419" y="425"/>
                  </a:cubicBezTo>
                  <a:lnTo>
                    <a:pt x="52" y="204"/>
                  </a:lnTo>
                  <a:lnTo>
                    <a:pt x="52" y="204"/>
                  </a:lnTo>
                  <a:lnTo>
                    <a:pt x="51" y="204"/>
                  </a:lnTo>
                  <a:cubicBezTo>
                    <a:pt x="35" y="194"/>
                    <a:pt x="22" y="181"/>
                    <a:pt x="13" y="165"/>
                  </a:cubicBezTo>
                  <a:cubicBezTo>
                    <a:pt x="4" y="149"/>
                    <a:pt x="0" y="130"/>
                    <a:pt x="0" y="112"/>
                  </a:cubicBezTo>
                  <a:cubicBezTo>
                    <a:pt x="0" y="93"/>
                    <a:pt x="6" y="75"/>
                    <a:pt x="15" y="60"/>
                  </a:cubicBezTo>
                  <a:cubicBezTo>
                    <a:pt x="15" y="59"/>
                    <a:pt x="16" y="59"/>
                    <a:pt x="16" y="58"/>
                  </a:cubicBezTo>
                  <a:lnTo>
                    <a:pt x="20" y="51"/>
                  </a:lnTo>
                  <a:lnTo>
                    <a:pt x="20" y="51"/>
                  </a:lnTo>
                  <a:lnTo>
                    <a:pt x="20" y="51"/>
                  </a:lnTo>
                  <a:cubicBezTo>
                    <a:pt x="30" y="35"/>
                    <a:pt x="43" y="22"/>
                    <a:pt x="60" y="13"/>
                  </a:cubicBezTo>
                  <a:cubicBezTo>
                    <a:pt x="76" y="4"/>
                    <a:pt x="94" y="-1"/>
                    <a:pt x="112" y="0"/>
                  </a:cubicBezTo>
                  <a:cubicBezTo>
                    <a:pt x="131" y="0"/>
                    <a:pt x="149" y="5"/>
                    <a:pt x="165" y="15"/>
                  </a:cubicBezTo>
                  <a:lnTo>
                    <a:pt x="166" y="15"/>
                  </a:lnTo>
                  <a:lnTo>
                    <a:pt x="534" y="23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996640" y="3650400"/>
              <a:ext cx="406440" cy="333720"/>
            </a:xfrm>
            <a:custGeom>
              <a:avLst/>
              <a:gdLst/>
              <a:ahLst/>
              <a:rect l="0" t="0" r="r" b="b"/>
              <a:pathLst>
                <a:path w="1129" h="927">
                  <a:moveTo>
                    <a:pt x="0" y="691"/>
                  </a:moveTo>
                  <a:lnTo>
                    <a:pt x="555" y="927"/>
                  </a:lnTo>
                  <a:lnTo>
                    <a:pt x="1129" y="236"/>
                  </a:lnTo>
                  <a:lnTo>
                    <a:pt x="574" y="0"/>
                  </a:lnTo>
                  <a:lnTo>
                    <a:pt x="0" y="69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6324480" y="3048120"/>
            <a:ext cx="990720" cy="144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00800" y="3581280"/>
            <a:ext cx="533880" cy="152640"/>
          </a:xfrm>
          <a:custGeom>
            <a:avLst/>
            <a:gdLst/>
            <a:ahLst/>
            <a:rect l="0" t="0" r="r" b="b"/>
            <a:pathLst>
              <a:path w="1483" h="424">
                <a:moveTo>
                  <a:pt x="0" y="424"/>
                </a:moveTo>
                <a:lnTo>
                  <a:pt x="1187" y="424"/>
                </a:lnTo>
                <a:lnTo>
                  <a:pt x="1483" y="339"/>
                </a:lnTo>
                <a:lnTo>
                  <a:pt x="1483" y="0"/>
                </a:lnTo>
                <a:lnTo>
                  <a:pt x="1187" y="84"/>
                </a:lnTo>
                <a:lnTo>
                  <a:pt x="1187" y="424"/>
                </a:lnTo>
                <a:lnTo>
                  <a:pt x="1187" y="84"/>
                </a:lnTo>
                <a:lnTo>
                  <a:pt x="0" y="84"/>
                </a:lnTo>
                <a:lnTo>
                  <a:pt x="296" y="0"/>
                </a:lnTo>
                <a:lnTo>
                  <a:pt x="1483" y="0"/>
                </a:lnTo>
                <a:lnTo>
                  <a:pt x="296" y="0"/>
                </a:lnTo>
                <a:lnTo>
                  <a:pt x="0" y="84"/>
                </a:lnTo>
                <a:lnTo>
                  <a:pt x="0" y="42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00800" y="449568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10280" y="449568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6400800" y="2133720"/>
            <a:ext cx="76212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7315200" y="2286000"/>
            <a:ext cx="45720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162920" y="2133720"/>
            <a:ext cx="60948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72400" y="2286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96080" y="28954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315200" y="3581280"/>
            <a:ext cx="38088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7391520" y="2895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33720" y="30481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91120" y="30481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33720" y="30481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29718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33920" y="30481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6858000" y="3124080"/>
            <a:ext cx="1143000" cy="1524240"/>
            <a:chOff x="6858000" y="3124080"/>
            <a:chExt cx="1143000" cy="1524240"/>
          </a:xfrm>
        </p:grpSpPr>
        <p:sp>
          <p:nvSpPr>
            <p:cNvPr id="73" name=""/>
            <p:cNvSpPr/>
            <p:nvPr/>
          </p:nvSpPr>
          <p:spPr>
            <a:xfrm>
              <a:off x="6934320" y="3276720"/>
              <a:ext cx="7632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162920" y="3124080"/>
              <a:ext cx="60948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010280" y="327672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010280" y="342900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6858000" y="3429000"/>
              <a:ext cx="533520" cy="1219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391520" y="342900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391520" y="3429000"/>
              <a:ext cx="609480" cy="1219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3200400" y="2514600"/>
            <a:ext cx="9144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324480" y="37339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315200" y="2895480"/>
            <a:ext cx="38088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7315200" y="2819520"/>
            <a:ext cx="45720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56160" y="2057400"/>
            <a:ext cx="625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56160" y="3322800"/>
            <a:ext cx="5954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537240" y="1569960"/>
            <a:ext cx="7761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élé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765840" y="5075280"/>
            <a:ext cx="1000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éra vidé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098960" y="4618080"/>
            <a:ext cx="666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et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193840" y="2027160"/>
            <a:ext cx="471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j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93640" y="2560680"/>
            <a:ext cx="1174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érimenta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546880" y="3246480"/>
            <a:ext cx="6494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56160" y="2637000"/>
            <a:ext cx="56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ro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426708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670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91120" y="2743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67080" y="34290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934320" y="1828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143000" y="2819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2438280" y="228600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6019920" y="3505320"/>
            <a:ext cx="228600" cy="7596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1520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895480" y="3962520"/>
            <a:ext cx="38124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514600" y="3962520"/>
            <a:ext cx="38088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33526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90920" y="3124080"/>
            <a:ext cx="228960" cy="762480"/>
          </a:xfrm>
          <a:custGeom>
            <a:avLst/>
            <a:gdLst/>
            <a:ahLst/>
            <a:rect l="0" t="0" r="r" b="b"/>
            <a:pathLst>
              <a:path w="636" h="2118">
                <a:moveTo>
                  <a:pt x="0" y="636"/>
                </a:moveTo>
                <a:lnTo>
                  <a:pt x="0" y="1482"/>
                </a:lnTo>
                <a:lnTo>
                  <a:pt x="190" y="2118"/>
                </a:lnTo>
                <a:lnTo>
                  <a:pt x="445" y="2118"/>
                </a:lnTo>
                <a:lnTo>
                  <a:pt x="636" y="1482"/>
                </a:lnTo>
                <a:lnTo>
                  <a:pt x="636" y="636"/>
                </a:lnTo>
                <a:lnTo>
                  <a:pt x="445" y="0"/>
                </a:lnTo>
                <a:lnTo>
                  <a:pt x="190" y="0"/>
                </a:lnTo>
                <a:lnTo>
                  <a:pt x="0" y="636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718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3886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66880" y="396252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00400" y="3962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4267080"/>
            <a:ext cx="30492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4419720"/>
            <a:ext cx="30492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3124080"/>
            <a:ext cx="228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90920" y="3200400"/>
            <a:ext cx="30456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3352680"/>
            <a:ext cx="457200" cy="533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447920" y="4800600"/>
            <a:ext cx="38088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1066680" y="4800600"/>
            <a:ext cx="38124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3962520"/>
            <a:ext cx="228960" cy="762480"/>
          </a:xfrm>
          <a:custGeom>
            <a:avLst/>
            <a:gdLst/>
            <a:ahLst/>
            <a:rect l="0" t="0" r="r" b="b"/>
            <a:pathLst>
              <a:path w="636" h="2118">
                <a:moveTo>
                  <a:pt x="0" y="636"/>
                </a:moveTo>
                <a:lnTo>
                  <a:pt x="0" y="1482"/>
                </a:lnTo>
                <a:lnTo>
                  <a:pt x="190" y="2118"/>
                </a:lnTo>
                <a:lnTo>
                  <a:pt x="445" y="2118"/>
                </a:lnTo>
                <a:lnTo>
                  <a:pt x="636" y="1482"/>
                </a:lnTo>
                <a:lnTo>
                  <a:pt x="636" y="636"/>
                </a:lnTo>
                <a:lnTo>
                  <a:pt x="445" y="0"/>
                </a:lnTo>
                <a:lnTo>
                  <a:pt x="190" y="0"/>
                </a:lnTo>
                <a:lnTo>
                  <a:pt x="0" y="636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4800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4876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47242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4800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81080" y="4724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52480" y="4800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81080" y="5105520"/>
            <a:ext cx="30492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5257800"/>
            <a:ext cx="30492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3962520"/>
            <a:ext cx="15228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4038480"/>
            <a:ext cx="7632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14600" y="34290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14600" y="4038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41911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2670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hubber</dc:creator>
  <dc:description/>
  <dc:language>en-US</dc:language>
  <cp:lastModifiedBy>Shubber</cp:lastModifiedBy>
  <cp:revision>0</cp:revision>
  <dc:subject/>
  <dc:title>Aucun titre de diapositive</dc:title>
</cp:coreProperties>
</file>