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 txBox="1"/>
          <p:nvPr/>
        </p:nvSpPr>
        <p:spPr>
          <a:xfrm>
            <a:off x="974880" y="2103480"/>
            <a:ext cx="1266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igne ico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6553080" y="2438280"/>
            <a:ext cx="15228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2552760" y="990720"/>
            <a:ext cx="4343400" cy="2133720"/>
            <a:chOff x="2552760" y="990720"/>
            <a:chExt cx="4343400" cy="2133720"/>
          </a:xfrm>
        </p:grpSpPr>
        <p:sp>
          <p:nvSpPr>
            <p:cNvPr id="40" name=""/>
            <p:cNvSpPr txBox="1"/>
            <p:nvPr/>
          </p:nvSpPr>
          <p:spPr>
            <a:xfrm>
              <a:off x="4325760" y="1089000"/>
              <a:ext cx="490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 txBox="1"/>
            <p:nvPr/>
          </p:nvSpPr>
          <p:spPr>
            <a:xfrm>
              <a:off x="2879640" y="2308320"/>
              <a:ext cx="10335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é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représenté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 txBox="1"/>
            <p:nvPr/>
          </p:nvSpPr>
          <p:spPr>
            <a:xfrm>
              <a:off x="5394240" y="2308320"/>
              <a:ext cx="129240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gnifi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présen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581280" y="15238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3962520" y="243828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 flipV="1">
              <a:off x="4876920" y="15238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52760" y="990720"/>
              <a:ext cx="4343400" cy="2133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bo de Psycholinguistique</dc:creator>
  <dc:description/>
  <dc:language>en-US</dc:language>
  <cp:lastModifiedBy>Labo de Psycholinguistique</cp:lastModifiedBy>
  <cp:revision>0</cp:revision>
  <dc:subject/>
  <dc:title>Aucun titre de diapositive</dc:title>
</cp:coreProperties>
</file>