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2760" y="276120"/>
            <a:ext cx="1714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smin Shub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5170320" y="276120"/>
            <a:ext cx="1403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juillet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301680" y="3430440"/>
            <a:ext cx="6192720" cy="19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Garamond"/>
              </a:rPr>
              <a:t>Etude exploratoire de la présence d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Garamond"/>
              </a:rPr>
              <a:t>un environnement virtuel non-immers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152880"/>
            <a:ext cx="6324480" cy="15717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43200" y="6415200"/>
            <a:ext cx="3316320" cy="1433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38160" y="6410160"/>
            <a:ext cx="3343320" cy="1438200"/>
          </a:xfrm>
          <a:prstGeom prst="rect">
            <a:avLst/>
          </a:prstGeom>
          <a:noFill/>
          <a:ln w="12600">
            <a:solidFill>
              <a:srgbClr val="b2b2b2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432080" y="2109960"/>
            <a:ext cx="41576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moire en vue de l’obtention du Diplô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’Etudes Supérieures St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560" y="2874960"/>
            <a:ext cx="6831000" cy="1628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36440" y="2414520"/>
            <a:ext cx="3481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héma 1: Mouvement des "Main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5062680"/>
            <a:ext cx="6856560" cy="1812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212760" y="4776840"/>
            <a:ext cx="3227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héma 2: Mouvement de "Têt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0" y="7400880"/>
            <a:ext cx="6734160" cy="1741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212760" y="6986520"/>
            <a:ext cx="4116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héma 3: Mouvement du "Buste-épaule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0" y="204840"/>
            <a:ext cx="6856560" cy="1928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12760" y="111924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090880" y="334800"/>
            <a:ext cx="2604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de la pré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41360" y="1706400"/>
            <a:ext cx="610236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3334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théo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333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>
              <a:lnSpc>
                <a:spcPct val="100000"/>
              </a:lnSpc>
              <a:tabLst>
                <a:tab algn="l" pos="19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>
              <a:lnSpc>
                <a:spcPct val="100000"/>
              </a:lnSpc>
              <a:tabLst>
                <a:tab algn="l" pos="19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 Définitions: la réalité virtuelle, la prés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>
              <a:lnSpc>
                <a:spcPct val="100000"/>
              </a:lnSpc>
              <a:tabLst>
                <a:tab algn="l" pos="19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 Hypothè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333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3334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édure Expérim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333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>
              <a:lnSpc>
                <a:spcPct val="100000"/>
              </a:lnSpc>
              <a:tabLst>
                <a:tab algn="l" pos="19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Procé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>
              <a:lnSpc>
                <a:spcPct val="100000"/>
              </a:lnSpc>
              <a:tabLst>
                <a:tab algn="l" pos="19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333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3334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333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3334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ion et Conclusio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41400" y="152280"/>
            <a:ext cx="4849920" cy="717480"/>
            <a:chOff x="941400" y="152280"/>
            <a:chExt cx="4849920" cy="717480"/>
          </a:xfrm>
        </p:grpSpPr>
        <p:sp>
          <p:nvSpPr>
            <p:cNvPr id="49" name=""/>
            <p:cNvSpPr/>
            <p:nvPr/>
          </p:nvSpPr>
          <p:spPr>
            <a:xfrm>
              <a:off x="941400" y="228600"/>
              <a:ext cx="4849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98720" y="152280"/>
              <a:ext cx="4468680" cy="717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865080" y="228600"/>
            <a:ext cx="4849920" cy="717480"/>
            <a:chOff x="865080" y="228600"/>
            <a:chExt cx="4849920" cy="717480"/>
          </a:xfrm>
        </p:grpSpPr>
        <p:sp>
          <p:nvSpPr>
            <p:cNvPr id="52" name=""/>
            <p:cNvSpPr/>
            <p:nvPr/>
          </p:nvSpPr>
          <p:spPr>
            <a:xfrm>
              <a:off x="865080" y="304920"/>
              <a:ext cx="4849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22400" y="228600"/>
              <a:ext cx="4468680" cy="717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 txBox="1"/>
          <p:nvPr/>
        </p:nvSpPr>
        <p:spPr>
          <a:xfrm>
            <a:off x="365040" y="1805040"/>
            <a:ext cx="6086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 Introduc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tte étude porte sur les facteurs pouvant influencer la prés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une réalité virtue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12760" y="3938760"/>
            <a:ext cx="676116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152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 Définitions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us définisson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réalité virtuel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à u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iveau conceptu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vironnement en trois dimensions dans lequel on peut interag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temps réel et que l’on perçoit comme réel, et à u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iveau 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 pouvant utiliser une technologie immersive ou non-immers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36440" y="6529320"/>
            <a:ext cx="64882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ése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 définie comme étant une impression su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’implication et de conscience dans un environnement non-pré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arfield et Weghorst, 199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03320" y="411120"/>
            <a:ext cx="2830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Introduction théo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865080" y="228600"/>
            <a:ext cx="4849920" cy="717480"/>
            <a:chOff x="865080" y="228600"/>
            <a:chExt cx="4849920" cy="717480"/>
          </a:xfrm>
        </p:grpSpPr>
        <p:sp>
          <p:nvSpPr>
            <p:cNvPr id="59" name=""/>
            <p:cNvSpPr/>
            <p:nvPr/>
          </p:nvSpPr>
          <p:spPr>
            <a:xfrm>
              <a:off x="865080" y="304920"/>
              <a:ext cx="4849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2400" y="228600"/>
              <a:ext cx="4468680" cy="717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79440" y="1881360"/>
            <a:ext cx="6016680" cy="2241720"/>
            <a:chOff x="379440" y="1881360"/>
            <a:chExt cx="6016680" cy="2241720"/>
          </a:xfrm>
        </p:grpSpPr>
        <p:sp>
          <p:nvSpPr>
            <p:cNvPr id="62" name=""/>
            <p:cNvSpPr txBox="1"/>
            <p:nvPr/>
          </p:nvSpPr>
          <p:spPr>
            <a:xfrm>
              <a:off x="379440" y="1881360"/>
              <a:ext cx="21081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s facteurs choisis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379440" y="2490840"/>
              <a:ext cx="22273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 facteur point de v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33560" y="2514600"/>
              <a:ext cx="686160" cy="305280"/>
            </a:xfrm>
            <a:custGeom>
              <a:avLst/>
              <a:gdLst/>
              <a:ahLst/>
              <a:rect l="0" t="0" r="r" b="b"/>
              <a:pathLst>
                <a:path w="1906" h="848">
                  <a:moveTo>
                    <a:pt x="0" y="282"/>
                  </a:moveTo>
                  <a:lnTo>
                    <a:pt x="0" y="564"/>
                  </a:lnTo>
                  <a:lnTo>
                    <a:pt x="1334" y="564"/>
                  </a:lnTo>
                  <a:lnTo>
                    <a:pt x="1334" y="848"/>
                  </a:lnTo>
                  <a:lnTo>
                    <a:pt x="1906" y="424"/>
                  </a:lnTo>
                  <a:lnTo>
                    <a:pt x="1334" y="0"/>
                  </a:lnTo>
                  <a:lnTo>
                    <a:pt x="1334" y="282"/>
                  </a:lnTo>
                  <a:lnTo>
                    <a:pt x="0" y="28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3808440" y="2414520"/>
              <a:ext cx="25876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int de vue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docentr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int de vue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ocentr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379440" y="3557520"/>
              <a:ext cx="14158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 facteur 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33560" y="3581280"/>
              <a:ext cx="686160" cy="305280"/>
            </a:xfrm>
            <a:custGeom>
              <a:avLst/>
              <a:gdLst/>
              <a:ahLst/>
              <a:rect l="0" t="0" r="r" b="b"/>
              <a:pathLst>
                <a:path w="1906" h="848">
                  <a:moveTo>
                    <a:pt x="0" y="282"/>
                  </a:moveTo>
                  <a:lnTo>
                    <a:pt x="0" y="564"/>
                  </a:lnTo>
                  <a:lnTo>
                    <a:pt x="1334" y="564"/>
                  </a:lnTo>
                  <a:lnTo>
                    <a:pt x="1334" y="848"/>
                  </a:lnTo>
                  <a:lnTo>
                    <a:pt x="1906" y="424"/>
                  </a:lnTo>
                  <a:lnTo>
                    <a:pt x="1334" y="0"/>
                  </a:lnTo>
                  <a:lnTo>
                    <a:pt x="1334" y="282"/>
                  </a:lnTo>
                  <a:lnTo>
                    <a:pt x="0" y="28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3884760" y="3481560"/>
              <a:ext cx="112716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ve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n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 txBox="1"/>
          <p:nvPr/>
        </p:nvSpPr>
        <p:spPr>
          <a:xfrm>
            <a:off x="152280" y="4929120"/>
            <a:ext cx="1593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 Hypothè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6320" y="5684760"/>
            <a:ext cx="681192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1680"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Les sujets de la condition point de vu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centr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ront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é de présenc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périe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à ceux de la condition point de v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ocentr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Les sujets de la conditio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auront un degré de prés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40000"/>
              </a:lnSpc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périe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à ceux de la conditio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841400" y="411120"/>
            <a:ext cx="2830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théo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865080" y="228600"/>
            <a:ext cx="4849920" cy="717480"/>
            <a:chOff x="865080" y="228600"/>
            <a:chExt cx="4849920" cy="717480"/>
          </a:xfrm>
        </p:grpSpPr>
        <p:sp>
          <p:nvSpPr>
            <p:cNvPr id="73" name=""/>
            <p:cNvSpPr/>
            <p:nvPr/>
          </p:nvSpPr>
          <p:spPr>
            <a:xfrm>
              <a:off x="865080" y="304920"/>
              <a:ext cx="4849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22400" y="228600"/>
              <a:ext cx="4468680" cy="717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 txBox="1"/>
          <p:nvPr/>
        </p:nvSpPr>
        <p:spPr>
          <a:xfrm>
            <a:off x="1736640" y="411120"/>
            <a:ext cx="3068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Procédure expérim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17680" y="1728720"/>
            <a:ext cx="5688000" cy="25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857160"/>
                <a:tab algn="l" pos="124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Procé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857160"/>
                <a:tab algn="l" pos="124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857160"/>
                <a:tab algn="l" pos="124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sujets sont venus 2 fois (pré-test et 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857160"/>
                <a:tab algn="l" pos="124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857160"/>
                <a:tab algn="l" pos="124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âche: gagner la course du jeu en allant le plus vite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857160"/>
                <a:tab algn="l" pos="124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857160"/>
                <a:tab algn="l" pos="124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pré-test: découverte, habituation au j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857160"/>
                <a:tab algn="l" pos="124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857160"/>
                <a:tab algn="l" pos="124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test: centration sur le jeu et la tâ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45960" y="4929120"/>
            <a:ext cx="6167520" cy="25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Me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jectiv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ure des mouvements des sujets au cours du j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ure de l’apprentissage des sujets avec leurs temps de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naire post-expérimental portant sur la prés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865080" y="228600"/>
            <a:ext cx="4849920" cy="717480"/>
            <a:chOff x="865080" y="228600"/>
            <a:chExt cx="4849920" cy="717480"/>
          </a:xfrm>
        </p:grpSpPr>
        <p:sp>
          <p:nvSpPr>
            <p:cNvPr id="79" name=""/>
            <p:cNvSpPr/>
            <p:nvPr/>
          </p:nvSpPr>
          <p:spPr>
            <a:xfrm>
              <a:off x="865080" y="304920"/>
              <a:ext cx="4849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22400" y="228600"/>
              <a:ext cx="4468680" cy="717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65040" y="1249200"/>
            <a:ext cx="1843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712960" y="411120"/>
            <a:ext cx="1373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41360" y="1500120"/>
            <a:ext cx="2057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eur point de v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39680" y="1957320"/>
            <a:ext cx="661680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e de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utes variables confondues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t significa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chaque vari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égories de mouvement «Mains» et «Tête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t significa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9520" y="4192560"/>
            <a:ext cx="6440400" cy="3884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2280" y="4114800"/>
            <a:ext cx="6553080" cy="4495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2286000"/>
            <a:ext cx="609840" cy="228960"/>
          </a:xfrm>
          <a:custGeom>
            <a:avLst/>
            <a:gdLst/>
            <a:ahLst/>
            <a:rect l="0" t="0" r="r" b="b"/>
            <a:pathLst>
              <a:path w="1694" h="636">
                <a:moveTo>
                  <a:pt x="0" y="211"/>
                </a:moveTo>
                <a:lnTo>
                  <a:pt x="0" y="423"/>
                </a:lnTo>
                <a:lnTo>
                  <a:pt x="1186" y="423"/>
                </a:lnTo>
                <a:lnTo>
                  <a:pt x="1186" y="636"/>
                </a:lnTo>
                <a:lnTo>
                  <a:pt x="1694" y="317"/>
                </a:lnTo>
                <a:lnTo>
                  <a:pt x="1186" y="0"/>
                </a:lnTo>
                <a:lnTo>
                  <a:pt x="1186" y="211"/>
                </a:lnTo>
                <a:lnTo>
                  <a:pt x="0" y="21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3124080"/>
            <a:ext cx="609840" cy="228960"/>
          </a:xfrm>
          <a:custGeom>
            <a:avLst/>
            <a:gdLst/>
            <a:ahLst/>
            <a:rect l="0" t="0" r="r" b="b"/>
            <a:pathLst>
              <a:path w="1694" h="636">
                <a:moveTo>
                  <a:pt x="0" y="211"/>
                </a:moveTo>
                <a:lnTo>
                  <a:pt x="0" y="423"/>
                </a:lnTo>
                <a:lnTo>
                  <a:pt x="1186" y="423"/>
                </a:lnTo>
                <a:lnTo>
                  <a:pt x="1186" y="636"/>
                </a:lnTo>
                <a:lnTo>
                  <a:pt x="1694" y="317"/>
                </a:lnTo>
                <a:lnTo>
                  <a:pt x="1186" y="0"/>
                </a:lnTo>
                <a:lnTo>
                  <a:pt x="1186" y="211"/>
                </a:lnTo>
                <a:lnTo>
                  <a:pt x="0" y="21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865080" y="228600"/>
            <a:ext cx="4849920" cy="717480"/>
            <a:chOff x="865080" y="228600"/>
            <a:chExt cx="4849920" cy="717480"/>
          </a:xfrm>
        </p:grpSpPr>
        <p:sp>
          <p:nvSpPr>
            <p:cNvPr id="90" name=""/>
            <p:cNvSpPr/>
            <p:nvPr/>
          </p:nvSpPr>
          <p:spPr>
            <a:xfrm>
              <a:off x="865080" y="304920"/>
              <a:ext cx="4849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22400" y="228600"/>
              <a:ext cx="4468680" cy="717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 txBox="1"/>
          <p:nvPr/>
        </p:nvSpPr>
        <p:spPr>
          <a:xfrm>
            <a:off x="517680" y="1500120"/>
            <a:ext cx="1244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eur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4600" y="1995480"/>
            <a:ext cx="606888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e de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utes variables confondues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s d’effet significa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chaque vari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égorie de mouvement «Buste-épaules»  et degré de prés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uré par le questionnai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ffet tendanc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2362320"/>
            <a:ext cx="609840" cy="228960"/>
          </a:xfrm>
          <a:custGeom>
            <a:avLst/>
            <a:gdLst/>
            <a:ahLst/>
            <a:rect l="0" t="0" r="r" b="b"/>
            <a:pathLst>
              <a:path w="1694" h="636">
                <a:moveTo>
                  <a:pt x="0" y="211"/>
                </a:moveTo>
                <a:lnTo>
                  <a:pt x="0" y="423"/>
                </a:lnTo>
                <a:lnTo>
                  <a:pt x="1186" y="423"/>
                </a:lnTo>
                <a:lnTo>
                  <a:pt x="1186" y="636"/>
                </a:lnTo>
                <a:lnTo>
                  <a:pt x="1694" y="317"/>
                </a:lnTo>
                <a:lnTo>
                  <a:pt x="1186" y="0"/>
                </a:lnTo>
                <a:lnTo>
                  <a:pt x="1186" y="211"/>
                </a:lnTo>
                <a:lnTo>
                  <a:pt x="0" y="21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3429000"/>
            <a:ext cx="609840" cy="228960"/>
          </a:xfrm>
          <a:custGeom>
            <a:avLst/>
            <a:gdLst/>
            <a:ahLst/>
            <a:rect l="0" t="0" r="r" b="b"/>
            <a:pathLst>
              <a:path w="1694" h="636">
                <a:moveTo>
                  <a:pt x="0" y="211"/>
                </a:moveTo>
                <a:lnTo>
                  <a:pt x="0" y="423"/>
                </a:lnTo>
                <a:lnTo>
                  <a:pt x="1186" y="423"/>
                </a:lnTo>
                <a:lnTo>
                  <a:pt x="1186" y="636"/>
                </a:lnTo>
                <a:lnTo>
                  <a:pt x="1694" y="317"/>
                </a:lnTo>
                <a:lnTo>
                  <a:pt x="1186" y="0"/>
                </a:lnTo>
                <a:lnTo>
                  <a:pt x="1186" y="211"/>
                </a:lnTo>
                <a:lnTo>
                  <a:pt x="0" y="21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4381560"/>
            <a:ext cx="6856560" cy="4076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4267080"/>
            <a:ext cx="6477120" cy="4495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755800" y="411120"/>
            <a:ext cx="1373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865080" y="228600"/>
            <a:ext cx="4849920" cy="717480"/>
            <a:chOff x="865080" y="228600"/>
            <a:chExt cx="4849920" cy="717480"/>
          </a:xfrm>
        </p:grpSpPr>
        <p:sp>
          <p:nvSpPr>
            <p:cNvPr id="100" name=""/>
            <p:cNvSpPr/>
            <p:nvPr/>
          </p:nvSpPr>
          <p:spPr>
            <a:xfrm>
              <a:off x="865080" y="304920"/>
              <a:ext cx="4849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22400" y="228600"/>
              <a:ext cx="4468680" cy="717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 txBox="1"/>
          <p:nvPr/>
        </p:nvSpPr>
        <p:spPr>
          <a:xfrm>
            <a:off x="1870200" y="411120"/>
            <a:ext cx="3035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ion et 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3840" y="1271520"/>
            <a:ext cx="61959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hèses pas clairement confirmées: comment comprendre 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sultats trouvé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5280" y="4267080"/>
            <a:ext cx="914760" cy="3846960"/>
          </a:xfrm>
          <a:custGeom>
            <a:avLst/>
            <a:gdLst/>
            <a:ahLst/>
            <a:rect l="0" t="0" r="r" b="b"/>
            <a:pathLst>
              <a:path w="2541" h="10686">
                <a:moveTo>
                  <a:pt x="0" y="3559"/>
                </a:moveTo>
                <a:lnTo>
                  <a:pt x="0" y="7117"/>
                </a:lnTo>
                <a:lnTo>
                  <a:pt x="1778" y="7117"/>
                </a:lnTo>
                <a:lnTo>
                  <a:pt x="1778" y="10686"/>
                </a:lnTo>
                <a:lnTo>
                  <a:pt x="2541" y="5343"/>
                </a:lnTo>
                <a:lnTo>
                  <a:pt x="1778" y="0"/>
                </a:lnTo>
                <a:lnTo>
                  <a:pt x="1778" y="3559"/>
                </a:lnTo>
                <a:lnTo>
                  <a:pt x="0" y="355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34800" y="3746520"/>
            <a:ext cx="1574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u impliqu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3120" y="8318520"/>
            <a:ext cx="1638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ès impliqu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39920" y="4327560"/>
            <a:ext cx="4243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égorie «Mains» conduite de téléguid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ésence fa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70080" y="5423040"/>
            <a:ext cx="4383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égorie «Tête» conduite où vision com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 travers les yeux du pilo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ésence 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98520" y="6794640"/>
            <a:ext cx="43257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égorie «Buste-épaules» conduite dans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ette, accélération centripète infé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ésence f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25600" y="2438280"/>
            <a:ext cx="5807160" cy="609480"/>
            <a:chOff x="525600" y="2438280"/>
            <a:chExt cx="5807160" cy="609480"/>
          </a:xfrm>
        </p:grpSpPr>
        <p:sp>
          <p:nvSpPr>
            <p:cNvPr id="111" name=""/>
            <p:cNvSpPr/>
            <p:nvPr/>
          </p:nvSpPr>
          <p:spPr>
            <a:xfrm>
              <a:off x="2674800" y="2590920"/>
              <a:ext cx="533880" cy="305280"/>
            </a:xfrm>
            <a:custGeom>
              <a:avLst/>
              <a:gdLst/>
              <a:ahLst/>
              <a:rect l="0" t="0" r="r" b="b"/>
              <a:pathLst>
                <a:path w="1483" h="848">
                  <a:moveTo>
                    <a:pt x="0" y="282"/>
                  </a:moveTo>
                  <a:lnTo>
                    <a:pt x="0" y="564"/>
                  </a:lnTo>
                  <a:lnTo>
                    <a:pt x="1038" y="564"/>
                  </a:lnTo>
                  <a:lnTo>
                    <a:pt x="1038" y="848"/>
                  </a:lnTo>
                  <a:lnTo>
                    <a:pt x="1483" y="424"/>
                  </a:lnTo>
                  <a:lnTo>
                    <a:pt x="1038" y="0"/>
                  </a:lnTo>
                  <a:lnTo>
                    <a:pt x="1038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1440" y="2438280"/>
              <a:ext cx="57913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525600" y="2567160"/>
              <a:ext cx="57261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fférentes conduite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différentes formes de prés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865080" y="228600"/>
            <a:ext cx="4849920" cy="717480"/>
            <a:chOff x="865080" y="228600"/>
            <a:chExt cx="4849920" cy="717480"/>
          </a:xfrm>
        </p:grpSpPr>
        <p:sp>
          <p:nvSpPr>
            <p:cNvPr id="115" name=""/>
            <p:cNvSpPr/>
            <p:nvPr/>
          </p:nvSpPr>
          <p:spPr>
            <a:xfrm>
              <a:off x="865080" y="304920"/>
              <a:ext cx="4849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22400" y="228600"/>
              <a:ext cx="4468680" cy="717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 txBox="1"/>
          <p:nvPr/>
        </p:nvSpPr>
        <p:spPr>
          <a:xfrm>
            <a:off x="1889280" y="411120"/>
            <a:ext cx="3035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ion et 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41360" y="1477800"/>
            <a:ext cx="2187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ette étude mont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93840" y="2185920"/>
            <a:ext cx="5560920" cy="20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vironnement virtuel non-immersif peut produ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présence, contrairement à ce que dit Psotka (199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facteur son a plus d’impact que le facteur point de v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’autres facteurs influencent la présence (interac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s  de synthèse, croyance, et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39840" y="7139160"/>
            <a:ext cx="54784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travail propose de nouvelles perspectives pour étud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ésence, en modifiant le dispositif expérimental ou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sant varier d’autres paramèt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620720" y="5767560"/>
            <a:ext cx="5072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s résultats vont dans le même sens que les travau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Hendrix (199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7010280"/>
            <a:ext cx="617220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635120" y="4572000"/>
            <a:ext cx="40435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spect pluri-dimensionnel de la prés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flou lié à la notion de prés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fficulté à la mes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2362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3733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876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2578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apse</dc:creator>
  <dc:description/>
  <dc:language>en-US</dc:language>
  <cp:lastModifiedBy>fapse</cp:lastModifiedBy>
  <cp:revision>0</cp:revision>
  <dc:subject/>
  <dc:title>Aucun titre de diapositive</dc:title>
</cp:coreProperties>
</file>