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58720" y="961920"/>
            <a:ext cx="171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smin Sh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018040" y="961920"/>
            <a:ext cx="140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juillet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01680" y="3430440"/>
            <a:ext cx="6192720" cy="19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Etude exploratoire de la présence d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  <a:ea typeface="Garamond"/>
              </a:rPr>
              <a:t>un environnement virtuel non-immers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152880"/>
            <a:ext cx="6324480" cy="15717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43200" y="6415200"/>
            <a:ext cx="3316320" cy="1433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8160" y="6410160"/>
            <a:ext cx="3343320" cy="1438200"/>
          </a:xfrm>
          <a:prstGeom prst="rect">
            <a:avLst/>
          </a:prstGeom>
          <a:noFill/>
          <a:ln w="12600">
            <a:solidFill>
              <a:srgbClr val="b2b2b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123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0120" y="3713040"/>
            <a:ext cx="5842080" cy="139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36440" y="3328920"/>
            <a:ext cx="348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1: Mouvement des "Main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6080" y="5519880"/>
            <a:ext cx="6008760" cy="1589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212760" y="5310360"/>
            <a:ext cx="3227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2: Mouvement de "Têt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30120" y="7553160"/>
            <a:ext cx="6146640" cy="1589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12760" y="7139160"/>
            <a:ext cx="4116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3: Mouvement du "Buste-épaul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1500120"/>
            <a:ext cx="6856560" cy="177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12760" y="11192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1360" y="1173240"/>
            <a:ext cx="3013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expéri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9080" y="1401840"/>
            <a:ext cx="2490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an de la pré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03480" y="2392200"/>
            <a:ext cx="39942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héo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è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Expéri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  <a:tabLst>
                <a:tab algn="l" pos="19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333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et Conclus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41400" y="152280"/>
            <a:ext cx="4849920" cy="1009800"/>
            <a:chOff x="941400" y="152280"/>
            <a:chExt cx="4849920" cy="1009800"/>
          </a:xfrm>
        </p:grpSpPr>
        <p:sp>
          <p:nvSpPr>
            <p:cNvPr id="48" name=""/>
            <p:cNvSpPr txBox="1"/>
            <p:nvPr/>
          </p:nvSpPr>
          <p:spPr>
            <a:xfrm>
              <a:off x="941400" y="22860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98720" y="15228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51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 txBox="1"/>
          <p:nvPr/>
        </p:nvSpPr>
        <p:spPr>
          <a:xfrm>
            <a:off x="317520" y="1477800"/>
            <a:ext cx="2744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héo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65040" y="2338560"/>
            <a:ext cx="6086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étude porte sur les facteurs pouvant influencer la prés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une réalité virtuel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2760" y="4167360"/>
            <a:ext cx="633744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nition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éalité virtuel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définie à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au conceptu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nement en trois dimensions dans lequel on peut interag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mps réel et que l’on perçoit comme réel, et à u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ve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chniq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e pouvant utiliser une technologie immer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152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 non-immer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6440" y="6605640"/>
            <a:ext cx="64882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és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définie comme étant une impression su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implication et de conscience dans un environnement non-pré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rfield et Weghorst, 199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58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79440" y="2185920"/>
            <a:ext cx="6016680" cy="2241720"/>
            <a:chOff x="379440" y="2185920"/>
            <a:chExt cx="6016680" cy="2241720"/>
          </a:xfrm>
        </p:grpSpPr>
        <p:sp>
          <p:nvSpPr>
            <p:cNvPr id="61" name=""/>
            <p:cNvSpPr txBox="1"/>
            <p:nvPr/>
          </p:nvSpPr>
          <p:spPr>
            <a:xfrm>
              <a:off x="379440" y="2185920"/>
              <a:ext cx="2108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s facteurs choisis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379440" y="2795760"/>
              <a:ext cx="2227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facteur point de v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3560" y="2819520"/>
              <a:ext cx="686160" cy="305280"/>
            </a:xfrm>
            <a:custGeom>
              <a:avLst/>
              <a:gdLst/>
              <a:ahLst/>
              <a:rect l="0" t="0" r="r" b="b"/>
              <a:pathLst>
                <a:path w="1906" h="848">
                  <a:moveTo>
                    <a:pt x="0" y="282"/>
                  </a:moveTo>
                  <a:lnTo>
                    <a:pt x="0" y="564"/>
                  </a:lnTo>
                  <a:lnTo>
                    <a:pt x="1334" y="564"/>
                  </a:lnTo>
                  <a:lnTo>
                    <a:pt x="1334" y="848"/>
                  </a:lnTo>
                  <a:lnTo>
                    <a:pt x="1906" y="424"/>
                  </a:lnTo>
                  <a:lnTo>
                    <a:pt x="1334" y="0"/>
                  </a:lnTo>
                  <a:lnTo>
                    <a:pt x="1334" y="282"/>
                  </a:lnTo>
                  <a:lnTo>
                    <a:pt x="0" y="28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3808440" y="2719440"/>
              <a:ext cx="2587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nt de vu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ndocentr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nt de vu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ocentr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379440" y="3862440"/>
              <a:ext cx="1415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facteur 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33560" y="3886200"/>
              <a:ext cx="686160" cy="305280"/>
            </a:xfrm>
            <a:custGeom>
              <a:avLst/>
              <a:gdLst/>
              <a:ahLst/>
              <a:rect l="0" t="0" r="r" b="b"/>
              <a:pathLst>
                <a:path w="1906" h="848">
                  <a:moveTo>
                    <a:pt x="0" y="282"/>
                  </a:moveTo>
                  <a:lnTo>
                    <a:pt x="0" y="564"/>
                  </a:lnTo>
                  <a:lnTo>
                    <a:pt x="1334" y="564"/>
                  </a:lnTo>
                  <a:lnTo>
                    <a:pt x="1334" y="848"/>
                  </a:lnTo>
                  <a:lnTo>
                    <a:pt x="1906" y="424"/>
                  </a:lnTo>
                  <a:lnTo>
                    <a:pt x="1334" y="0"/>
                  </a:lnTo>
                  <a:lnTo>
                    <a:pt x="1334" y="282"/>
                  </a:lnTo>
                  <a:lnTo>
                    <a:pt x="0" y="28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884760" y="3786120"/>
              <a:ext cx="11271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ve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n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 txBox="1"/>
          <p:nvPr/>
        </p:nvSpPr>
        <p:spPr>
          <a:xfrm>
            <a:off x="152280" y="515772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è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280" y="5913360"/>
            <a:ext cx="6553080" cy="21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es sujets de la condition point de v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entr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ront un deg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présenc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éri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ceux de la condition point de v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centr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es sujets de la condi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auront un degré de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érie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ceux de la condi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7520" y="1477800"/>
            <a:ext cx="2744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héo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72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441360" y="1325520"/>
            <a:ext cx="3013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expéri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17680" y="2033640"/>
            <a:ext cx="5688000" cy="25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sujets sont venus 2 fois (pré-test et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âche: gagner la course du jeu en allant le plus vit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pré-test: découverte, habituation au j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857160"/>
                <a:tab algn="l" pos="124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est: centration sur le jeu et la tâ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5960" y="5157720"/>
            <a:ext cx="6167520" cy="25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e des mouvements des sujets au cours du j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e de l’apprentissage des sujets avec leurs temps d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 post-expérimental portant sur la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78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65040" y="1401840"/>
            <a:ext cx="184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9080" y="1173240"/>
            <a:ext cx="134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1360" y="1728720"/>
            <a:ext cx="2057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eur point de v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9680" y="2185920"/>
            <a:ext cx="66168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 de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es variables confondu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 signific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s de mouvement «Mains» et «Tête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 signific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09520" y="4192560"/>
            <a:ext cx="6440400" cy="3884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4114800"/>
            <a:ext cx="6553080" cy="4495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51460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89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669960" y="1728720"/>
            <a:ext cx="1244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eur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4600" y="2224080"/>
            <a:ext cx="606888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 de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es variables confondues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s d’effet signific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haque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de mouvement «Buste-épaules»  et degré de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uré par le questionnai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ffet tendan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259092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3733920"/>
            <a:ext cx="609840" cy="228960"/>
          </a:xfrm>
          <a:custGeom>
            <a:avLst/>
            <a:gdLst/>
            <a:ahLst/>
            <a:rect l="0" t="0" r="r" b="b"/>
            <a:pathLst>
              <a:path w="1694" h="636">
                <a:moveTo>
                  <a:pt x="0" y="211"/>
                </a:moveTo>
                <a:lnTo>
                  <a:pt x="0" y="423"/>
                </a:lnTo>
                <a:lnTo>
                  <a:pt x="1186" y="423"/>
                </a:lnTo>
                <a:lnTo>
                  <a:pt x="1186" y="636"/>
                </a:lnTo>
                <a:lnTo>
                  <a:pt x="1694" y="317"/>
                </a:lnTo>
                <a:lnTo>
                  <a:pt x="1186" y="0"/>
                </a:lnTo>
                <a:lnTo>
                  <a:pt x="1186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457880"/>
            <a:ext cx="6856560" cy="4076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4343400"/>
            <a:ext cx="6477120" cy="4495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9080" y="1173240"/>
            <a:ext cx="1344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99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365040" y="1325520"/>
            <a:ext cx="296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et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3840" y="1728720"/>
            <a:ext cx="6195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èses pas clairement confirmées: comment comprendre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s trouvé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5280" y="4267080"/>
            <a:ext cx="914760" cy="3846960"/>
          </a:xfrm>
          <a:custGeom>
            <a:avLst/>
            <a:gdLst/>
            <a:ahLst/>
            <a:rect l="0" t="0" r="r" b="b"/>
            <a:pathLst>
              <a:path w="2541" h="10686">
                <a:moveTo>
                  <a:pt x="0" y="3559"/>
                </a:moveTo>
                <a:lnTo>
                  <a:pt x="0" y="7117"/>
                </a:lnTo>
                <a:lnTo>
                  <a:pt x="1778" y="7117"/>
                </a:lnTo>
                <a:lnTo>
                  <a:pt x="1778" y="10686"/>
                </a:lnTo>
                <a:lnTo>
                  <a:pt x="2541" y="5343"/>
                </a:lnTo>
                <a:lnTo>
                  <a:pt x="1778" y="0"/>
                </a:lnTo>
                <a:lnTo>
                  <a:pt x="1778" y="3559"/>
                </a:lnTo>
                <a:lnTo>
                  <a:pt x="0" y="355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" y="3746520"/>
            <a:ext cx="1574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u impl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3120" y="8318520"/>
            <a:ext cx="1638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impliq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39920" y="4327560"/>
            <a:ext cx="424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«Mains» conduite de télégui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ésence fa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70080" y="5423040"/>
            <a:ext cx="4383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«Tête» conduite où vision com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travers les yeux du pil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ésence 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98520" y="6794640"/>
            <a:ext cx="43257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«Buste-épaules» conduit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ette, accélération centripète infé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ésence f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25600" y="2666880"/>
            <a:ext cx="5807160" cy="609480"/>
            <a:chOff x="525600" y="2666880"/>
            <a:chExt cx="5807160" cy="609480"/>
          </a:xfrm>
        </p:grpSpPr>
        <p:sp>
          <p:nvSpPr>
            <p:cNvPr id="110" name=""/>
            <p:cNvSpPr/>
            <p:nvPr/>
          </p:nvSpPr>
          <p:spPr>
            <a:xfrm>
              <a:off x="2674800" y="2819520"/>
              <a:ext cx="533880" cy="305280"/>
            </a:xfrm>
            <a:custGeom>
              <a:avLst/>
              <a:gdLst/>
              <a:ahLst/>
              <a:rect l="0" t="0" r="r" b="b"/>
              <a:pathLst>
                <a:path w="1483" h="848">
                  <a:moveTo>
                    <a:pt x="0" y="282"/>
                  </a:moveTo>
                  <a:lnTo>
                    <a:pt x="0" y="564"/>
                  </a:lnTo>
                  <a:lnTo>
                    <a:pt x="1038" y="564"/>
                  </a:lnTo>
                  <a:lnTo>
                    <a:pt x="1038" y="848"/>
                  </a:lnTo>
                  <a:lnTo>
                    <a:pt x="1483" y="424"/>
                  </a:lnTo>
                  <a:lnTo>
                    <a:pt x="1038" y="0"/>
                  </a:lnTo>
                  <a:lnTo>
                    <a:pt x="1038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ddddd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440" y="2666880"/>
              <a:ext cx="57913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25600" y="2795760"/>
              <a:ext cx="5726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fférentes conduit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différentes formes de prés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65080" y="228600"/>
            <a:ext cx="4849920" cy="1009800"/>
            <a:chOff x="865080" y="228600"/>
            <a:chExt cx="4849920" cy="1009800"/>
          </a:xfrm>
        </p:grpSpPr>
        <p:sp>
          <p:nvSpPr>
            <p:cNvPr id="114" name=""/>
            <p:cNvSpPr txBox="1"/>
            <p:nvPr/>
          </p:nvSpPr>
          <p:spPr>
            <a:xfrm>
              <a:off x="865080" y="304920"/>
              <a:ext cx="4849920" cy="93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tude exploratoire de la présence dans u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Garamond"/>
                  <a:ea typeface="Garamond"/>
                </a:rPr>
                <a:t>environnement virtuel non-immersi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22400" y="228600"/>
              <a:ext cx="4468680" cy="717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365040" y="1325520"/>
            <a:ext cx="296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et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1360" y="2033640"/>
            <a:ext cx="4179960" cy="17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étude mon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spect pluri-dimensionnel de la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flou lié à la notion de pré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ifficulté à la mes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41360" y="4541760"/>
            <a:ext cx="587376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vironnement virtuel non-immersif peut produ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 présence, contrairement à ce que dit Psotka (199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facteur son a plus d’impact que le facteur point de v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’autres facteurs influencent la présence (interaction,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synthèse, croyance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39840" y="6986520"/>
            <a:ext cx="5478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travail propose de nouvelles perspectives pour étu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ésence, en modifiant le dispositif expérimental ou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sant varier d’autres paramè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0520" y="3862440"/>
            <a:ext cx="6818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s résultats vont dans le même sens que les travaux de Hendrix (199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6858000"/>
            <a:ext cx="6172200" cy="1219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apse</dc:creator>
  <dc:description/>
  <dc:language>en-US</dc:language>
  <cp:lastModifiedBy>fapse</cp:lastModifiedBy>
  <cp:revision>0</cp:revision>
  <dc:subject/>
  <dc:title>Aucun titre de diapositive</dc:title>
</cp:coreProperties>
</file>