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31F-E4B0-4763-986D-6C005C95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216-581C-41DB-8EE2-D59EF58E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9B5-B3E0-4388-BB8C-CE3DCF00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E46-D2D7-430B-8EF5-CF47D294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1FB-B9D3-40AD-A573-DD8E63DC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AB0-E4DE-4CC3-9C26-F8AE4994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433-A019-416D-96DF-C2BCCA81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0ED-3E51-4000-9233-CADA66BC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F77-742F-4210-B9D1-959CE455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0EB-29F6-4487-B4E9-38AA1242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C2C-C6BB-483D-B950-10FA92E8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43C-57E7-4697-8BDE-2BE79259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E92C-A20D-4B63-8B9E-7AC48DEA7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de_eljunga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logo_emmaljunga" descr=""/>
          <p:cNvPicPr/>
          <p:nvPr/>
        </p:nvPicPr>
        <p:blipFill>
          <a:blip r:embed="rId2"/>
          <a:stretch/>
        </p:blipFill>
        <p:spPr>
          <a:xfrm>
            <a:off x="76320" y="228600"/>
            <a:ext cx="1447560" cy="67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Cult3DP1"/>
          <p:cNvGraphicFramePr/>
          <p:nvPr/>
        </p:nvGraphicFramePr>
        <p:xfrm>
          <a:off x="2743200" y="838080"/>
          <a:ext cx="320040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Cult3DP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838080"/>
                    <a:ext cx="3200400" cy="3200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title_emmaljunga" descr=""/>
          <p:cNvPicPr/>
          <p:nvPr/>
        </p:nvPicPr>
        <p:blipFill>
          <a:blip r:embed="rId5"/>
          <a:stretch/>
        </p:blipFill>
        <p:spPr>
          <a:xfrm>
            <a:off x="2666880" y="380880"/>
            <a:ext cx="3611520" cy="320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320" y="1219320"/>
            <a:ext cx="15238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66"/>
                </a:solidFill>
                <a:latin typeface="Verdana"/>
              </a:rPr>
              <a:t>Welcome to a demonstration of Emmaljungas Vario 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333366"/>
                </a:solidFill>
                <a:latin typeface="Verdana"/>
              </a:rPr>
              <a:t>Vario system is a new concept which means that you can choose which fabric, chassis and wheels you want to combine on your pram - a total of 680 combinations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66"/>
                </a:solidFill>
                <a:latin typeface="Verdana"/>
              </a:rPr>
              <a:t>This interactive presentation also gives you the option of rotating and zooming the models &amp; accessories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06:28:30Z</dcterms:created>
  <dc:creator>cycore</dc:creator>
  <dc:description/>
  <dc:language>en-US</dc:language>
  <cp:lastModifiedBy>jon.lind</cp:lastModifiedBy>
  <dcterms:modified xsi:type="dcterms:W3CDTF">2001-06-14T12:20:02Z</dcterms:modified>
  <cp:revision>56</cp:revision>
  <dc:subject/>
  <dc:title>PowerPoint Presentation</dc:title>
</cp:coreProperties>
</file>